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carbrake.wav" ContentType="audio/x-wav"/>
  <Override PartName="/ppt/media/image4.jpeg" ContentType="image/jpeg"/>
  <Override PartName="/ppt/media/image5.gif" ContentType="image/gif"/>
  <Override PartName="/ppt/media/applause.wav" ContentType="audio/x-wav"/>
  <Override PartName="/ppt/media/chimes.wav" ContentType="audio/x-wav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0CA2-C4C2-4B92-8869-F7FEA6EE406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4714-FF55-4120-97F2-4793BCFF05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665D-02EC-468D-966D-551ACC81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F91-96D3-4A37-B52B-E2CD391B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963-9293-4CC5-807A-ED87A239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870-E770-46C9-BF4E-F978CDC3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1CA-589F-4C04-B069-311D4819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D97-569E-4244-89DE-9A67FDBA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46D-D208-4FBE-8D8B-E47DD4F2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023-F607-4843-92F6-083F684A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02B-F22A-48CD-B862-439FCC13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EEF-73F8-4959-ADA1-C4B9FE6F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4AA-58E0-4BA5-A37D-A4F0BCBA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56B-AE80-4AF1-820C-BFBE8ABE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EE4C-672F-4861-BDA5-9AD0445F14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audio" Target="../media/applause.wav"/><Relationship Id="rId7" Type="http://schemas.openxmlformats.org/officeDocument/2006/relationships/audio" Target="../media/carbrak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71640" y="1000080"/>
            <a:ext cx="28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星星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19640" y="101592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和哨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69840" y="5668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LN9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044720" y="46080"/>
            <a:ext cx="8100720" cy="37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反义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静     晴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阴雨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近义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躲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藏    晴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明朗   周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周    守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守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布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铺满    边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边疆    注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凝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539640" y="1125360"/>
            <a:ext cx="86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自学指导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运用学过的词语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读一读课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EON032"/>
          <p:cNvPicPr/>
          <p:nvPr/>
        </p:nvPicPr>
        <p:blipFill>
          <a:blip r:embed="rId1"/>
          <a:stretch/>
        </p:blipFill>
        <p:spPr>
          <a:xfrm>
            <a:off x="7848720" y="3429000"/>
            <a:ext cx="1295280" cy="3429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828800" y="0"/>
            <a:ext cx="48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 星 和 哨 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50920" y="620640"/>
            <a:ext cx="42814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晴朗的夜空布满星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祖国的边疆站着哨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奶奶说：“星星不怕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要学星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说：“不，我要学哨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星星不怕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啥连连眨眼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4500720" y="620640"/>
            <a:ext cx="46432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有哨兵不怕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夜注视着周围的动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遇到下雨下雪天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星星就躲进云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管天气多么不好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勇敢的哨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直守卫着祖国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边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539640" y="1125360"/>
            <a:ext cx="8604360" cy="24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当堂练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给课后的二类生字注音，再组一个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2640" y="14320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确流利的朗读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能正确书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字，并做到笔顺正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能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背诵课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-360" y="69840"/>
            <a:ext cx="9109080" cy="67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自学指导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课文，回答问题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课文中的小朋友喜欢星星还是喜欢哨兵？你是从哪句话看出来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与星星相比，哨兵的哪些特点更值得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学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小动物们愿意把尾巴借给小壁虎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、小壁虎为什么高兴得叫起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1187280" y="2133720"/>
          <a:ext cx="6264360" cy="1935000"/>
        </p:xfrm>
        <a:graphic>
          <a:graphicData uri="http://schemas.openxmlformats.org/drawingml/2006/table">
            <a:tbl>
              <a:tblPr/>
              <a:tblGrid>
                <a:gridCol w="1042920"/>
                <a:gridCol w="1069920"/>
                <a:gridCol w="1020960"/>
                <a:gridCol w="1019160"/>
                <a:gridCol w="1068480"/>
                <a:gridCol w="10429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187280" y="4508640"/>
          <a:ext cx="6265800" cy="1944720"/>
        </p:xfrm>
        <a:graphic>
          <a:graphicData uri="http://schemas.openxmlformats.org/drawingml/2006/table">
            <a:tbl>
              <a:tblPr/>
              <a:tblGrid>
                <a:gridCol w="1044720"/>
                <a:gridCol w="1044360"/>
                <a:gridCol w="1044720"/>
                <a:gridCol w="1044360"/>
                <a:gridCol w="1043280"/>
                <a:gridCol w="1044360"/>
              </a:tblGrid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57"/>
          <p:cNvSpPr/>
          <p:nvPr/>
        </p:nvSpPr>
        <p:spPr>
          <a:xfrm>
            <a:off x="12600" y="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自学指导二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解完课文，让我们一起来学写这些生字吧！要注意的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结构、部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再想一想它们的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笔顺和组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58"/>
          <p:cNvSpPr txBox="1"/>
          <p:nvPr/>
        </p:nvSpPr>
        <p:spPr>
          <a:xfrm>
            <a:off x="1476360" y="2492280"/>
            <a:ext cx="144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05" name="WordArt 59"/>
          <p:cNvSpPr txBox="1"/>
          <p:nvPr/>
        </p:nvSpPr>
        <p:spPr>
          <a:xfrm>
            <a:off x="3564000" y="2492280"/>
            <a:ext cx="1439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祖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06" name="WordArt 60"/>
          <p:cNvSpPr txBox="1"/>
          <p:nvPr/>
        </p:nvSpPr>
        <p:spPr>
          <a:xfrm>
            <a:off x="5580000" y="2492280"/>
            <a:ext cx="144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07" name="WordArt 61"/>
          <p:cNvSpPr txBox="1"/>
          <p:nvPr/>
        </p:nvSpPr>
        <p:spPr>
          <a:xfrm>
            <a:off x="1476360" y="4869000"/>
            <a:ext cx="144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08" name="WordArt 62"/>
          <p:cNvSpPr txBox="1"/>
          <p:nvPr/>
        </p:nvSpPr>
        <p:spPr>
          <a:xfrm>
            <a:off x="3635280" y="4797360"/>
            <a:ext cx="144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109" name="WordArt 63"/>
          <p:cNvSpPr txBox="1"/>
          <p:nvPr/>
        </p:nvSpPr>
        <p:spPr>
          <a:xfrm>
            <a:off x="5796000" y="4797360"/>
            <a:ext cx="144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卫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58680" y="1266840"/>
            <a:ext cx="807912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自学指导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朗读课文，背诵课文，要读出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哨兵的赞颂之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文本框 1"/>
          <p:cNvSpPr/>
          <p:nvPr/>
        </p:nvSpPr>
        <p:spPr>
          <a:xfrm>
            <a:off x="1467000" y="4863960"/>
            <a:ext cx="62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6880" y="801720"/>
            <a:ext cx="895644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当堂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填写书上一类生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填写《练出好成绩》一类生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要求：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笔顺正确、书写工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握笔姿势正确、独立完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13C2-99FF-4314-9EF7-8C90D860F1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图片1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1187280" y="1268280"/>
            <a:ext cx="741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能正确、流利的朗读课文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能正确认读本课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生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能理解课文的基本内容。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539640" y="1125360"/>
            <a:ext cx="860436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自学指导一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读课文两遍，数一数课文有一共有几句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求：声音洪亮，坐姿端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EON032"/>
          <p:cNvPicPr/>
          <p:nvPr/>
        </p:nvPicPr>
        <p:blipFill>
          <a:blip r:embed="rId1"/>
          <a:stretch/>
        </p:blipFill>
        <p:spPr>
          <a:xfrm>
            <a:off x="7848720" y="3429000"/>
            <a:ext cx="129528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828800" y="0"/>
            <a:ext cx="48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星 星 和 哨 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50920" y="620640"/>
            <a:ext cx="42814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晴朗的夜空布满星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祖国的边疆站着哨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奶奶说：“星星不怕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要学星星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说：“不，我要学哨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星星不怕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啥连连眨眼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00720" y="620640"/>
            <a:ext cx="46432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有哨兵不怕累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夜注视着周围的动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遇到下雨下雪天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星星就躲进云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管天气多么不好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勇敢的哨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直守卫着祖国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边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图片1"/>
          <p:cNvPicPr/>
          <p:nvPr/>
        </p:nvPicPr>
        <p:blipFill>
          <a:blip r:embed="rId1"/>
          <a:stretch/>
        </p:blipFill>
        <p:spPr>
          <a:xfrm>
            <a:off x="-144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9640" y="1125360"/>
            <a:ext cx="860436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自学指导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找出课文中带有二类、一类生字的词语，圈出来并大声读三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要求：声音洪亮，坐姿端正，独立完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时间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图片1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52360" y="1197000"/>
            <a:ext cx="8928000" cy="38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兵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空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祖  国   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疆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奶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累    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果   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注 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到   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守  卫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边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52360" y="549360"/>
            <a:ext cx="8713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hào    yè      zǔ guó   biān    nǎ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lèi   rú      shá  zhù shì  zh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yù       zhí  shǒu wèi    jì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EON071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7380360" y="18446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边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220968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边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362320" y="7621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注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52480" y="20574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哨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435640" y="105264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如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403280" y="285264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祖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467480" y="38088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夜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038480" y="21337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一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114800" y="4572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周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7164360" y="10526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7607160" y="4292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守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7093080" y="29242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奶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643280" y="3716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劳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179280" y="37162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遇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7" descr="star"/>
          <p:cNvPicPr/>
          <p:nvPr/>
        </p:nvPicPr>
        <p:blipFill>
          <a:blip r:embed="rId2"/>
          <a:stretch/>
        </p:blipFill>
        <p:spPr>
          <a:xfrm>
            <a:off x="250920" y="260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LN9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79280" y="907920"/>
            <a:ext cx="7272360" cy="61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哨   疆   奶   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周    遇    直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卫    境   注   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843280" y="278136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859280" y="278136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042920" y="278136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LN9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828720" y="1125360"/>
            <a:ext cx="7632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重点词语我知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晴朗的夜空     周围的动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勇敢的哨兵     祖国的边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1:09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9:01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