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wmf" ContentType="image/x-wmf"/>
  <Override PartName="/ppt/media/image4.png" ContentType="image/png"/>
  <Override PartName="/ppt/media/image16.wmf" ContentType="image/x-wmf"/>
  <Override PartName="/ppt/media/image15.png" ContentType="image/png"/>
  <Override PartName="/ppt/media/image5.jpeg" ContentType="image/jpeg"/>
  <Override PartName="/ppt/media/image10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9.wmf" ContentType="image/x-wmf"/>
  <Override PartName="/ppt/media/image1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B15B-0AEB-4B69-8474-6E9CE63EBB3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E8C1-BF59-4CA1-A1BC-EEC4F49CDDA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CB1A-3331-4907-8825-8CBE6BD11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1A8D-70BB-40F2-9DFE-8EAAFA77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9736-3624-4880-BF73-B49F1D7C6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CF94-3427-4B9B-AE52-59233E349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2551-23E2-4487-BD50-7597B017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9FC0-1893-4028-A94B-C1103BA5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1C6D-A7C0-4FE6-87A0-8AC5E255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7601-E2F3-4BB3-8E4B-0B461594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972D-A248-4DEE-B313-51CA2F2B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8055-82FC-41D4-8FE5-C427E888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2B13-4BB0-4F0A-9C3C-0DB61703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5B0D-B16A-4873-A8D7-8BDE95A6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FC51-7C76-4377-92AE-075DDCB12B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684360" y="98100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湘教版 二年级 下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2070000" y="2421000"/>
            <a:ext cx="4897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3.</a:t>
            </a: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小溪拍照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50" name="Picture 4" descr="MCj02511810000[1]"/>
          <p:cNvPicPr/>
          <p:nvPr/>
        </p:nvPicPr>
        <p:blipFill>
          <a:blip r:embed="rId4"/>
          <a:stretch/>
        </p:blipFill>
        <p:spPr>
          <a:xfrm>
            <a:off x="7380360" y="5013360"/>
            <a:ext cx="1224000" cy="1071360"/>
          </a:xfrm>
          <a:prstGeom prst="rect">
            <a:avLst/>
          </a:prstGeom>
          <a:ln w="0">
            <a:noFill/>
          </a:ln>
        </p:spPr>
      </p:pic>
      <p:sp>
        <p:nvSpPr>
          <p:cNvPr id="51" name="矩形 6"/>
          <p:cNvSpPr/>
          <p:nvPr/>
        </p:nvSpPr>
        <p:spPr>
          <a:xfrm>
            <a:off x="1773000" y="5445000"/>
            <a:ext cx="5490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8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468360" y="112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精读课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小溪拍照最后两段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692360" y="1989000"/>
            <a:ext cx="590220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611280" y="2565360"/>
            <a:ext cx="80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谁能概括地说说课文主要写了什么，有一个句子朋友来帮忙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溪拍下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__________________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要让大海妈妈早点儿知道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_____________________________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小孩子"/>
          <p:cNvPicPr/>
          <p:nvPr/>
        </p:nvPicPr>
        <p:blipFill>
          <a:blip r:embed="rId1"/>
          <a:stretch/>
        </p:blipFill>
        <p:spPr>
          <a:xfrm>
            <a:off x="7740720" y="4365720"/>
            <a:ext cx="819000" cy="17748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539640" y="126828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说一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332000" y="270828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你最喜欢小溪拍的哪张照片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拓展学习"/>
          <p:cNvPicPr/>
          <p:nvPr/>
        </p:nvPicPr>
        <p:blipFill>
          <a:blip r:embed="rId1"/>
          <a:stretch/>
        </p:blipFill>
        <p:spPr>
          <a:xfrm>
            <a:off x="611280" y="1268280"/>
            <a:ext cx="2006640" cy="495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MCj04272870000[1]"/>
          <p:cNvPicPr/>
          <p:nvPr/>
        </p:nvPicPr>
        <p:blipFill>
          <a:blip r:embed="rId2"/>
          <a:stretch/>
        </p:blipFill>
        <p:spPr>
          <a:xfrm>
            <a:off x="6732720" y="4437000"/>
            <a:ext cx="179676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24000" y="2060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畅    按    嬉     荷     株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腰    乳    鹰      舒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684360" y="1557360"/>
            <a:ext cx="150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ch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536200" y="154764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4022640" y="169236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x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5920920" y="169236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h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7524720" y="166860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zh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654480" y="385128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yā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2299680" y="3924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4021920" y="385128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yī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5775480" y="378936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sh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5177-57E3-4814-B269-1B8E1D4DE6B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2"/>
          <p:cNvSpPr txBox="1"/>
          <p:nvPr/>
        </p:nvSpPr>
        <p:spPr>
          <a:xfrm>
            <a:off x="684360" y="1773360"/>
            <a:ext cx="763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你听它叮叮咚咚地唱着歌，是谁呀？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3" name="WordArt 3"/>
          <p:cNvSpPr txBox="1"/>
          <p:nvPr/>
        </p:nvSpPr>
        <p:spPr>
          <a:xfrm>
            <a:off x="2987640" y="3860640"/>
            <a:ext cx="280836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51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小溪</a:t>
            </a:r>
            <a:endParaRPr b="0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116000" y="105264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单击此按钮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秒后音乐会播放，请静候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溪水鸟鸣.mp3" descr=""/>
          <p:cNvPicPr/>
          <p:nvPr/>
        </p:nvPicPr>
        <p:blipFill>
          <a:blip r:embed="rId3"/>
          <a:stretch/>
        </p:blipFill>
        <p:spPr>
          <a:xfrm>
            <a:off x="684360" y="10526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6" name="文本框 1"/>
          <p:cNvSpPr/>
          <p:nvPr/>
        </p:nvSpPr>
        <p:spPr>
          <a:xfrm>
            <a:off x="2643120" y="5456160"/>
            <a:ext cx="598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401563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春天的小溪"/>
          <p:cNvPicPr/>
          <p:nvPr/>
        </p:nvPicPr>
        <p:blipFill>
          <a:blip r:embed="rId1"/>
          <a:stretch/>
        </p:blipFill>
        <p:spPr>
          <a:xfrm>
            <a:off x="1908000" y="1413000"/>
            <a:ext cx="562644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小溪风景3"/>
          <p:cNvPicPr/>
          <p:nvPr/>
        </p:nvPicPr>
        <p:blipFill>
          <a:blip r:embed="rId1"/>
          <a:stretch/>
        </p:blipFill>
        <p:spPr>
          <a:xfrm>
            <a:off x="1619280" y="1268280"/>
            <a:ext cx="640872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5"/>
          <p:cNvSpPr/>
          <p:nvPr/>
        </p:nvSpPr>
        <p:spPr>
          <a:xfrm>
            <a:off x="5364000" y="4869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小溪拍照插图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619280" y="1844640"/>
            <a:ext cx="589608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小溪风景5"/>
          <p:cNvPicPr/>
          <p:nvPr/>
        </p:nvPicPr>
        <p:blipFill>
          <a:blip r:embed="rId1"/>
          <a:stretch/>
        </p:blipFill>
        <p:spPr>
          <a:xfrm>
            <a:off x="1547640" y="1413000"/>
            <a:ext cx="601992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042920" y="335772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想不想去看看小溪拍的照片，都藏在课文里呢，快去读读吧。找出小溪拍了几张照片？分别照了些什么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读一读"/>
          <p:cNvPicPr/>
          <p:nvPr/>
        </p:nvPicPr>
        <p:blipFill>
          <a:blip r:embed="rId1"/>
          <a:stretch/>
        </p:blipFill>
        <p:spPr>
          <a:xfrm>
            <a:off x="684360" y="836640"/>
            <a:ext cx="1663560" cy="19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468360" y="112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精读课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小溪拍照第二段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468360" y="1916280"/>
            <a:ext cx="4105080" cy="3865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小溪拍照插图"/>
          <p:cNvPicPr/>
          <p:nvPr/>
        </p:nvPicPr>
        <p:blipFill>
          <a:blip r:embed="rId2"/>
          <a:stretch/>
        </p:blipFill>
        <p:spPr>
          <a:xfrm>
            <a:off x="4572000" y="1916280"/>
            <a:ext cx="417672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755640" y="2205000"/>
            <a:ext cx="763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鸟儿的欢乐，花儿的微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绿叶和微风嬉耍，蝴蝶和花朵舞蹈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一只小青蛙正在荷叶上睡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④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一株小草弯着腰向小朋友们问好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⑤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乳白色的云朵追赶学飞的小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⑥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青石板路上，上学的孩子一路欢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MCj04212140000[1]"/>
          <p:cNvPicPr/>
          <p:nvPr/>
        </p:nvPicPr>
        <p:blipFill>
          <a:blip r:embed="rId1"/>
          <a:stretch/>
        </p:blipFill>
        <p:spPr>
          <a:xfrm>
            <a:off x="611280" y="1197000"/>
            <a:ext cx="1584360" cy="873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1619280" y="1197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  <a:ea typeface="黑体"/>
              </a:rPr>
              <a:t>小溪拍的照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MCj04288950000[1]"/>
          <p:cNvPicPr/>
          <p:nvPr/>
        </p:nvPicPr>
        <p:blipFill>
          <a:blip r:embed="rId2"/>
          <a:stretch/>
        </p:blipFill>
        <p:spPr>
          <a:xfrm>
            <a:off x="7740720" y="5229360"/>
            <a:ext cx="1008000" cy="89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10:40:1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02:42Z</dcterms:modified>
  <cp:revision>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