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494-321E-43DB-81AB-23C35F330B0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2B95-2F08-48CF-8C5F-CD05A033EDF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6D8E-E2AA-4BD4-9F4A-C0A19CE7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2DC-E4DA-4DB9-871A-97FD2451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05058-1FE8-4834-813B-E02544B8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F2B05-CE04-4230-9D83-0A5B9F1EF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863A3-691F-4B24-A61C-0A47BBDD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1E897-4534-4FDE-8DB4-21B7BEE2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81180-0FAE-4CA3-A2C9-89532ED7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F5699-7D33-495E-8221-425F32B2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A215-22CC-4DFD-B084-71997F6C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74B08-6C7D-4C4F-8186-1B837EE8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B6C815-0BDB-42AD-8C9A-FAFF0E42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A6847-D6A9-4EF6-AB65-29A97B3B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6560-3EA7-4A8F-948E-57B57D06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91B4C-560B-4F06-9451-F1A58AEA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544ABD-4C6B-44E8-AC12-632D72C2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8ED94-3B61-4B88-8AAF-2CABF9F4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AF2D0-38BD-45B0-82D8-A42C1464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7EB02-DF7B-4209-A188-4CDF3C1E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538D0-33F3-4F99-B7B7-5234E6D9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6967C-363D-4CE9-9E8C-364A704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D74BE-6344-4ECA-BE6B-E07B118C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53ED-B53A-4B9C-B756-78C0E0CB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70EF8-D9DA-41C2-A3DD-7433CCC1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7574-D7CB-4FCD-901A-96D6D99A1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0646A-ECAA-4014-A6C6-978BFB911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9719C-43CD-4A53-9456-07094697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D6191-4414-4A64-86E3-F17FB255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D6B26-6E39-4844-A767-D9D2A78F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1209A-C0CD-4042-938A-2B573D1A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00E2D-CE82-4472-81F3-4D55607D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0AC43D-ED57-4655-981B-28B97ECB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10EF0-FFD3-4530-92CB-CCA0017B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6946A1-0F8F-44E8-9C23-27CE83AD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22D65-C5DE-4F86-A3A1-B9B1DAFB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926E-6760-428E-BB55-D167E372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6D184-0CFA-424C-BC99-EB427A3C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458F0-324D-4411-90C3-B3CC02164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03C21-BAE3-49D3-8EE1-4213117E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E91A0-887E-4BA5-85F6-9F52A3C35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BCCC-C9FB-417D-BC1F-9277F868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ABCC4-BA9D-45CA-A916-A714D9A0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ED79A-8FDF-47F4-A31C-CFA46DB2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0FD4D-AB13-44DE-A45A-003590CB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7F2A5-9800-4CEC-AF40-7BFF583F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D5E9E-F9FF-4628-BC2D-31B710F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B571-2C20-458A-AE99-C23D3EAF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F396D-1451-4CE7-8F08-D384182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CD722-86A8-4C56-B014-C6546DF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339F04-576E-4D45-9A71-D998D785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F794B-8A06-44D5-96D3-8D1B2930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E385E-48CF-4255-923C-D4A56889F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0F2381-9740-4707-AEB5-53FC93C7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05B78B-C7F0-4BBF-978B-AB257079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58D32-BBC2-4169-B6C6-B2979198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2AC7C-3D18-44D8-BDF8-C620105A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D38F8E-F2E7-4F70-9E72-ACDC02E6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27F-906A-4430-AD7A-92BB3A2B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02776-FAFC-4B2C-BC4B-96E7D56D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76F21-9097-4EC6-B5E1-E3153A7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26053-8607-46E2-985B-2A97FE2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2EBE6-32C2-4697-9CF5-DA375BB7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3E979-EFA7-48EF-920E-E8C0138F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12C27-FB0D-4935-9149-1618D515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1ACBB6-90BC-48A3-85B7-90B9B829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43797-05E5-4C18-BE09-9DEADE91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2B1-7324-48D3-950E-1E2CF78C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B7F1-F3D1-45CF-863B-DE156A9D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0FF5-5CCF-4D8C-A305-357E3E33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8BEF-E32F-48D2-A8E6-D7C67802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C053-C44A-42DE-85CB-E5C62BC6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0F36-EE9F-4D0B-858F-796175EF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11EC-6651-4D49-8A00-06244D82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DD7B-40A3-465C-8367-50943804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4F4A-F785-4941-82D5-0CEEFC5F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794E-544C-4BFC-B928-4842FFFB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C6FF4-D7A1-4034-B223-D3759360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200F-A8D9-42D6-AC8D-43149AD4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DD74-0284-4EED-9A9A-D24ECE87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ED20F-886C-4E81-B7B7-BC7344A1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C8FF-5631-4FCC-B066-709151E6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1E726-B450-41A7-8539-0D3D2C59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912FE-39FD-4409-9677-A87E6C64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6FD3B-FAD8-42C4-A591-6B144B0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FA80F-55E1-4713-957A-3B8D9FD8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812A-BC65-4D1D-B31A-1FD52247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651F5-3CCE-4125-BFA2-1A8A9AEE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20F0D-B3A8-4E69-91E9-AF8AE812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294E-53A6-488C-A452-763F3B550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2FD5-9B1D-40D8-8BCD-4AC5DB35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8039C-2AFD-4F6D-89C1-A2EB9473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27F-2A83-494A-B0D5-D2E05D79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B677C-5617-49CC-ABE6-EAC11044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FDF4-CD82-4A79-BF59-0759173C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862C-7837-47FA-BA51-4DE17D58B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1AC3-C3A2-449D-8CE2-8B0A0A5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8FD56-C9ED-49C5-9527-AC586FC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D2BB1-D772-4F8B-8AA5-1F984A4A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B65D-CAF9-4CF8-9DEB-3BC43B1A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BF47B-82A9-4371-8B6E-0CF233F8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38CA3-6F47-4BE9-8571-A7A9D915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DB46-6F7F-4D76-AB84-A2DEB18B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A9F-15A3-43CF-B60D-FE0AF34E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2A2EC-C885-4C60-85E2-4D193A6A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8688-5688-4D1A-A8A0-4E69FD97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ACB7C-7674-41D3-82F0-3357955B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87AA5-097F-4D93-9253-7BB51422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3CF5-BF3A-4E70-800A-C0753A76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A801-E80A-4AD8-AC20-975674C0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9A65A-095B-4CEB-9415-D3950BD8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5A6B1-02C6-4A08-8738-F8AB6F91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590B-23E3-4CA8-BED1-C1BDFDE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C5765-FC7D-40AC-A6F7-1318412F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103A-78E5-403D-8A56-1A196E12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01865-5B87-4773-8B24-F52A240A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B919F-59E8-43AD-B4CD-3C91E90B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1E0AE-7E72-43C3-9CDA-D8E156F5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53B4D-F4A4-4B36-A4D6-FD4A1FEB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DCB3-1BC8-40DA-A135-AB452B81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E9550-F517-41F1-AEE4-FD871A76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838B7-5AEB-4409-BC98-C3FE959F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A03F1-DA01-4142-B3C7-4EDE976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E982-4AFF-4F14-83D7-77ADFB5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326D0-57EB-46D3-8170-BD6E3113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59E7-A9CE-4D78-9E4E-D238F701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14C5-AE0E-4103-BD2A-EC5A382D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ED1DC-1DBD-4D06-8150-2DC2EBBF1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28A1B-12E3-49AD-8798-9C86E1E1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1BEB4-BC63-4641-917F-9FB857DF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A6F05-502F-4207-99E5-C603DA9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31CCD-6A89-4CAC-899C-43A69E7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C85A1-3E6A-42FE-B496-3CCBA80F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70436-DE47-4A93-B2F1-B280142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F1BB3-066B-435D-AB40-01E1D894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E80CA-9ED7-4322-8CE2-A989C055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5669-E8CE-43A0-AB7D-9628DE63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AFFB7-E208-4ACA-AB78-145D58C2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0B0BE-952B-4489-A896-E5681187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FE4D3-1D9B-47AD-89A2-EF28F1AD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674B51-D753-492A-AB40-1E0817CB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30D10-0196-4D86-ACC7-4953C770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D8238-1791-4ACD-AE00-A309D4A6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1280E-8A42-4996-983D-88C56C34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C5F63-B0BA-40E0-811C-CD784706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65DA2-306B-4EEB-A1E7-87D0169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B1F3-E4B0-4265-B85B-95A4723C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5FAC-C5A1-4E3C-882E-0F8BA819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6A13-B403-45C3-B086-21B89D8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E48BB-2CF3-4564-8347-5CE7619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CAB9E-D49D-40EE-89B2-4495A317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40CB58-6EF9-416D-AC36-6010074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0A50D-A1A2-43D8-925F-EA57A948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E6B34-DD3B-478C-A8BA-2C510AEF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20280-2527-4353-A09A-42132AFA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734DE-EAA4-49B2-99F1-738613A4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D8EA58-FC35-4057-96AB-277794F7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038BC-D0B2-497C-9DEA-DAC09185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2A7-5CA8-4423-BC6D-0623946679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2154-31E8-4A9F-857B-29EF0D5F71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5C82-9C8D-4D7E-9921-D76813A79D1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81B-B39C-4B31-838B-70046EECF87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EFA7-079A-45F9-A6A6-28FB73A25DA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2BC1-5BCC-4AB8-A221-3E390A7DD8A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14D0-DB41-4E45-AF81-04B5D9E2FAA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524E-FF1A-4275-9038-D09C61CCA03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765-7429-4194-8CF4-F350512D8F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ACE3-62C1-4C86-B3DC-F59310C0FD8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0316-95D7-4E70-9C74-B4E2F77258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244-EE5E-44D3-BF1C-7FB4E3463E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隶书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7696-44CE-4704-8599-0978A6D825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隶书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环洞桥2"/>
          <p:cNvPicPr/>
          <p:nvPr/>
        </p:nvPicPr>
        <p:blipFill>
          <a:blip r:embed="rId1"/>
          <a:stretch/>
        </p:blipFill>
        <p:spPr>
          <a:xfrm>
            <a:off x="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WordArt 5"/>
          <p:cNvSpPr txBox="1"/>
          <p:nvPr/>
        </p:nvSpPr>
        <p:spPr>
          <a:xfrm rot="5400000">
            <a:off x="5454000" y="2690640"/>
            <a:ext cx="5220000" cy="13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华文中宋"/>
              </a:rPr>
              <a:t>小巷人家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42" name="矩形 7" descr=""/>
          <p:cNvPicPr/>
          <p:nvPr/>
        </p:nvPicPr>
        <p:blipFill>
          <a:blip r:embed="rId2"/>
          <a:stretch/>
        </p:blipFill>
        <p:spPr>
          <a:xfrm>
            <a:off x="681120" y="5985000"/>
            <a:ext cx="567216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8E2F-841A-461B-B5E3-D905063FDEA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9144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巷    日益      增多     留恋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玲珑可爱   宛如   恬静   几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拨动      幽静       诗情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1"/>
          <p:cNvSpPr/>
          <p:nvPr/>
        </p:nvSpPr>
        <p:spPr>
          <a:xfrm>
            <a:off x="1117440" y="5126040"/>
            <a:ext cx="61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10" descr="xx"/>
          <p:cNvPicPr/>
          <p:nvPr/>
        </p:nvPicPr>
        <p:blipFill>
          <a:blip r:embed="rId2"/>
          <a:stretch/>
        </p:blipFill>
        <p:spPr>
          <a:xfrm>
            <a:off x="539640" y="260280"/>
            <a:ext cx="4464000" cy="634356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19"/>
          <p:cNvSpPr/>
          <p:nvPr/>
        </p:nvSpPr>
        <p:spPr>
          <a:xfrm>
            <a:off x="5076720" y="62064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5580000" y="706320"/>
            <a:ext cx="28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　这种小巷弯曲多变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</a:rPr>
              <a:t>有斜歪的，有直中带曲的，有曲中带直的。有些巷中有拱门，有过街小楼，墙门的式样也丰富多彩．人在巷中行走，移步换景，并不感到寂寞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23"/>
          <p:cNvSpPr/>
          <p:nvPr/>
        </p:nvSpPr>
        <p:spPr>
          <a:xfrm>
            <a:off x="5796000" y="162864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24"/>
          <p:cNvSpPr/>
          <p:nvPr/>
        </p:nvSpPr>
        <p:spPr>
          <a:xfrm>
            <a:off x="7740720" y="119700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26"/>
          <p:cNvSpPr/>
          <p:nvPr/>
        </p:nvSpPr>
        <p:spPr>
          <a:xfrm>
            <a:off x="7093080" y="1628640"/>
            <a:ext cx="100800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27"/>
          <p:cNvSpPr/>
          <p:nvPr/>
        </p:nvSpPr>
        <p:spPr>
          <a:xfrm>
            <a:off x="5796000" y="206064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8"/>
          <p:cNvSpPr/>
          <p:nvPr/>
        </p:nvSpPr>
        <p:spPr>
          <a:xfrm>
            <a:off x="5651640" y="2924280"/>
            <a:ext cx="50472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9"/>
          <p:cNvSpPr/>
          <p:nvPr/>
        </p:nvSpPr>
        <p:spPr>
          <a:xfrm>
            <a:off x="5796000" y="2492280"/>
            <a:ext cx="2376360" cy="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0"/>
          <p:cNvSpPr/>
          <p:nvPr/>
        </p:nvSpPr>
        <p:spPr>
          <a:xfrm>
            <a:off x="558000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31"/>
          <p:cNvSpPr/>
          <p:nvPr/>
        </p:nvSpPr>
        <p:spPr>
          <a:xfrm>
            <a:off x="748152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小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2"/>
          <p:cNvSpPr/>
          <p:nvPr/>
        </p:nvSpPr>
        <p:spPr>
          <a:xfrm>
            <a:off x="58356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弯曲多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7"/>
          <p:cNvSpPr/>
          <p:nvPr/>
        </p:nvSpPr>
        <p:spPr>
          <a:xfrm>
            <a:off x="468360" y="333360"/>
            <a:ext cx="2881440" cy="1528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WordArt 8"/>
          <p:cNvSpPr txBox="1"/>
          <p:nvPr/>
        </p:nvSpPr>
        <p:spPr>
          <a:xfrm>
            <a:off x="755640" y="692280"/>
            <a:ext cx="23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0" name="Text Box 9"/>
          <p:cNvSpPr/>
          <p:nvPr/>
        </p:nvSpPr>
        <p:spPr>
          <a:xfrm>
            <a:off x="611280" y="2060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　　读读下面的句子，并用带点的字说话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0"/>
          <p:cNvSpPr/>
          <p:nvPr/>
        </p:nvSpPr>
        <p:spPr>
          <a:xfrm>
            <a:off x="1116000" y="350028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1"/>
          <p:cNvSpPr/>
          <p:nvPr/>
        </p:nvSpPr>
        <p:spPr>
          <a:xfrm>
            <a:off x="395280" y="3860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　　这种小巷弯曲多变，有斜歪的，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直中带曲的，有曲中带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8"/>
          <p:cNvSpPr/>
          <p:nvPr/>
        </p:nvSpPr>
        <p:spPr>
          <a:xfrm>
            <a:off x="5182920" y="3933720"/>
            <a:ext cx="81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9"/>
          <p:cNvSpPr/>
          <p:nvPr/>
        </p:nvSpPr>
        <p:spPr>
          <a:xfrm>
            <a:off x="4395600" y="32464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20"/>
          <p:cNvSpPr/>
          <p:nvPr/>
        </p:nvSpPr>
        <p:spPr>
          <a:xfrm>
            <a:off x="7380360" y="393372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1"/>
          <p:cNvSpPr/>
          <p:nvPr/>
        </p:nvSpPr>
        <p:spPr>
          <a:xfrm>
            <a:off x="2843280" y="479736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矩形 11"/>
          <p:cNvSpPr/>
          <p:nvPr/>
        </p:nvSpPr>
        <p:spPr>
          <a:xfrm>
            <a:off x="3419640" y="262584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6" descr="ae37e481df0860ce9123d9f0"/>
          <p:cNvPicPr/>
          <p:nvPr/>
        </p:nvPicPr>
        <p:blipFill>
          <a:blip r:embed="rId2"/>
          <a:stretch/>
        </p:blipFill>
        <p:spPr>
          <a:xfrm>
            <a:off x="324000" y="333360"/>
            <a:ext cx="3960720" cy="3024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7" descr="35_1414"/>
          <p:cNvPicPr/>
          <p:nvPr/>
        </p:nvPicPr>
        <p:blipFill>
          <a:blip r:embed="rId3"/>
          <a:stretch/>
        </p:blipFill>
        <p:spPr>
          <a:xfrm>
            <a:off x="324000" y="3500280"/>
            <a:ext cx="3960720" cy="3194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18"/>
          <p:cNvSpPr/>
          <p:nvPr/>
        </p:nvSpPr>
        <p:spPr>
          <a:xfrm>
            <a:off x="471636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小的庭院，也觉玲珑可爱。青石板、白粉墙，后门的河埠头，一弯清水，显得格外雅洁。院子里，从石板缝中与墙角下长出的野草闲花，更觉娇嫩依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19"/>
          <p:cNvSpPr/>
          <p:nvPr/>
        </p:nvSpPr>
        <p:spPr>
          <a:xfrm>
            <a:off x="5724360" y="1557360"/>
            <a:ext cx="1441440" cy="0"/>
          </a:xfrm>
          <a:prstGeom prst="line">
            <a:avLst/>
          </a:prstGeom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20"/>
          <p:cNvSpPr/>
          <p:nvPr/>
        </p:nvSpPr>
        <p:spPr>
          <a:xfrm>
            <a:off x="4788000" y="616572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726552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的庭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5546520" y="558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玲珑可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8f8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10" descr="3"/>
          <p:cNvPicPr/>
          <p:nvPr/>
        </p:nvPicPr>
        <p:blipFill>
          <a:blip r:embed="rId1"/>
          <a:stretch/>
        </p:blipFill>
        <p:spPr>
          <a:xfrm>
            <a:off x="0" y="0"/>
            <a:ext cx="4067280" cy="3357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1" descr="7"/>
          <p:cNvPicPr/>
          <p:nvPr/>
        </p:nvPicPr>
        <p:blipFill>
          <a:blip r:embed="rId2"/>
          <a:stretch/>
        </p:blipFill>
        <p:spPr>
          <a:xfrm>
            <a:off x="0" y="3573360"/>
            <a:ext cx="4067280" cy="32846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4"/>
          <p:cNvSpPr/>
          <p:nvPr/>
        </p:nvSpPr>
        <p:spPr>
          <a:xfrm>
            <a:off x="4356000" y="476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柔橹一声，小舟咿呀，在河埠边欣赏往来的小舟，别有一番情趣。环洞桥的倒影，宛如半弯明月，隔岸人相唤，水巷小桥通，构成了恬静明洁、千变万化的水乡景色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5"/>
          <p:cNvSpPr/>
          <p:nvPr/>
        </p:nvSpPr>
        <p:spPr>
          <a:xfrm>
            <a:off x="4788000" y="623736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6"/>
          <p:cNvSpPr/>
          <p:nvPr/>
        </p:nvSpPr>
        <p:spPr>
          <a:xfrm>
            <a:off x="7173360" y="5700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7"/>
          <p:cNvSpPr/>
          <p:nvPr/>
        </p:nvSpPr>
        <p:spPr>
          <a:xfrm>
            <a:off x="54036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往来穿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7" descr="河头2"/>
          <p:cNvPicPr/>
          <p:nvPr/>
        </p:nvPicPr>
        <p:blipFill>
          <a:blip r:embed="rId2"/>
          <a:stretch/>
        </p:blipFill>
        <p:spPr>
          <a:xfrm>
            <a:off x="0" y="0"/>
            <a:ext cx="4356000" cy="3390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8" descr="河头"/>
          <p:cNvPicPr/>
          <p:nvPr/>
        </p:nvPicPr>
        <p:blipFill>
          <a:blip r:embed="rId3"/>
          <a:stretch/>
        </p:blipFill>
        <p:spPr>
          <a:xfrm>
            <a:off x="0" y="3573360"/>
            <a:ext cx="4356000" cy="328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1"/>
          <p:cNvSpPr/>
          <p:nvPr/>
        </p:nvSpPr>
        <p:spPr>
          <a:xfrm>
            <a:off x="4788000" y="47628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　　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巷人家的河埠头，用几根石条构成，有踏步伸向水中。从河岸边墙角下，偶然长出几株垂杨，微风吹来，细长的枝条拨动着水中的倒影，水面显得更清灵了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2"/>
          <p:cNvSpPr/>
          <p:nvPr/>
        </p:nvSpPr>
        <p:spPr>
          <a:xfrm>
            <a:off x="4932360" y="6453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7605000" y="5916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埠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4"/>
          <p:cNvSpPr/>
          <p:nvPr/>
        </p:nvSpPr>
        <p:spPr>
          <a:xfrm>
            <a:off x="5148360" y="5805360"/>
            <a:ext cx="243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灵幽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2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768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WordArt 4"/>
          <p:cNvSpPr txBox="1"/>
          <p:nvPr/>
        </p:nvSpPr>
        <p:spPr>
          <a:xfrm>
            <a:off x="324000" y="260280"/>
            <a:ext cx="273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拓展练习</a:t>
            </a:r>
            <a:r>
              <a:rPr b="0" lang="en-US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8" name="Picture 6" descr="环洞桥2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26636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9" descr="小巷1"/>
          <p:cNvPicPr/>
          <p:nvPr/>
        </p:nvPicPr>
        <p:blipFill>
          <a:blip r:embed="rId2"/>
          <a:stretch/>
        </p:blipFill>
        <p:spPr>
          <a:xfrm>
            <a:off x="5219640" y="1197000"/>
            <a:ext cx="3889440" cy="5661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2" descr="1"/>
          <p:cNvPicPr/>
          <p:nvPr/>
        </p:nvPicPr>
        <p:blipFill>
          <a:blip r:embed="rId3"/>
          <a:stretch/>
        </p:blipFill>
        <p:spPr>
          <a:xfrm>
            <a:off x="0" y="4005360"/>
            <a:ext cx="4572000" cy="285264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3"/>
          <p:cNvSpPr/>
          <p:nvPr/>
        </p:nvSpPr>
        <p:spPr>
          <a:xfrm>
            <a:off x="3348000" y="18900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请你来当小导游，向大家介绍一处或几处美景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WordArt 8"/>
          <p:cNvSpPr txBox="1"/>
          <p:nvPr/>
        </p:nvSpPr>
        <p:spPr>
          <a:xfrm>
            <a:off x="1692360" y="1341360"/>
            <a:ext cx="590400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0:01:38Z</dcterms:modified>
  <cp:revision>1</cp:revision>
  <dc:subject/>
  <dc:title>幻灯片 1</dc:title>
</cp:coreProperties>
</file>