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0A0A-B8CB-4E0C-BB9B-214BDCB205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48F5-495A-4D1F-85AE-4B38C482AF1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122D-C95F-4883-B0DF-7BE6297A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B5F-B58C-4B95-A78D-49133131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495-6926-4920-9BED-943EF49F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4A3D-2825-4BB8-8FFB-B8F4AE95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B661-E519-41C1-A1D2-6308CF2B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C31-F80F-44BE-BF65-F79FA751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EAA7-B64C-4B5A-BD06-42CEB0D0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8E5-C5E8-4B21-A0D8-B026297E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3A6-B498-446E-B431-9CC6BFCE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BF26-40A0-4132-AEF5-4E936F66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77D5-72C2-4BCE-83EF-6CC06533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3F8-6681-4C49-8CFD-81D21B9E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5385-343E-476D-9454-DC5506F190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2351-798F-4A4C-B48C-FE604DD690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1.jpeg"/><Relationship Id="rId3" Type="http://schemas.openxmlformats.org/officeDocument/2006/relationships/image" Target="../media/image28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image" Target="../media/image11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7.xm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20131126200440_uVUnd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971640" y="4513320"/>
            <a:ext cx="4464000" cy="1312920"/>
          </a:xfrm>
          <a:prstGeom prst="rect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巷人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矩形 4" descr=""/>
          <p:cNvPicPr/>
          <p:nvPr/>
        </p:nvPicPr>
        <p:blipFill>
          <a:blip r:embed="rId2"/>
          <a:stretch/>
        </p:blipFill>
        <p:spPr>
          <a:xfrm>
            <a:off x="1779480" y="607212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1581044944201754720.jpg"/>
          <p:cNvPicPr/>
          <p:nvPr/>
        </p:nvPicPr>
        <p:blipFill>
          <a:blip r:embed="rId1"/>
          <a:stretch/>
        </p:blipFill>
        <p:spPr>
          <a:xfrm>
            <a:off x="642960" y="3232080"/>
            <a:ext cx="3500280" cy="262584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  <p:pic>
        <p:nvPicPr>
          <p:cNvPr id="91" name="图片 2" descr="01f1aa0b492daa8c30a17&amp;690.jpg"/>
          <p:cNvPicPr/>
          <p:nvPr/>
        </p:nvPicPr>
        <p:blipFill>
          <a:blip r:embed="rId2"/>
          <a:stretch/>
        </p:blipFill>
        <p:spPr>
          <a:xfrm>
            <a:off x="642960" y="428760"/>
            <a:ext cx="3500280" cy="234288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  <p:sp>
        <p:nvSpPr>
          <p:cNvPr id="92" name="TextBox 4"/>
          <p:cNvSpPr/>
          <p:nvPr/>
        </p:nvSpPr>
        <p:spPr>
          <a:xfrm>
            <a:off x="4357800" y="407196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c0c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c0c0c"/>
                </a:solidFill>
                <a:latin typeface="Calibri"/>
              </a:rPr>
              <a:t>人在巷中行走，移步换景，并不感到寂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357800" y="47214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Calibri"/>
              </a:rPr>
              <a:t>移步换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6" descr="0001000900030142.jpg"/>
          <p:cNvPicPr/>
          <p:nvPr/>
        </p:nvPicPr>
        <p:blipFill>
          <a:blip r:embed="rId3"/>
          <a:stretch/>
        </p:blipFill>
        <p:spPr>
          <a:xfrm>
            <a:off x="4721400" y="1000080"/>
            <a:ext cx="3636720" cy="264312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857160" y="1714680"/>
            <a:ext cx="760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这种小巷弯曲多变，有斜歪的，有直中带曲的，有曲中带直的。有些巷中有拱门，有过街小楼，墙门的式样也丰富多彩。人在巷中行走，移步换景，并不感到寂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2" descr="0bd162d9f2d3572cd9f9f7358b13632763d0c3c4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58120" y="6286680"/>
            <a:ext cx="53964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2" descr="20030708007a_2.jpg"/>
          <p:cNvPicPr/>
          <p:nvPr/>
        </p:nvPicPr>
        <p:blipFill>
          <a:blip r:embed="rId1"/>
          <a:stretch/>
        </p:blipFill>
        <p:spPr>
          <a:xfrm>
            <a:off x="4643280" y="3643200"/>
            <a:ext cx="4214880" cy="282420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  <p:sp>
        <p:nvSpPr>
          <p:cNvPr id="98" name="TextBox 4"/>
          <p:cNvSpPr/>
          <p:nvPr/>
        </p:nvSpPr>
        <p:spPr>
          <a:xfrm>
            <a:off x="5286240" y="857160"/>
            <a:ext cx="235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Calibri"/>
              </a:rPr>
              <a:t>青石板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Calibri"/>
              </a:rPr>
              <a:t>白粉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Calibri"/>
              </a:rPr>
              <a:t>一弯清水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Calibri"/>
              </a:rPr>
              <a:t>格外雅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85840" y="4071960"/>
            <a:ext cx="485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青石板、白粉墙，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门的河埠头，一弯清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显得格外雅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8" descr="a20555245_s.jpg"/>
          <p:cNvPicPr/>
          <p:nvPr/>
        </p:nvPicPr>
        <p:blipFill>
          <a:blip r:embed="rId2"/>
          <a:stretch/>
        </p:blipFill>
        <p:spPr>
          <a:xfrm>
            <a:off x="285840" y="500040"/>
            <a:ext cx="3905280" cy="292896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  <p:sp>
        <p:nvSpPr>
          <p:cNvPr id="101" name="TextBox 12"/>
          <p:cNvSpPr/>
          <p:nvPr/>
        </p:nvSpPr>
        <p:spPr>
          <a:xfrm>
            <a:off x="1000080" y="40719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Calibri"/>
              </a:rPr>
              <a:t>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2428920" y="40719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11"/>
          <p:cNvSpPr/>
          <p:nvPr/>
        </p:nvSpPr>
        <p:spPr>
          <a:xfrm>
            <a:off x="2000160" y="5429160"/>
            <a:ext cx="142920" cy="1429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16"/>
          <p:cNvSpPr/>
          <p:nvPr/>
        </p:nvSpPr>
        <p:spPr>
          <a:xfrm>
            <a:off x="2357280" y="5429160"/>
            <a:ext cx="142920" cy="1429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8"/>
          <p:cNvSpPr/>
          <p:nvPr/>
        </p:nvSpPr>
        <p:spPr>
          <a:xfrm>
            <a:off x="3143160" y="4500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杨柳(willows).mp3" descr=""/>
          <p:cNvPicPr/>
          <p:nvPr/>
        </p:nvPicPr>
        <p:blipFill>
          <a:blip r:embed="rId3"/>
          <a:stretch/>
        </p:blipFill>
        <p:spPr>
          <a:xfrm>
            <a:off x="8572680" y="214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b3e109e2ef50f7182b52.jpg"/>
          <p:cNvPicPr/>
          <p:nvPr/>
        </p:nvPicPr>
        <p:blipFill>
          <a:blip r:embed="rId1"/>
          <a:stretch/>
        </p:blipFill>
        <p:spPr>
          <a:xfrm>
            <a:off x="285840" y="214200"/>
            <a:ext cx="4095720" cy="307188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  <p:sp>
        <p:nvSpPr>
          <p:cNvPr id="108" name="TextBox 2"/>
          <p:cNvSpPr/>
          <p:nvPr/>
        </p:nvSpPr>
        <p:spPr>
          <a:xfrm>
            <a:off x="5072040" y="571680"/>
            <a:ext cx="235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Calibri"/>
              </a:rPr>
              <a:t>院子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Calibri"/>
              </a:rPr>
              <a:t>墙角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Calibri"/>
              </a:rPr>
              <a:t>野草闲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Calibri"/>
              </a:rPr>
              <a:t>娇嫩依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00040" y="4143240"/>
            <a:ext cx="771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院子里，从石板缝中与墙角下长出的野草闲花，更觉娇嫩依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5643720" y="285840"/>
            <a:ext cx="23572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小小庭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玲珑可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青石板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白粉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弯清水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格外雅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院子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墙角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野草闲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娇嫩依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6" descr="0bd162d9f2d3572cd9f9f7358b13632763d0c3c4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58120" y="6286680"/>
            <a:ext cx="539640" cy="3729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8" descr="3662450b0c94e303fbe2f08b7849_407_600.jpg"/>
          <p:cNvPicPr/>
          <p:nvPr/>
        </p:nvPicPr>
        <p:blipFill>
          <a:blip r:embed="rId3"/>
          <a:stretch/>
        </p:blipFill>
        <p:spPr>
          <a:xfrm>
            <a:off x="1071720" y="500040"/>
            <a:ext cx="3876480" cy="571500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  <p:pic>
        <p:nvPicPr>
          <p:cNvPr id="113" name="杨柳(willows).mp3" descr=""/>
          <p:cNvPicPr/>
          <p:nvPr/>
        </p:nvPicPr>
        <p:blipFill>
          <a:blip r:embed="rId4"/>
          <a:stretch/>
        </p:blipFill>
        <p:spPr>
          <a:xfrm>
            <a:off x="8501040" y="578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26399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6" descr="u=3199008597,4183484036&amp;fm=23&amp;gp=0.jpg"/>
          <p:cNvPicPr/>
          <p:nvPr/>
        </p:nvPicPr>
        <p:blipFill>
          <a:blip r:embed="rId1"/>
          <a:stretch/>
        </p:blipFill>
        <p:spPr>
          <a:xfrm>
            <a:off x="428760" y="285840"/>
            <a:ext cx="3863880" cy="335736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  <p:pic>
        <p:nvPicPr>
          <p:cNvPr id="115" name="图片 11" descr="20135131451241094.jpg"/>
          <p:cNvPicPr/>
          <p:nvPr/>
        </p:nvPicPr>
        <p:blipFill>
          <a:blip r:embed="rId2"/>
          <a:stretch/>
        </p:blipFill>
        <p:spPr>
          <a:xfrm>
            <a:off x="4500720" y="357120"/>
            <a:ext cx="4286160" cy="321480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  <p:sp>
        <p:nvSpPr>
          <p:cNvPr id="116" name="TextBox 13"/>
          <p:cNvSpPr/>
          <p:nvPr/>
        </p:nvSpPr>
        <p:spPr>
          <a:xfrm>
            <a:off x="500040" y="414324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从河岸边墙角下，偶然长出几株垂杨，微风吹来，细长的枝条拨动着水中的倒影，水面显得更清灵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杨柳(willows).mp3" descr=""/>
          <p:cNvPicPr/>
          <p:nvPr/>
        </p:nvPicPr>
        <p:blipFill>
          <a:blip r:embed="rId3"/>
          <a:stretch/>
        </p:blipFill>
        <p:spPr>
          <a:xfrm>
            <a:off x="8572680" y="214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0"/>
          <p:cNvSpPr/>
          <p:nvPr/>
        </p:nvSpPr>
        <p:spPr>
          <a:xfrm>
            <a:off x="357120" y="335772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环洞桥的倒影，宛如半弯明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delay="0"/>
                </p:stCondLst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263999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1.mp3" descr=""/>
          <p:cNvPicPr/>
          <p:nvPr/>
        </p:nvPicPr>
        <p:blipFill>
          <a:blip r:embed="rId1"/>
          <a:stretch/>
        </p:blipFill>
        <p:spPr>
          <a:xfrm>
            <a:off x="7929720" y="6286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2" descr="0bd162d9f2d3572cd9f9f7358b13632763d0c3c4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58120" y="6286680"/>
            <a:ext cx="539640" cy="372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3"/>
          <p:cNvSpPr/>
          <p:nvPr/>
        </p:nvSpPr>
        <p:spPr>
          <a:xfrm>
            <a:off x="500040" y="414324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500040" y="392904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环洞桥的倒影，宛如半弯明月，隔岸人相唤，水巷小桥通，构成了恬静明洁、千变万化的水乡景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8" descr="t01e908ed025f21294b.jpg"/>
          <p:cNvPicPr/>
          <p:nvPr/>
        </p:nvPicPr>
        <p:blipFill>
          <a:blip r:embed="rId4"/>
          <a:stretch/>
        </p:blipFill>
        <p:spPr>
          <a:xfrm>
            <a:off x="4834080" y="428760"/>
            <a:ext cx="3809880" cy="314316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  <p:pic>
        <p:nvPicPr>
          <p:cNvPr id="124" name="图片 14" descr="QQ截图20141018130543.jpg"/>
          <p:cNvPicPr/>
          <p:nvPr/>
        </p:nvPicPr>
        <p:blipFill>
          <a:blip r:embed="rId5"/>
          <a:stretch/>
        </p:blipFill>
        <p:spPr>
          <a:xfrm>
            <a:off x="357120" y="428760"/>
            <a:ext cx="4172040" cy="314316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delay="0"/>
                </p:stCondLst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6408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857160" y="1214280"/>
            <a:ext cx="7858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</a:rPr>
              <a:t>小楼一夜听春雨，深巷明朝卖杏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陆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临安春雨初霁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 ì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928800" y="3214800"/>
            <a:ext cx="7858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</a:rPr>
              <a:t>深巷卖樱桃，雨余红更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纳兰性德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菩萨蛮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杨柳(willows).mp3" descr=""/>
          <p:cNvPicPr/>
          <p:nvPr/>
        </p:nvPicPr>
        <p:blipFill>
          <a:blip r:embed="rId1"/>
          <a:stretch/>
        </p:blipFill>
        <p:spPr>
          <a:xfrm>
            <a:off x="853272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7"/>
          <p:cNvSpPr/>
          <p:nvPr/>
        </p:nvSpPr>
        <p:spPr>
          <a:xfrm>
            <a:off x="1584360" y="958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24000" y="37695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c0504d"/>
                </a:solidFill>
                <a:latin typeface="Arial"/>
                <a:ea typeface="楷体_GB2312"/>
              </a:rPr>
              <a:t>结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：就是在这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ō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静的环境中，度过了我的童年。这种小巷人家特有的诗情画意，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永远令我依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822240" y="27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228600" y="9601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    </a:t>
            </a:r>
            <a:r>
              <a:rPr b="1" lang="zh-CN" sz="2800" spc="-1" strike="noStrike">
                <a:solidFill>
                  <a:srgbClr val="c0504d"/>
                </a:solidFill>
                <a:latin typeface="Arial"/>
                <a:ea typeface="楷体_GB2312"/>
              </a:rPr>
              <a:t>开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：小城春色，小桥流水，小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iàn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人家，多美的江南水乡风光！“小楼一夜听春雨，深巷明朝卖杏花”“深巷卖樱桃，雨余红更娇”，儿时读的诗句，在高楼日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zēn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多，小巷、水巷渐渐减少的今天，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越来越值得吟诵与留恋（</a:t>
            </a: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liàn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）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807880" y="5013360"/>
            <a:ext cx="174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楷体_GB2312"/>
              </a:rPr>
              <a:t>首尾呼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8">
            <a:hlinkClick r:id="" action="ppaction://hlinkshowjump?jump=firstslide"/>
          </p:cNvPr>
          <p:cNvSpPr/>
          <p:nvPr/>
        </p:nvSpPr>
        <p:spPr>
          <a:xfrm>
            <a:off x="8229600" y="6248520"/>
            <a:ext cx="509760" cy="380880"/>
          </a:xfrm>
          <a:custGeom>
            <a:avLst/>
            <a:gdLst>
              <a:gd name="textAreaLeft" fmla="*/ 24480 w 509760"/>
              <a:gd name="textAreaRight" fmla="*/ 485280 w 509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8902" h="21600">
                <a:moveTo>
                  <a:pt x="0" y="0"/>
                </a:moveTo>
                <a:lnTo>
                  <a:pt x="28902" y="0"/>
                </a:lnTo>
                <a:lnTo>
                  <a:pt x="28902" y="21600"/>
                </a:lnTo>
                <a:lnTo>
                  <a:pt x="0" y="21600"/>
                </a:lnTo>
                <a:close/>
              </a:path>
              <a:path fill="lightenLess" w="28902" h="21600">
                <a:moveTo>
                  <a:pt x="0" y="0"/>
                </a:moveTo>
                <a:lnTo>
                  <a:pt x="28902" y="0"/>
                </a:lnTo>
                <a:lnTo>
                  <a:pt x="27502" y="1400"/>
                </a:lnTo>
                <a:lnTo>
                  <a:pt x="1400" y="1400"/>
                </a:lnTo>
                <a:close/>
              </a:path>
              <a:path fill="darken" w="28902" h="21600">
                <a:moveTo>
                  <a:pt x="28902" y="0"/>
                </a:moveTo>
                <a:lnTo>
                  <a:pt x="28902" y="21600"/>
                </a:lnTo>
                <a:lnTo>
                  <a:pt x="27502" y="20200"/>
                </a:lnTo>
                <a:lnTo>
                  <a:pt x="27502" y="1400"/>
                </a:lnTo>
                <a:close/>
              </a:path>
              <a:path fill="darkenLess" w="28902" h="21600">
                <a:moveTo>
                  <a:pt x="28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2" y="20200"/>
                </a:lnTo>
                <a:close/>
              </a:path>
              <a:path fill="lighten" w="28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02" h="21600">
                <a:moveTo>
                  <a:pt x="14451" y="3837"/>
                </a:moveTo>
                <a:lnTo>
                  <a:pt x="17027" y="6448"/>
                </a:lnTo>
                <a:lnTo>
                  <a:pt x="17027" y="4707"/>
                </a:lnTo>
                <a:lnTo>
                  <a:pt x="18803" y="4707"/>
                </a:lnTo>
                <a:lnTo>
                  <a:pt x="18803" y="8224"/>
                </a:lnTo>
                <a:lnTo>
                  <a:pt x="21414" y="10800"/>
                </a:lnTo>
                <a:lnTo>
                  <a:pt x="19760" y="10800"/>
                </a:lnTo>
                <a:lnTo>
                  <a:pt x="19760" y="17989"/>
                </a:lnTo>
                <a:lnTo>
                  <a:pt x="9142" y="17989"/>
                </a:lnTo>
                <a:lnTo>
                  <a:pt x="9142" y="10800"/>
                </a:lnTo>
                <a:lnTo>
                  <a:pt x="7488" y="10800"/>
                </a:lnTo>
                <a:close/>
              </a:path>
              <a:path fill="darkenLess" w="28902" h="21600">
                <a:moveTo>
                  <a:pt x="17027" y="6448"/>
                </a:moveTo>
                <a:lnTo>
                  <a:pt x="17027" y="4707"/>
                </a:lnTo>
                <a:lnTo>
                  <a:pt x="18803" y="4707"/>
                </a:lnTo>
                <a:lnTo>
                  <a:pt x="18803" y="8224"/>
                </a:lnTo>
                <a:close/>
              </a:path>
              <a:path fill="darkenLess" w="28902" h="21600">
                <a:moveTo>
                  <a:pt x="13528" y="14299"/>
                </a:moveTo>
                <a:lnTo>
                  <a:pt x="15374" y="14299"/>
                </a:lnTo>
                <a:lnTo>
                  <a:pt x="15374" y="17989"/>
                </a:lnTo>
                <a:lnTo>
                  <a:pt x="19760" y="17989"/>
                </a:lnTo>
                <a:lnTo>
                  <a:pt x="19760" y="10800"/>
                </a:lnTo>
                <a:lnTo>
                  <a:pt x="9142" y="10800"/>
                </a:lnTo>
                <a:lnTo>
                  <a:pt x="9142" y="17989"/>
                </a:lnTo>
                <a:lnTo>
                  <a:pt x="135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"/>
          <p:cNvSpPr/>
          <p:nvPr/>
        </p:nvSpPr>
        <p:spPr>
          <a:xfrm>
            <a:off x="228600" y="5715000"/>
            <a:ext cx="598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1043191p6-13"/>
          <p:cNvPicPr/>
          <p:nvPr/>
        </p:nvPicPr>
        <p:blipFill>
          <a:blip r:embed="rId1"/>
          <a:stretch/>
        </p:blipFill>
        <p:spPr>
          <a:xfrm>
            <a:off x="0" y="0"/>
            <a:ext cx="4495680" cy="3693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design_hand_141412_m"/>
          <p:cNvPicPr/>
          <p:nvPr/>
        </p:nvPicPr>
        <p:blipFill>
          <a:blip r:embed="rId2"/>
          <a:stretch/>
        </p:blipFill>
        <p:spPr>
          <a:xfrm>
            <a:off x="4648320" y="3429000"/>
            <a:ext cx="4419360" cy="3352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20037612465562253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3276720" y="259092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拿出你手中的笔，画出你想象中的江南水乡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809880" y="609480"/>
            <a:ext cx="4953240" cy="1371600"/>
          </a:xfrm>
          <a:prstGeom prst="cloudCallout">
            <a:avLst>
              <a:gd name="adj1" fmla="val -61250"/>
              <a:gd name="adj2" fmla="val 80203"/>
            </a:avLst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670720" y="9144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黑体"/>
              </a:rPr>
              <a:t>想一想，画一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4725304"/>
          <p:cNvPicPr/>
          <p:nvPr/>
        </p:nvPicPr>
        <p:blipFill>
          <a:blip r:embed="rId1"/>
          <a:stretch/>
        </p:blipFill>
        <p:spPr>
          <a:xfrm>
            <a:off x="0" y="0"/>
            <a:ext cx="10847520" cy="863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2"/>
          <p:cNvSpPr/>
          <p:nvPr/>
        </p:nvSpPr>
        <p:spPr>
          <a:xfrm>
            <a:off x="785880" y="28584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低近苗乡，万山重叠，大小重叠的山中，大衫树以常年深绿逼人的颜色，蔓延各处，一道小河从高山绝涧中流出，汇集了万山细流，沿了两岸有杉树林的河沟奔驶而过，农民各就河边编缚竹子作成水车，引河中流水，灌溉高处的山田。河水长年清澈，其中多鳜鱼、鲫鱼、鲤鱼，大的比人脚板还大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沈从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我所生长的地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ED3F-D724-4468-8F2B-B919621ED3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504d"/>
                </a:solidFill>
                <a:latin typeface="Calibri"/>
              </a:rPr>
              <a:t>小组自学提示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用自己喜欢的方式自由朗读课文，想一想课文主要写了哪些地方的景物？这几处景物各自有什么特点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你最喜欢哪一处景物，把印象最深的句子用横线画出来，并在小组内读一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4360" y="4176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作者在文章开头和结尾运用了什么样的写作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84360" y="47505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284328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9" descr="惹巴风雨桥.jpg"/>
          <p:cNvPicPr/>
          <p:nvPr/>
        </p:nvPicPr>
        <p:blipFill>
          <a:blip r:embed="rId1"/>
          <a:stretch/>
        </p:blipFill>
        <p:spPr>
          <a:xfrm>
            <a:off x="357120" y="714240"/>
            <a:ext cx="8329680" cy="521496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  <p:pic>
        <p:nvPicPr>
          <p:cNvPr id="60" name="图片 2" descr="里耶2.jpg"/>
          <p:cNvPicPr/>
          <p:nvPr/>
        </p:nvPicPr>
        <p:blipFill>
          <a:blip r:embed="rId2"/>
          <a:stretch/>
        </p:blipFill>
        <p:spPr>
          <a:xfrm>
            <a:off x="2500200" y="3786120"/>
            <a:ext cx="4867560" cy="271476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  <p:pic>
        <p:nvPicPr>
          <p:cNvPr id="61" name="图片 3" descr="里2.jpg"/>
          <p:cNvPicPr/>
          <p:nvPr/>
        </p:nvPicPr>
        <p:blipFill>
          <a:blip r:embed="rId3"/>
          <a:stretch/>
        </p:blipFill>
        <p:spPr>
          <a:xfrm>
            <a:off x="214200" y="500040"/>
            <a:ext cx="4357800" cy="288288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  <p:pic>
        <p:nvPicPr>
          <p:cNvPr id="62" name="图片 4" descr="里耶.jpg"/>
          <p:cNvPicPr/>
          <p:nvPr/>
        </p:nvPicPr>
        <p:blipFill>
          <a:blip r:embed="rId4"/>
          <a:stretch/>
        </p:blipFill>
        <p:spPr>
          <a:xfrm>
            <a:off x="4857840" y="571680"/>
            <a:ext cx="4006800" cy="285732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  <p:pic>
        <p:nvPicPr>
          <p:cNvPr id="63" name="图片 5" descr="洗车河.jpg"/>
          <p:cNvPicPr/>
          <p:nvPr/>
        </p:nvPicPr>
        <p:blipFill>
          <a:blip r:embed="rId5"/>
          <a:stretch/>
        </p:blipFill>
        <p:spPr>
          <a:xfrm>
            <a:off x="1071720" y="2975040"/>
            <a:ext cx="6850080" cy="35258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6" descr="洗车河4.jpg"/>
          <p:cNvPicPr/>
          <p:nvPr/>
        </p:nvPicPr>
        <p:blipFill>
          <a:blip r:embed="rId6"/>
          <a:stretch/>
        </p:blipFill>
        <p:spPr>
          <a:xfrm>
            <a:off x="2071800" y="214200"/>
            <a:ext cx="41907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in">
                                      <p:cBhvr additive="repl">
                                        <p:cTn id="1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dur="indefinite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in">
                                      <p:cBhvr additive="repl">
                                        <p:cTn id="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in">
                                      <p:cBhvr additive="repl">
                                        <p:cTn id="2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in">
                                      <p:cBhvr additive="repl">
                                        <p:cTn id="3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椭圆 3">
            <a:hlinkClick r:id="rId1" action="ppaction://hlinksldjump"/>
          </p:cNvPr>
          <p:cNvSpPr/>
          <p:nvPr/>
        </p:nvSpPr>
        <p:spPr>
          <a:xfrm>
            <a:off x="1285920" y="6072120"/>
            <a:ext cx="107136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小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4">
            <a:hlinkClick r:id="rId2" action="ppaction://hlinksldjump"/>
          </p:cNvPr>
          <p:cNvSpPr/>
          <p:nvPr/>
        </p:nvSpPr>
        <p:spPr>
          <a:xfrm>
            <a:off x="4000680" y="6000840"/>
            <a:ext cx="1071360" cy="428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庭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5">
            <a:hlinkClick r:id="rId3" action="ppaction://hlinksldjump"/>
          </p:cNvPr>
          <p:cNvSpPr/>
          <p:nvPr/>
        </p:nvSpPr>
        <p:spPr>
          <a:xfrm>
            <a:off x="6429240" y="6000840"/>
            <a:ext cx="1071720" cy="428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河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8" descr="0bd162d9f2d3572cd9f9f7358b13632763d0c3c4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58120" y="6286680"/>
            <a:ext cx="539640" cy="372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9"/>
          <p:cNvSpPr/>
          <p:nvPr/>
        </p:nvSpPr>
        <p:spPr>
          <a:xfrm>
            <a:off x="642960" y="424800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0"/>
          <p:cNvSpPr/>
          <p:nvPr/>
        </p:nvSpPr>
        <p:spPr>
          <a:xfrm>
            <a:off x="1785960" y="78588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“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小楼一夜听春雨，深巷明朝卖杏花”，“深巷卖樱桃，雨余红更娇”，儿时读的诗句，在高楼日益增多、小巷、水巷渐渐减少的今天，越来越值得吟诵与留恋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2" descr="4d07bf50hb9fbc841734c&amp;690.jpg"/>
          <p:cNvPicPr/>
          <p:nvPr/>
        </p:nvPicPr>
        <p:blipFill>
          <a:blip r:embed="rId6"/>
          <a:stretch/>
        </p:blipFill>
        <p:spPr>
          <a:xfrm>
            <a:off x="1643040" y="22320"/>
            <a:ext cx="5627880" cy="4143240"/>
          </a:xfrm>
          <a:prstGeom prst="rect">
            <a:avLst/>
          </a:prstGeom>
          <a:ln w="0">
            <a:noFill/>
          </a:ln>
        </p:spPr>
      </p:pic>
      <p:pic>
        <p:nvPicPr>
          <p:cNvPr id="72" name="清晨.wav" descr=""/>
          <p:cNvPicPr/>
          <p:nvPr/>
        </p:nvPicPr>
        <p:blipFill>
          <a:blip r:embed="rId7"/>
          <a:stretch/>
        </p:blipFill>
        <p:spPr>
          <a:xfrm>
            <a:off x="85010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delay="0"/>
                </p:stCondLst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8501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2413527_145039076989_2.jpg"/>
          <p:cNvPicPr/>
          <p:nvPr/>
        </p:nvPicPr>
        <p:blipFill>
          <a:blip r:embed="rId1"/>
          <a:stretch/>
        </p:blipFill>
        <p:spPr>
          <a:xfrm>
            <a:off x="214200" y="214200"/>
            <a:ext cx="4357800" cy="635796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  <p:sp>
        <p:nvSpPr>
          <p:cNvPr id="74" name="TextBox 2"/>
          <p:cNvSpPr/>
          <p:nvPr/>
        </p:nvSpPr>
        <p:spPr>
          <a:xfrm>
            <a:off x="4572000" y="692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这种小巷弯曲多变，有（              ），有（                ）的，有（                ）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5357880" y="178596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</a:rPr>
              <a:t>直中带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4929120" y="228600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zh-CN" sz="3600" spc="-1" strike="noStrike">
                <a:solidFill>
                  <a:srgbClr val="c00000"/>
                </a:solidFill>
                <a:latin typeface="Calibri"/>
              </a:rPr>
              <a:t>曲中带直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5286240" y="4214880"/>
            <a:ext cx="32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Calibri"/>
              </a:rPr>
              <a:t>弯曲多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6429240" y="121140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</a:rPr>
              <a:t>斜歪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1260360" y="1693800"/>
            <a:ext cx="7358040" cy="764280"/>
          </a:xfrm>
          <a:prstGeom prst="rect">
            <a:avLst/>
          </a:pr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有些巷中有拱门，有过街小楼，墙门的式样也丰富多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2" descr="01f1aa0b492daa8c30a17&amp;690.jpg"/>
          <p:cNvPicPr/>
          <p:nvPr/>
        </p:nvPicPr>
        <p:blipFill>
          <a:blip r:embed="rId1"/>
          <a:stretch/>
        </p:blipFill>
        <p:spPr>
          <a:xfrm>
            <a:off x="428760" y="285840"/>
            <a:ext cx="3838320" cy="256860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  <p:pic>
        <p:nvPicPr>
          <p:cNvPr id="81" name="图片 6" descr="6358801_215953633151_2.jpg"/>
          <p:cNvPicPr/>
          <p:nvPr/>
        </p:nvPicPr>
        <p:blipFill>
          <a:blip r:embed="rId2"/>
          <a:stretch/>
        </p:blipFill>
        <p:spPr>
          <a:xfrm>
            <a:off x="4643280" y="3143160"/>
            <a:ext cx="3857760" cy="335772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  <p:pic>
        <p:nvPicPr>
          <p:cNvPr id="82" name="图片 7" descr="u=1972313650,2413040135&amp;fm=23&amp;gp=0.jpg"/>
          <p:cNvPicPr/>
          <p:nvPr/>
        </p:nvPicPr>
        <p:blipFill>
          <a:blip r:embed="rId3"/>
          <a:stretch/>
        </p:blipFill>
        <p:spPr>
          <a:xfrm>
            <a:off x="4643280" y="285840"/>
            <a:ext cx="3857760" cy="257184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  <p:pic>
        <p:nvPicPr>
          <p:cNvPr id="83" name="图片 8" descr="y1pjzU1Guoi-f0Xko0s9mDjHOnaee3VMYsgzuFL2nKKAQF7NOeN-yqUx2itz4c03-gK5Z4yY9IIkq-JpyWt52EjdQ.jpg"/>
          <p:cNvPicPr/>
          <p:nvPr/>
        </p:nvPicPr>
        <p:blipFill>
          <a:blip r:embed="rId4"/>
          <a:stretch/>
        </p:blipFill>
        <p:spPr>
          <a:xfrm>
            <a:off x="428760" y="3117960"/>
            <a:ext cx="3857400" cy="338292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  <p:sp>
        <p:nvSpPr>
          <p:cNvPr id="84" name="TextBox 9"/>
          <p:cNvSpPr/>
          <p:nvPr/>
        </p:nvSpPr>
        <p:spPr>
          <a:xfrm>
            <a:off x="428760" y="2214720"/>
            <a:ext cx="8072280" cy="10688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拱门有（          ），有（         ），有（          ），还有（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0001000900030142.jpg"/>
          <p:cNvPicPr/>
          <p:nvPr/>
        </p:nvPicPr>
        <p:blipFill>
          <a:blip r:embed="rId1"/>
          <a:stretch/>
        </p:blipFill>
        <p:spPr>
          <a:xfrm>
            <a:off x="2786040" y="214200"/>
            <a:ext cx="3637080" cy="264348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  <p:pic>
        <p:nvPicPr>
          <p:cNvPr id="86" name="图片 4" descr="201203230532157B4.jpg"/>
          <p:cNvPicPr/>
          <p:nvPr/>
        </p:nvPicPr>
        <p:blipFill>
          <a:blip r:embed="rId2"/>
          <a:stretch/>
        </p:blipFill>
        <p:spPr>
          <a:xfrm>
            <a:off x="6643800" y="1857240"/>
            <a:ext cx="2286000" cy="304812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  <p:pic>
        <p:nvPicPr>
          <p:cNvPr id="87" name="图片 5" descr="NBWB20121127A31b001.jpg"/>
          <p:cNvPicPr/>
          <p:nvPr/>
        </p:nvPicPr>
        <p:blipFill>
          <a:blip r:embed="rId3"/>
          <a:stretch/>
        </p:blipFill>
        <p:spPr>
          <a:xfrm>
            <a:off x="2786040" y="3125880"/>
            <a:ext cx="3643200" cy="273204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  <p:sp>
        <p:nvSpPr>
          <p:cNvPr id="88" name="TextBox 7"/>
          <p:cNvSpPr/>
          <p:nvPr/>
        </p:nvSpPr>
        <p:spPr>
          <a:xfrm>
            <a:off x="3500280" y="59356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丰富多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10" descr="u=2217567704,2681984244&amp;fm=23&amp;gp=0.jpg"/>
          <p:cNvPicPr/>
          <p:nvPr/>
        </p:nvPicPr>
        <p:blipFill>
          <a:blip r:embed="rId4"/>
          <a:stretch/>
        </p:blipFill>
        <p:spPr>
          <a:xfrm>
            <a:off x="142920" y="1785960"/>
            <a:ext cx="2428920" cy="3071880"/>
          </a:xfrm>
          <a:prstGeom prst="rect">
            <a:avLst/>
          </a:prstGeom>
          <a:ln cap="sq" w="889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0T11:59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1:42Z</dcterms:modified>
  <cp:revision>17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