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B81-1F88-4A40-9174-D2B0D27C18E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58E0-9C9E-4102-BBDD-67392E5D87F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77D2-6D84-4E88-AD81-327167AE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974-7358-4839-ACC4-76C1160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327-2B9E-4A41-9B1C-C44DD4BE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212-5059-44B3-8D72-59AF80C8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B71-F136-4940-8CE2-10ADB0B8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558-404E-4667-B489-2D337D5B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0D4-F875-4417-BBCD-EE1F901C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4916-BF32-4EDE-BD5A-53D0BD1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4E6-EBD0-4ABA-BCE1-D976DE5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B0A-BFC0-4EF1-9570-B66B6B5D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4D29-D9AE-440F-BF38-ADB3AFD3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B253-BA12-45B7-BE73-CAFDE035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3182-A5F6-459B-808A-E47F77DA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0"/>
          <p:cNvPicPr/>
          <p:nvPr/>
        </p:nvPicPr>
        <p:blipFill>
          <a:blip r:embed="rId1"/>
          <a:stretch/>
        </p:blipFill>
        <p:spPr>
          <a:xfrm>
            <a:off x="2133720" y="1143000"/>
            <a:ext cx="5049720" cy="506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58640" y="114264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一杯牛奶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33520" y="4986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湘教版三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912680" y="6183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小结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黑体_GBK"/>
              </a:rPr>
              <a:t>学了课文，现在心情怎样？让我们也给姑娘带去深情的问候吧！齐读课文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WB0418-34F0C"/>
          <p:cNvPicPr/>
          <p:nvPr/>
        </p:nvPicPr>
        <p:blipFill>
          <a:blip r:embed="rId1"/>
          <a:stretch/>
        </p:blipFill>
        <p:spPr>
          <a:xfrm>
            <a:off x="2819520" y="3886200"/>
            <a:ext cx="3276360" cy="196380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"/>
          <p:cNvSpPr/>
          <p:nvPr/>
        </p:nvSpPr>
        <p:spPr>
          <a:xfrm>
            <a:off x="828720" y="399960"/>
            <a:ext cx="69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组词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杯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杯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船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船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机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茶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茶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坏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坏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般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饥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饥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　奈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奈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写反义词。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昂贵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　　善良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恶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2362320" y="1752480"/>
            <a:ext cx="40384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谢谢指导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AAA6-5CB9-4003-8B7D-FBB66669D5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3520" y="9144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、会写课文生字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理解课文内容，感悟女孩热情善良和凯利知恩图报的美好品质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课文学习，学会表达和回报别人对自己的爱，懂得关心别人、知恩图报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1371240"/>
            <a:ext cx="8610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生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朗读课文，标出自然段，画出以下要求认识的生字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38080" y="3733920"/>
            <a:ext cx="769644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费  挨  饥  般  奈  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该  休  幸  善  贵  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80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8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380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朗读课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352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课文内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认识字的基础上快速、轻声读课文两遍，看看自己能不能将课文读通顺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纳不懂的问题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理解词义的基础上，自由读课文，想一想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读了课文，知道课文讲了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己读读课文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谈谈你知道了什么？假如你就是凯利，你会有什么感受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的凯利多么饥饿啊！你从哪些词语可以看出来？谁来读读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凯利现在最需要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向他伸出了援助之手？凯利当时是怎么想的？结果怎么样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）自己边思考边读课文第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3~5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自然段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）凯利说：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我该给你多少钱？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这是怎么回事？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）谁能读出凯利的感激之情，并说说凯利是怎么想的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阴似箭，日月如梭，转眼过去了好多年，又发生了一件什么事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是怎样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医疗费已用一杯牛奶全部付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？谁来读一读这几段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3:53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0:05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