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BDF4-AE2D-43EB-B374-A3A027D390A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68CE-97A8-43C4-9544-D16F3ADF81D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D35A-BF7E-4482-83FC-F56279C22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867B-4ECB-4A69-BECD-B77710E1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F7DE-42BB-4493-A4B5-44686C217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CA86-04C6-40DE-9A9B-6735DBB32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BC67-FAB1-4210-B060-36D45DAD1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4B7E-A953-4974-8520-7507BCE6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8688-9CB6-45A1-BC9F-7524DADB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642B-3C2C-44BF-8409-1CA49AD0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4E13-1760-4A50-8A6B-CD469E4B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4A67-2316-4BD9-A369-5EAE6CB0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D55E-7067-4A62-8D5E-43CCA8ED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AAD6-2EC9-4B08-8177-A3DE82F5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59AE-1C9A-4A66-B014-2CDA89A17E0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37B3-C875-4526-894C-53D606E613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0321_34738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839960" y="2133720"/>
            <a:ext cx="5543640" cy="370512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sp>
        <p:nvSpPr>
          <p:cNvPr id="49" name="WordArt 8"/>
          <p:cNvSpPr txBox="1"/>
          <p:nvPr/>
        </p:nvSpPr>
        <p:spPr>
          <a:xfrm>
            <a:off x="1368360" y="765000"/>
            <a:ext cx="6486480" cy="110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袁隆平访谈录</a:t>
            </a:r>
            <a:endParaRPr b="1" lang="en-US" sz="1800" spc="-1" strike="noStrike">
              <a:ln w="0">
                <a:noFill/>
              </a:ln>
              <a:solidFill>
                <a:srgbClr val="c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1488240" y="599292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“除了能吃苦以外，搞科学研究还有什么是最重要的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                      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“您能说说自己取得成功的经验吗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                     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1476360" y="2708280"/>
            <a:ext cx="540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勇于创新  攀登高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1547640" y="4292640"/>
            <a:ext cx="60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一往无前  老骥伏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3"/>
          <p:cNvSpPr/>
          <p:nvPr/>
        </p:nvSpPr>
        <p:spPr>
          <a:xfrm>
            <a:off x="250920" y="2844720"/>
            <a:ext cx="86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c00000"/>
                </a:solidFill>
                <a:latin typeface="宋体"/>
              </a:rPr>
              <a:t>感知科学探索的艰辛，感悟科学家的创新精神和一往无前的壮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611280" y="620640"/>
            <a:ext cx="75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、我们通过阅读作者的采访，有些什么样的感悟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5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矩形 4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3313080" cy="923760"/>
          </a:xfrm>
          <a:prstGeom prst="rect">
            <a:avLst/>
          </a:prstGeom>
          <a:ln w="0">
            <a:noFill/>
          </a:ln>
        </p:spPr>
      </p:pic>
      <p:sp>
        <p:nvSpPr>
          <p:cNvPr id="82" name="TextBox 5"/>
          <p:cNvSpPr/>
          <p:nvPr/>
        </p:nvSpPr>
        <p:spPr>
          <a:xfrm>
            <a:off x="324000" y="2133720"/>
            <a:ext cx="82803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9900"/>
                </a:solidFill>
                <a:latin typeface="宋体"/>
              </a:rPr>
              <a:t>、怎样写访谈录？写访谈录的关键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9900"/>
                </a:solidFill>
                <a:latin typeface="宋体"/>
              </a:rPr>
              <a:t>、从主持人对袁隆平的采访中你受到了哪些启示和教育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矩形 3" descr=""/>
          <p:cNvPicPr/>
          <p:nvPr/>
        </p:nvPicPr>
        <p:blipFill>
          <a:blip r:embed="rId1"/>
          <a:stretch/>
        </p:blipFill>
        <p:spPr>
          <a:xfrm>
            <a:off x="338040" y="476280"/>
            <a:ext cx="3672000" cy="92376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368280" y="134136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、袁隆平的精神和品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①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、创新，是中国杂交水稻第一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②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、时刻关心人民，他解决了世界五分之一人口的温饱问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③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、淡泊名利，如果他申请专利的话，或许他现在是中国最富有的人，可是他却把专利无私的贡献给国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④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、对艺术的追求，他擅长小提琴，平时喜欢广博群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⑤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、简朴，即使成为百万富翁，他的生活依旧简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1"/>
          <p:cNvSpPr/>
          <p:nvPr/>
        </p:nvSpPr>
        <p:spPr>
          <a:xfrm>
            <a:off x="2717640" y="5237280"/>
            <a:ext cx="51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3"/>
          <p:cNvSpPr/>
          <p:nvPr/>
        </p:nvSpPr>
        <p:spPr>
          <a:xfrm>
            <a:off x="281160" y="404640"/>
            <a:ext cx="86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、关于奉献的名人名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①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、对人来说，最大的欢乐，最大的幸福是吧自己的精神力量奉献给他人。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苏霍姆林斯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②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、把别人的幸福当做自己的幸福，把鲜花奉献给他人，把荆刺留给自己！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巴尔德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③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、上天赋予的生命，就是要为人类的繁荣和平和幸福而奉献。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松下幸之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4"/>
          <p:cNvSpPr/>
          <p:nvPr/>
        </p:nvSpPr>
        <p:spPr>
          <a:xfrm>
            <a:off x="684360" y="907920"/>
            <a:ext cx="29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课外作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469800" y="1773360"/>
            <a:ext cx="806472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利用课余时间对父母、老师、朋友、同学进行一次采访练习，并做好采访记录，然后班上评选“优秀小记者”和“优秀材料”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C60F-0DD0-4C72-857D-314C167014D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395280" y="16286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他是一位真正的耕耘者。当他还是一个乡村教师的时候，已经具有颠覆世界权威的胆识；当他名满天下的时候，他仍然只是专注于田畴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chóu.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淡泊名利，一介农夫，播撒智慧，收获富足。他毕生的梦想，就是让所有人远离饥饿。喜看稻菽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chù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千重浪，最是风流袁隆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7"/>
          <p:cNvSpPr/>
          <p:nvPr/>
        </p:nvSpPr>
        <p:spPr>
          <a:xfrm>
            <a:off x="1187280" y="345960"/>
            <a:ext cx="6624720" cy="12510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1920960" y="68112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楷体_GB2312"/>
              </a:rPr>
              <a:t>2004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楷体_GB2312"/>
              </a:rPr>
              <a:t>年感动中国人物颁奖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u=739049784,1697110411&amp;fm=9&amp;gp=0"/>
          <p:cNvPicPr/>
          <p:nvPr/>
        </p:nvPicPr>
        <p:blipFill>
          <a:blip r:embed="rId1"/>
          <a:stretch/>
        </p:blipFill>
        <p:spPr>
          <a:xfrm>
            <a:off x="5364000" y="4797360"/>
            <a:ext cx="3565800" cy="186696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pic>
        <p:nvPicPr>
          <p:cNvPr id="55" name="Picture 11" descr="u=1670684392,2056369200&amp;fm=0&amp;gp=0"/>
          <p:cNvPicPr/>
          <p:nvPr/>
        </p:nvPicPr>
        <p:blipFill>
          <a:blip r:embed="rId2"/>
          <a:stretch/>
        </p:blipFill>
        <p:spPr>
          <a:xfrm>
            <a:off x="250920" y="4797360"/>
            <a:ext cx="4105080" cy="1871640"/>
          </a:xfrm>
          <a:prstGeom prst="rect">
            <a:avLst/>
          </a:prstGeom>
          <a:ln w="0">
            <a:noFill/>
          </a:ln>
        </p:spPr>
      </p:pic>
      <p:sp>
        <p:nvSpPr>
          <p:cNvPr id="56" name="日期占位符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0321_34738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747720" y="476280"/>
            <a:ext cx="7705800" cy="3024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468360" y="4285440"/>
            <a:ext cx="82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袁隆平院士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193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月出生于北京，汉族，江西德安人。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95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年毕业于西南农学院，分配到湖南安江农校任教。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96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年开始杂交水稻研究，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97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年调入湖南省农业科学院，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978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年晋升为研究员，被评为全国劳动模范。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99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年当选为中国工程院院士，现任国家杂交水稻工程技术研究中心主任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u=3701720158,2729265163&amp;fm=0&amp;gp=0"/>
          <p:cNvPicPr/>
          <p:nvPr/>
        </p:nvPicPr>
        <p:blipFill>
          <a:blip r:embed="rId1"/>
          <a:stretch/>
        </p:blipFill>
        <p:spPr>
          <a:xfrm>
            <a:off x="468360" y="1628640"/>
            <a:ext cx="7775640" cy="4896000"/>
          </a:xfrm>
          <a:prstGeom prst="rect">
            <a:avLst/>
          </a:prstGeom>
          <a:ln w="0">
            <a:noFill/>
          </a:ln>
        </p:spPr>
      </p:pic>
      <p:sp>
        <p:nvSpPr>
          <p:cNvPr id="60" name="WordArt 6"/>
          <p:cNvSpPr txBox="1"/>
          <p:nvPr/>
        </p:nvSpPr>
        <p:spPr>
          <a:xfrm>
            <a:off x="1763640" y="141120"/>
            <a:ext cx="489600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一份耕耘一份收获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82600" y="222120"/>
            <a:ext cx="846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、用自己喜欢的方式朗读课文，认读课文中的生字词，读通句子。读懂内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287280" y="2133720"/>
            <a:ext cx="8856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严峻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jùn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):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严重。挫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uò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折：失败、失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偏僻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ì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):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远离人口集中居住的地区或远离交通要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抽穗（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uì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。    稻秆  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gǎn)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。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拍摄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hè)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68360" y="90792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童心未泯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ǐn):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泯，消灭，丧失。形容袁隆平乐观开朗的个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领域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yù):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学术思想或社会活动的范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老骥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jì)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伏枥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ì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):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比喻有志的人虽然年老仍有雄心 壮志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468360" y="404640"/>
            <a:ext cx="2519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447840" y="404640"/>
            <a:ext cx="84452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、学习课文，我会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、文章在形式上有什么特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、主持人从哪些方面对袁隆平进行了采访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③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、我们通过阅读作者的采访，有些什么样的感悟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2771640" y="263700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5"/>
          <p:cNvSpPr txBox="1"/>
          <p:nvPr/>
        </p:nvSpPr>
        <p:spPr>
          <a:xfrm>
            <a:off x="793800" y="476280"/>
            <a:ext cx="47512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会回答问题</a:t>
            </a:r>
            <a:endParaRPr b="0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8" name="圆角矩形 4"/>
          <p:cNvSpPr/>
          <p:nvPr/>
        </p:nvSpPr>
        <p:spPr>
          <a:xfrm>
            <a:off x="431640" y="1341360"/>
            <a:ext cx="8352000" cy="374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593640" y="2708280"/>
            <a:ext cx="80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文章是访谈录，记录了采访的过程。是以主持人提问，被采访者回答的形式来组织材料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684360" y="1700280"/>
            <a:ext cx="75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、文章在形式上有什么特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3"/>
          <p:cNvSpPr/>
          <p:nvPr/>
        </p:nvSpPr>
        <p:spPr>
          <a:xfrm>
            <a:off x="250920" y="404640"/>
            <a:ext cx="856908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持人从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五个方面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袁隆平进行了采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“是什么促使您从事这项研究呢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“您的探索之路一定充满了艰辛吧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“您觉得，这个电视剧里的袁隆平是您吗？”（               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1476360" y="15080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热爱祖国   热爱人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1332000" y="253224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不怕困难   不怕失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0"/>
          <p:cNvSpPr/>
          <p:nvPr/>
        </p:nvSpPr>
        <p:spPr>
          <a:xfrm>
            <a:off x="1476360" y="414972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乐观开朗   童心不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9T12:31:5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34:04Z</dcterms:modified>
  <cp:revision>15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