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7882-9840-4C68-AB15-E3CCAC95A3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FF8E-E967-4633-8672-A01FF83203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3A5-B022-4C22-9428-AA76D982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70B-8BF2-4A73-B8DB-C086CAF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AB6-5B17-41A1-ACC2-0BABBF79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CAB-E7E7-4B9F-A3AD-858729AA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CB7-D024-4926-AF23-C32BCAF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D1B-41F7-4C81-9A96-80B0BB0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122-E2CD-4548-853F-EDDEC63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376-73C8-435D-9128-7B59EA24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8C5-853A-4FE3-866D-F86631E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B55-0CD1-4751-BCB3-3DE70E0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5DD-43F8-4DA9-9DE8-91C4B64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874-FE73-463E-8A9C-0F43695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283-762C-4F2B-9CD6-39F86989E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3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16000" y="1268280"/>
            <a:ext cx="5467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咏  柳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343160" y="558792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iushu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细叶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332000" y="3789360"/>
            <a:ext cx="6551640" cy="4208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90792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不知细叶谁裁出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叶：柳树新萌发滋生的又细又嫩的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裁：裁剪。似：好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句的意思是：这细细的嫩叶是谁的巧手剪裁出来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是二月春风这把剪刀裁出来的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-1474920" y="836640"/>
            <a:ext cx="741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435640" y="2492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实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508720" y="3789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724360" y="1052640"/>
            <a:ext cx="24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划分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050920" y="148428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碧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妆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垂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丝绦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春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24000" y="907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赞美柳树，也包含对春天的什么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诗人赞美柳树，也包含对春天的赞美和歌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835280" y="1052640"/>
            <a:ext cx="73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知诗人</a:t>
            </a:r>
            <a:r>
              <a:rPr b="1" lang="en-US" sz="4400" spc="-1" strike="noStrike">
                <a:solidFill>
                  <a:srgbClr val="993300"/>
                </a:solidFill>
                <a:latin typeface="宋体"/>
              </a:rPr>
              <a:t>→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解诗题</a:t>
            </a:r>
            <a:r>
              <a:rPr b="1" lang="en-US" sz="4400" spc="-1" strike="noStrike">
                <a:solidFill>
                  <a:srgbClr val="993300"/>
                </a:solidFill>
                <a:latin typeface="宋体"/>
              </a:rPr>
              <a:t>→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抓字眼</a:t>
            </a:r>
            <a:r>
              <a:rPr b="1" lang="en-US" sz="4400" spc="-1" strike="noStrike">
                <a:solidFill>
                  <a:srgbClr val="993300"/>
                </a:solidFill>
                <a:latin typeface="宋体"/>
              </a:rPr>
              <a:t>→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明诗意</a:t>
            </a:r>
            <a:r>
              <a:rPr b="1" lang="en-US" sz="4400" spc="-1" strike="noStrike">
                <a:solidFill>
                  <a:srgbClr val="993300"/>
                </a:solidFill>
                <a:latin typeface="宋体"/>
              </a:rPr>
              <a:t>→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想意境</a:t>
            </a:r>
            <a:r>
              <a:rPr b="1" lang="en-US" sz="4400" spc="-1" strike="noStrike">
                <a:solidFill>
                  <a:srgbClr val="993300"/>
                </a:solidFill>
                <a:latin typeface="宋体"/>
              </a:rPr>
              <a:t>→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悟诗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39640" y="103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古诗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0941707259477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887120" y="1773360"/>
            <a:ext cx="890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后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咏柳》是唐代诗人（              ）所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请你默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诗：碧玉妆成一树高，（         ）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细叶谁裁出，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：（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似：（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116000" y="1773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还学过哪些描写春天的诗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3d848522ee202130df3e3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5157720"/>
            <a:ext cx="604836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草长莺飞二月天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拂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ú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堤杨柳醉春烟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24000" y="90792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《咏柳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，意思是用诗词的形式描述，在本课是歌颂、赞美的意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08081501292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555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611280" y="5241960"/>
            <a:ext cx="532908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篱落疏疏一径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ng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树头花落未成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083249561823831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ic_254266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0" y="2997360"/>
            <a:ext cx="392436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春眠不觉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处处闻啼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84720" y="476280"/>
            <a:ext cx="4859280" cy="169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两个黄鹂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í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鸣翠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一行白鹭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ù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上青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20061222124816204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3284640"/>
            <a:ext cx="57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日出江花红胜火，                         春来江水绿如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2111YM1N01542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403280" y="3213000"/>
            <a:ext cx="446400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日出江花红胜火，                               春来江水绿如蓝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921119_976720070428045832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20061222124816204"/>
          <p:cNvPicPr/>
          <p:nvPr/>
        </p:nvPicPr>
        <p:blipFill>
          <a:blip r:embed="rId2"/>
          <a:stretch/>
        </p:blipFill>
        <p:spPr>
          <a:xfrm>
            <a:off x="4643280" y="3645000"/>
            <a:ext cx="3527640" cy="335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43d848522ee202130df3e36a"/>
          <p:cNvPicPr/>
          <p:nvPr/>
        </p:nvPicPr>
        <p:blipFill>
          <a:blip r:embed="rId3"/>
          <a:stretch/>
        </p:blipFill>
        <p:spPr>
          <a:xfrm rot="20688600">
            <a:off x="252000" y="259920"/>
            <a:ext cx="2998800" cy="378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J073(2)"/>
          <p:cNvPicPr/>
          <p:nvPr/>
        </p:nvPicPr>
        <p:blipFill>
          <a:blip r:embed="rId4"/>
          <a:stretch/>
        </p:blipFill>
        <p:spPr>
          <a:xfrm rot="889200">
            <a:off x="6335280" y="189000"/>
            <a:ext cx="280836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2111YM1N0154203"/>
          <p:cNvPicPr/>
          <p:nvPr/>
        </p:nvPicPr>
        <p:blipFill>
          <a:blip r:embed="rId5"/>
          <a:stretch/>
        </p:blipFill>
        <p:spPr>
          <a:xfrm>
            <a:off x="4716360" y="3645000"/>
            <a:ext cx="4105440" cy="33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ic_254266"/>
          <p:cNvPicPr/>
          <p:nvPr/>
        </p:nvPicPr>
        <p:blipFill>
          <a:blip r:embed="rId6"/>
          <a:stretch/>
        </p:blipFill>
        <p:spPr>
          <a:xfrm>
            <a:off x="541440" y="3627360"/>
            <a:ext cx="4174920" cy="340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55555"/>
          <p:cNvPicPr/>
          <p:nvPr/>
        </p:nvPicPr>
        <p:blipFill>
          <a:blip r:embed="rId7"/>
          <a:stretch/>
        </p:blipFill>
        <p:spPr>
          <a:xfrm>
            <a:off x="3060720" y="0"/>
            <a:ext cx="34574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24000" y="907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高山流水.wma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35326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900000" y="13413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在诗人贺知章的眼中，春天最美的是柳树，在你的眼中，春天最美的是什么？请写一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高山流水.wma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"/>
          <p:cNvSpPr/>
          <p:nvPr/>
        </p:nvSpPr>
        <p:spPr>
          <a:xfrm>
            <a:off x="2171880" y="976320"/>
            <a:ext cx="56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35326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280" y="1196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春天最美的是水，水碧绿碧绿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（是什么）   （怎么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像一块块无暇（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xi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的翡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(f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ě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i)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（像什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春天最美是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像</a:t>
            </a:r>
            <a:r>
              <a:rPr b="1" lang="zh-CN" sz="3600" spc="-1" strike="noStrike" u="sng">
                <a:solidFill>
                  <a:srgbClr val="993300"/>
                </a:solidFill>
                <a:uFillTx/>
                <a:latin typeface="Arial"/>
              </a:rPr>
              <a:t>                           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331640" y="1267920"/>
            <a:ext cx="64818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作业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收集并积累描写大自然美景的诗。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257-A902-4A1B-94E5-EC2126502C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OOPIC_shunanzhou1988_20090330ac2e276599dd33c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03-02"/>
          <p:cNvPicPr/>
          <p:nvPr/>
        </p:nvPicPr>
        <p:blipFill>
          <a:blip r:embed="rId1"/>
          <a:stretch/>
        </p:blipFill>
        <p:spPr>
          <a:xfrm>
            <a:off x="0" y="117360"/>
            <a:ext cx="9109080" cy="6769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碧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(bì )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妆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(zhuā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丝绦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tāo)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垂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ch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裁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cái)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剪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jiǎ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66816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403280" y="33336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贺知章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5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4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唐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人。字季真，晚年自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明狂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越州永兴（今浙江省萧山）人。少年就以文词而出名。公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擢升进士，做过工部侍郎等官。晚年与李白交友，酒后作诗文，神采飞扬。他工书法，尤善章草隶书。《全唐诗》存其诗一卷，共存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景的诗，较为清新通俗，除本课《咏柳》外，还有《采莲诗》《回乡偶书》广为传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ic_254410[1]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-1258920" y="836640"/>
            <a:ext cx="87105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   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细叶谁裁出，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0" y="907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碧玉妆成一树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的玉，这里把柳树的枝叶比作碧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树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这里不表示数量，表示满、全、整个的意思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句的意思是：高高的柳树，长满了翠绿的新叶，看上去好像用碧玉装扮的一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ic_2544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907920"/>
            <a:ext cx="88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万条垂下绿丝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指柳树枝条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丝织的带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句的意思是：从树上垂下来无数好像绿色丝带一样的柳条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万条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481200" y="2133720"/>
            <a:ext cx="9226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1:43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59Z</dcterms:modified>
  <cp:revision>73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