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7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0.gif" ContentType="image/gif"/>
  <Override PartName="/ppt/media/image13.png" ContentType="image/png"/>
  <Override PartName="/ppt/media/image9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5.png" ContentType="image/png"/>
  <Override PartName="/ppt/media/image2.gif" ContentType="image/gif"/>
  <Override PartName="/ppt/media/image3.gif" ContentType="image/gif"/>
  <Override PartName="/ppt/media/image1.jpeg" ContentType="image/jpeg"/>
  <Override PartName="/ppt/media/image4.gif" ContentType="image/gif"/>
  <Override PartName="/ppt/media/image8.png" ContentType="image/png"/>
  <Override PartName="/ppt/media/image11.jpeg" ContentType="image/jpeg"/>
  <Override PartName="/ppt/media/image6.gif" ContentType="image/gif"/>
  <Override PartName="/ppt/media/image7.gif" ContentType="image/gif"/>
  <Override PartName="/ppt/media/image12.gif" ContentType="image/gi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CD128-3A2D-4C38-9ED6-778B7F9B1A0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14.xml"/><Relationship Id="rId24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63C1D-36B0-4804-A0C8-BA6F4B360A8E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1367-E140-42FF-8DAE-E3DD6E837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F06E-4836-4D8C-943B-1211BDA98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3F5FA4-CD9C-4FEC-8638-C230B5DB4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018CDF-CF4E-41F5-AB4E-E3B613902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5C73FF-1DFF-4152-BE7A-01A236729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FF54CE-4A53-4C8C-9FD4-14831479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2F66A3-5F7A-4AAC-AC2B-FD435C83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E4AF18-8058-4FB3-BBB8-60392C44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9FD646-DFBB-488E-88AD-59214AE39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D3E0E6-852A-441C-B315-95892F817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DD928C-9A1D-496F-AD98-9E07F5361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9C7005-7847-4E24-A116-7C4896021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A865-470E-4437-BA5F-038ECC6AA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914C7B-AC5C-4142-B0B9-1370F8969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058C65-F23E-4A7B-B09D-279607835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1DC456-CD92-431C-974D-01B5A734F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2B1850-A17C-46E9-BCE0-FC61C104F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067822-E458-4380-AFBE-5FE3AD49E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693D7D-A4AF-4CF8-9899-2697B6DF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CA32AA-4DCD-4CA0-8271-2E404CC3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8D4B5B-4E15-4DA7-A0DB-ACE000E7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873FFC-5E63-4019-92DA-1C3D9A955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D3E174-645B-4DB4-8AE4-9A9FF482C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F800-A9BE-4FCF-9838-15D4E9B91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9C65FE-A469-46F1-B924-619561075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FEADB8-139B-469C-8CCA-9C7CE5332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7D5CCA-7CE9-4BF0-AEF3-5FE91C2A6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D55055-8FBC-4E55-9316-3970C998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E78DEF-4C63-4D93-8990-0E81397BF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D60859-E5A4-4B6E-91B3-C64A4B01C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70650E-954C-4D15-AD40-BE5D2DC2A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978BF7-BE20-4CE3-B570-E699D467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7C011A-F858-4E0F-B0AC-B856617C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5889FD-03D3-4A5A-B84F-D05E031C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B3130-6B43-4424-A3FA-18F9DDE4A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F1125C-C888-46A9-B9C0-82C289F73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C0F87A-E011-4D11-8755-AD305900A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443BBC-546D-43C6-9B87-FAB3D9601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2699FA-A072-40D5-AD80-E5B6B7C15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412CBF-C90E-4E1A-ADA5-455B1D3E6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8BB5C0-C347-49CD-90C2-8A2EEE8D2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717A51-C47D-498D-B9CF-888887755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6D128F-683B-4AAC-B4FD-021A26B5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E0551F-FC0F-42F4-9E26-444FD22EB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B3CE3A-DF27-4436-81D3-D6B4D4BB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A0DC6-DC34-4D24-975D-98F06673D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5DE868-8F67-4906-B981-529CD339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491273-4C62-433F-9C20-C5DA4DB8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F6C0CD-B543-423B-8FC7-9D5E432DB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9C4823-CAC0-4F09-82C0-0EF7AA018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B34201-5F62-4F89-AE98-128DDD88F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21239-13F2-4F19-B3C9-4C323A199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8750F-B52A-4170-A502-836965538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0D816-6EB9-486A-95A2-E54EE5BEA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20702-956A-4013-A438-60AF3541E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7A4C6-E917-49C3-BA97-817EC0A4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191E-5622-4349-A9FA-370159997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ECEB0-F730-4CD4-A3E4-772780A4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90CEE-60E5-4D8E-A064-3D8ECDE5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AC0FC-F73D-4616-ABB2-F0D37FF0B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2B48B-787A-4F17-9334-078010070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D459C-94AF-4DC4-A0B5-78B3EC679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B119F-4D8F-43B3-8655-5B82DF861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EDE51-7EB4-4649-81A0-E6E48E640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E686F-0971-41A6-9046-DBF5220AE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43E9A-3FE3-418F-AA4B-086E79F93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57B1E-0688-4480-89E7-547AC3C82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2052-E746-4877-A02C-A1888DFD6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0D7FB-FC0B-4BAD-A5EE-35FBB5550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19D75-8B60-44E9-B332-A9BE0C7A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EF192-F5D0-4788-85B7-CA67237C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5E723-D851-4AED-B07B-7B6E34D2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DA765-443E-49F9-85D7-C11FA6381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C13D3-3A51-4173-A384-4ACE608B3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F0251-5F4F-4A09-A768-178746DE7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1DF90-1A10-468A-B26F-ED052F2B0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D02FD-DA0B-45C5-B792-815F5E60A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C23E9-BA19-4378-AF89-8C4E1BF51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C1E3-B28D-499C-9D07-CD58EB9DF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63F51-6012-47BA-A506-B81A64D60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C0BCD-C1E5-4BCB-9C8A-28561ECCC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8379A-E344-4DCD-AB33-FE9A1023F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76020-0BC3-4F69-8B1E-16177CDB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85A97-93B4-4611-9D12-C3D215FE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F07EB-1957-4FBD-BCC3-4C97F0DC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1E3E3-4453-4CD1-A9BB-CBB74DE45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28861-E460-43C6-A347-06AAE6482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9BE08-CC86-43BE-9148-B3C967896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2B9E1-C1E5-4C81-9745-93AA302A4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B5A4-0F76-41C3-B10F-B03A712C3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85152-2912-42D3-AFD5-5253C5C2A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93E6E-4B7B-4349-BAEA-1C32ACC2D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36A09-D85A-4642-91E6-3282BF687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68F2C-7A92-4F88-8050-3687E6B41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0447D-8363-4819-9DE9-8BFED5CA7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2F3CD-7FA1-4564-B346-5749DE91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D64AD0-0641-4B47-AE0C-BD4F9662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451C2-3516-4ACE-8954-1BBAD724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9D953-0C75-4FC0-A75C-6A0445272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55244-7221-4086-9D75-EE72973EA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30C6-AD8D-42C4-BFB3-EF9CC5FFE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E0701-4B18-41E3-B5BA-ADD463A46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7732C-01D0-4FAE-AC3D-09806F18C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CB8C8-53CB-4622-A370-DC2CF08F7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1101D-D9FD-4310-8530-39ECBC7D2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4DDC0-0227-47AA-AAC4-556170D72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28E91-D16F-4F32-9B50-454FE323A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3D50F5-3D24-4262-BECB-A664D79E8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2FFB9-8716-46AB-8773-F944BEE4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C65E1F-F194-41A1-87DB-DB26282C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7EBB3-B87B-43B9-B0BC-8072A661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43DB-3646-449B-BA75-5598A48E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64906-A004-4B77-B358-BA0847DCE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37FF7-76C9-42A6-AE80-04BA3A895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384EB-7008-411C-B016-78356765A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2905D6-BC2A-4B49-8634-D5BD5DC65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2FA81-E199-4D67-999F-3CE32F77F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FCDBE-A8DB-4207-9913-AE5AC8B9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B17AD-C927-4EA5-A1B5-B0A2404F0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829201-C420-411C-AC9E-BB312AC30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FE8048-1519-4215-8FD4-621750808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D842F4-0F1D-4554-9BD3-7CDC3004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E74B-95EE-498B-8AE4-308EC48E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89346-7077-447D-802B-C26D6963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201E3-D617-4663-93DD-627334DE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3D822D-97D6-48F5-867D-B58F95338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FF0179-BA51-4246-BD3E-6F7591D38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C018F-F1D4-4D3D-9F40-B7B16D083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7B35C5-92F8-4C6A-8C5E-7D2766086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A39325-24F0-4219-AC99-E15255A5A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9EEC9F-E2B0-402B-B7BB-4DAD43689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6AA3DE-0100-4C08-AB82-F74B4D8BE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AF028F-1938-498B-859C-1CD65FD38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A915-F08B-4BC6-AE28-51A8463A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EA51F1-8152-4605-A282-0B03F112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7229D-562B-4638-B7A3-5CE311DA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7DFC71-1AC6-4862-9A20-5C12711D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C82D0B-B028-414F-8889-1CFD10BD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7EE41C-4CA3-4082-B1AB-4094A24E7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97DEFF-783A-4A54-BF35-9C95D5C0F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E771CB-A9B8-44C3-86EC-B0ECF6FB1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C83497-5C86-43BC-9E40-66226A4B3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3183D0-C42B-4538-8CE7-31C0D195A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67A289-F00F-4FDE-981D-192548922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06AE5-B302-403E-AF8B-6F463792DB2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9AA83-C9C3-410C-B3FD-102D690EA32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E1974-9EA4-4434-B791-CCE946D03DD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C214F-F5D8-43A7-906A-7E15743DD44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08E3C-14CA-44A5-BD9C-AA6D7F43532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CC256-7188-4298-BC18-62FD89A0861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A27F3-9B1E-4F6C-B269-DF81F153A35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3E6B3-397E-4C01-802D-D4DC3BCD46D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3B187-E219-452B-9E56-4E0048BE19C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79FBF-F919-4CB2-83F2-2C12EF47180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71270-7E23-4912-8565-8B0A71A4423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ABBDD-7AE6-4B22-898F-989AD0292E0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baike.baidu.com/view/16892.htm" TargetMode="External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19.xml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2.xml"/><Relationship Id="rId3" Type="http://schemas.openxmlformats.org/officeDocument/2006/relationships/slide" Target="slide23.xml"/><Relationship Id="rId4" Type="http://schemas.openxmlformats.org/officeDocument/2006/relationships/slide" Target="slide24.xml"/><Relationship Id="rId5" Type="http://schemas.openxmlformats.org/officeDocument/2006/relationships/slide" Target="slide25.xml"/><Relationship Id="rId6" Type="http://schemas.openxmlformats.org/officeDocument/2006/relationships/slide" Target="slide26.xml"/><Relationship Id="rId7" Type="http://schemas.openxmlformats.org/officeDocument/2006/relationships/slide" Target="slide27.xml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2" descr="200752443254166"/>
          <p:cNvPicPr/>
          <p:nvPr/>
        </p:nvPicPr>
        <p:blipFill>
          <a:blip r:embed="rId1"/>
          <a:stretch/>
        </p:blipFill>
        <p:spPr>
          <a:xfrm>
            <a:off x="3657600" y="1752480"/>
            <a:ext cx="857160" cy="234324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3" descr="200752443254166"/>
          <p:cNvPicPr/>
          <p:nvPr/>
        </p:nvPicPr>
        <p:blipFill>
          <a:blip r:embed="rId2"/>
          <a:stretch/>
        </p:blipFill>
        <p:spPr>
          <a:xfrm>
            <a:off x="1066680" y="1600200"/>
            <a:ext cx="857520" cy="2343240"/>
          </a:xfrm>
          <a:prstGeom prst="rect">
            <a:avLst/>
          </a:prstGeom>
          <a:ln w="0">
            <a:noFill/>
          </a:ln>
        </p:spPr>
      </p:pic>
      <p:sp>
        <p:nvSpPr>
          <p:cNvPr id="501" name="Text Box 4"/>
          <p:cNvSpPr/>
          <p:nvPr/>
        </p:nvSpPr>
        <p:spPr>
          <a:xfrm>
            <a:off x="533520" y="2019240"/>
            <a:ext cx="5715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5050"/>
                </a:solidFill>
                <a:latin typeface="华文中宋"/>
                <a:ea typeface="华文中宋"/>
              </a:rPr>
              <a:t>有趣的班会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矩形 4"/>
          <p:cNvSpPr/>
          <p:nvPr/>
        </p:nvSpPr>
        <p:spPr>
          <a:xfrm>
            <a:off x="680760" y="563868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Arial"/>
              </a:rPr>
              <a:t>考一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609120" y="13712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看拼音写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yāo qǐng   yào  shi    xuán guà   tán qí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邀请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(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钥匙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    (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悬挂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 (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弹琴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jù  jué    sī wéi    zhēng xiān kǒng hò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拒绝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   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思维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   (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争   先      恐     后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à  hàn lín lí              hǎi  kuò tiān kō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   汗  淋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             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海  阔   天   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28600" y="9140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讨  论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读一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然段，讨论，班会的 “趣”体现在哪两个地方？并画出相 关 语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4" descr="20051010193029435"/>
          <p:cNvPicPr/>
          <p:nvPr/>
        </p:nvPicPr>
        <p:blipFill>
          <a:blip r:embed="rId1"/>
          <a:stretch/>
        </p:blipFill>
        <p:spPr>
          <a:xfrm>
            <a:off x="5410080" y="4648320"/>
            <a:ext cx="3733920" cy="18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604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班会的“趣”体现在什么地方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班会的名字有趣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奇思妙想出发明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班会上有特邀嘉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陈思 ，十二岁，小发明家，有三项发明制作获得国家专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班会上，陈思同学讲了一个怎样的故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爱迪生年幼时与同伴做让人充气升天实验的故事，人们根据这个实验发明了送人上天的气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2"/>
          <p:cNvSpPr/>
          <p:nvPr/>
        </p:nvSpPr>
        <p:spPr>
          <a:xfrm>
            <a:off x="611280" y="2276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用自己喜欢的方式读课文，勾画出文中你认为有趣的内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讨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这次班会的同学们提出了哪些奇思妙想？完成图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3"/>
          <p:cNvSpPr/>
          <p:nvPr/>
        </p:nvSpPr>
        <p:spPr>
          <a:xfrm>
            <a:off x="395280" y="1125360"/>
            <a:ext cx="4967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精读课文，感悟班会的“趣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3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3" name=""/>
          <p:cNvGraphicFramePr/>
          <p:nvPr/>
        </p:nvGraphicFramePr>
        <p:xfrm>
          <a:off x="539640" y="1197000"/>
          <a:ext cx="8136000" cy="3965400"/>
        </p:xfrm>
        <a:graphic>
          <a:graphicData uri="http://schemas.openxmlformats.org/drawingml/2006/table">
            <a:tbl>
              <a:tblPr/>
              <a:tblGrid>
                <a:gridCol w="1309680"/>
                <a:gridCol w="4071960"/>
                <a:gridCol w="2754360"/>
              </a:tblGrid>
              <a:tr h="42696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8000"/>
                          </a:solidFill>
                          <a:latin typeface="宋体"/>
                          <a:ea typeface="Times New Roman"/>
                        </a:rPr>
                        <a:t>奇思妙想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8000"/>
                          </a:solidFill>
                          <a:latin typeface="宋体"/>
                          <a:ea typeface="Times New Roman"/>
                        </a:rPr>
                        <a:t>功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 rowSpan="5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8000"/>
                          </a:solidFill>
                          <a:latin typeface="宋体"/>
                          <a:ea typeface="楷体_GB2312"/>
                        </a:rPr>
                        <a:t>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8000"/>
                          </a:solidFill>
                          <a:latin typeface="宋体"/>
                          <a:ea typeface="楷体_GB2312"/>
                        </a:rPr>
                        <a:t>学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8000"/>
                          </a:solidFill>
                          <a:latin typeface="宋体"/>
                          <a:ea typeface="楷体_GB2312"/>
                        </a:rPr>
                        <a:t>们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8000"/>
                          </a:solidFill>
                          <a:latin typeface="宋体"/>
                          <a:ea typeface="楷体_GB2312"/>
                        </a:rPr>
                        <a:t>的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8000"/>
                          </a:solidFill>
                          <a:latin typeface="宋体"/>
                          <a:ea typeface="楷体_GB2312"/>
                        </a:rPr>
                        <a:t>奇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8000"/>
                          </a:solidFill>
                          <a:latin typeface="宋体"/>
                          <a:ea typeface="楷体_GB2312"/>
                        </a:rPr>
                        <a:t>思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8000"/>
                          </a:solidFill>
                          <a:latin typeface="宋体"/>
                          <a:ea typeface="楷体_GB2312"/>
                        </a:rPr>
                        <a:t>妙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8000"/>
                          </a:solidFill>
                          <a:latin typeface="宋体"/>
                          <a:ea typeface="楷体_GB2312"/>
                        </a:rPr>
                        <a:t>想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8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zh-CN" sz="2200" spc="-1" strike="noStrike">
                          <a:solidFill>
                            <a:srgbClr val="008000"/>
                          </a:solidFill>
                          <a:latin typeface="楷体_GB2312"/>
                          <a:ea typeface="楷体_GB2312"/>
                        </a:rPr>
                        <a:t>我的奇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8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zh-CN" sz="2200" spc="-1" strike="noStrike">
                          <a:solidFill>
                            <a:srgbClr val="008000"/>
                          </a:solidFill>
                          <a:latin typeface="楷体_GB2312"/>
                          <a:ea typeface="楷体_GB2312"/>
                        </a:rPr>
                        <a:t>思妙想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44" name="Text Box 30"/>
          <p:cNvSpPr/>
          <p:nvPr/>
        </p:nvSpPr>
        <p:spPr>
          <a:xfrm>
            <a:off x="900000" y="522936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  <a:ea typeface="楷体_GB2312"/>
              </a:rPr>
              <a:t>填好后，与小组同学交流一下自己的看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  <a:ea typeface="楷体_GB2312"/>
              </a:rPr>
              <a:t>评一评，在这些奇思妙想中，你对哪一项最感兴趣？为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4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5" name=""/>
          <p:cNvGraphicFramePr/>
          <p:nvPr/>
        </p:nvGraphicFramePr>
        <p:xfrm>
          <a:off x="539640" y="1197000"/>
          <a:ext cx="8136000" cy="4724280"/>
        </p:xfrm>
        <a:graphic>
          <a:graphicData uri="http://schemas.openxmlformats.org/drawingml/2006/table">
            <a:tbl>
              <a:tblPr/>
              <a:tblGrid>
                <a:gridCol w="1309680"/>
                <a:gridCol w="4071960"/>
                <a:gridCol w="2754360"/>
              </a:tblGrid>
              <a:tr h="42696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8000"/>
                          </a:solidFill>
                          <a:latin typeface="宋体"/>
                          <a:ea typeface="Times New Roman"/>
                        </a:rPr>
                        <a:t>奇思妙想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8000"/>
                          </a:solidFill>
                          <a:latin typeface="宋体"/>
                          <a:ea typeface="Times New Roman"/>
                        </a:rPr>
                        <a:t>功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 rowSpan="5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8000"/>
                          </a:solidFill>
                          <a:latin typeface="宋体"/>
                          <a:ea typeface="楷体_GB2312"/>
                        </a:rPr>
                        <a:t>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8000"/>
                          </a:solidFill>
                          <a:latin typeface="宋体"/>
                          <a:ea typeface="楷体_GB2312"/>
                        </a:rPr>
                        <a:t>学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8000"/>
                          </a:solidFill>
                          <a:latin typeface="宋体"/>
                          <a:ea typeface="楷体_GB2312"/>
                        </a:rPr>
                        <a:t>们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8000"/>
                          </a:solidFill>
                          <a:latin typeface="宋体"/>
                          <a:ea typeface="楷体_GB2312"/>
                        </a:rPr>
                        <a:t>的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8000"/>
                          </a:solidFill>
                          <a:latin typeface="宋体"/>
                          <a:ea typeface="楷体_GB2312"/>
                        </a:rPr>
                        <a:t>奇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8000"/>
                          </a:solidFill>
                          <a:latin typeface="宋体"/>
                          <a:ea typeface="楷体_GB2312"/>
                        </a:rPr>
                        <a:t>思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8000"/>
                          </a:solidFill>
                          <a:latin typeface="宋体"/>
                          <a:ea typeface="楷体_GB2312"/>
                        </a:rPr>
                        <a:t>妙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8000"/>
                          </a:solidFill>
                          <a:latin typeface="宋体"/>
                          <a:ea typeface="楷体_GB2312"/>
                        </a:rPr>
                        <a:t>想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像金箍棒的书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能大能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会说话的钥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能自己说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像气球的旅行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能悬在空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不怕摔的眼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摔地上自动弹上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给马路安个拉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可以随时打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8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zh-CN" sz="2200" spc="-1" strike="noStrike">
                          <a:solidFill>
                            <a:srgbClr val="008000"/>
                          </a:solidFill>
                          <a:latin typeface="楷体_GB2312"/>
                          <a:ea typeface="楷体_GB2312"/>
                        </a:rPr>
                        <a:t>我的奇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8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zh-CN" sz="2200" spc="-1" strike="noStrike">
                          <a:solidFill>
                            <a:srgbClr val="008000"/>
                          </a:solidFill>
                          <a:latin typeface="楷体_GB2312"/>
                          <a:ea typeface="楷体_GB2312"/>
                        </a:rPr>
                        <a:t>思妙想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46" name="Text Box 30"/>
          <p:cNvSpPr/>
          <p:nvPr/>
        </p:nvSpPr>
        <p:spPr>
          <a:xfrm>
            <a:off x="900000" y="5229360"/>
            <a:ext cx="7632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9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4920" y="1523880"/>
            <a:ext cx="8540640" cy="1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精读课文，感悟班会的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趣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456840" y="2309400"/>
            <a:ext cx="7929720" cy="28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发明，从来不拒绝那些奇妙的设想。只要敢于去想，即使实现不了也没什么要紧，重要的是锻炼我们突破条条框框的思维能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</a:rPr>
              <a:t>总结全文，拓展延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5720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26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1.   </a:t>
            </a:r>
            <a:r>
              <a:rPr b="1" lang="zh-CN" sz="4100" spc="-1" strike="noStrike">
                <a:solidFill>
                  <a:srgbClr val="000000"/>
                </a:solidFill>
                <a:latin typeface="Arial"/>
              </a:rPr>
              <a:t>分角色朗读课文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100" spc="-1" strike="noStrike">
                <a:solidFill>
                  <a:srgbClr val="000000"/>
                </a:solidFill>
                <a:latin typeface="Arial"/>
              </a:rPr>
              <a:t>．以小组为单位，说说自己还知道哪些发明创造也是源自奇思妙想的。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</a:rPr>
              <a:t>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</a:rPr>
              <a:t>                                               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弹琴    弹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4100" spc="-1" strike="noStrike">
                <a:solidFill>
                  <a:srgbClr val="000000"/>
                </a:solidFill>
                <a:latin typeface="Arial"/>
              </a:rPr>
              <a:t>弹</a:t>
            </a:r>
            <a:r>
              <a:rPr b="0" lang="zh-CN" sz="37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ff"/>
                </a:solidFill>
                <a:latin typeface="Arial"/>
              </a:rPr>
              <a:t>        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ff"/>
                </a:solidFill>
                <a:latin typeface="Arial"/>
              </a:rPr>
              <a:t>                                              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子弹    弹弓</a:t>
            </a:r>
            <a:r>
              <a:rPr b="0" lang="zh-CN" sz="3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4"/>
          <p:cNvSpPr/>
          <p:nvPr/>
        </p:nvSpPr>
        <p:spPr>
          <a:xfrm>
            <a:off x="2971800" y="2286000"/>
            <a:ext cx="914400" cy="609480"/>
          </a:xfrm>
          <a:prstGeom prst="wedgeRectCallout">
            <a:avLst>
              <a:gd name="adj1" fmla="val -102953"/>
              <a:gd name="adj2" fmla="val 110157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5"/>
          <p:cNvSpPr/>
          <p:nvPr/>
        </p:nvSpPr>
        <p:spPr>
          <a:xfrm>
            <a:off x="2895480" y="4038480"/>
            <a:ext cx="1295640" cy="762120"/>
          </a:xfrm>
          <a:prstGeom prst="wedgeEllipseCallout">
            <a:avLst>
              <a:gd name="adj1" fmla="val -78430"/>
              <a:gd name="adj2" fmla="val -87916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à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6"/>
          <p:cNvSpPr/>
          <p:nvPr/>
        </p:nvSpPr>
        <p:spPr>
          <a:xfrm>
            <a:off x="1181520" y="4716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多音字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自学提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出生字词以及四字词语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标好段号，把不懂的地方画上记号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正确、流利地朗读课文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思考：课文讲了一件什么事情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4" descr="2009042412385876"/>
          <p:cNvPicPr/>
          <p:nvPr/>
        </p:nvPicPr>
        <p:blipFill>
          <a:blip r:embed="rId1"/>
          <a:stretch/>
        </p:blipFill>
        <p:spPr>
          <a:xfrm>
            <a:off x="7953480" y="2438280"/>
            <a:ext cx="1190520" cy="441972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5" descr="200752443254166"/>
          <p:cNvPicPr/>
          <p:nvPr/>
        </p:nvPicPr>
        <p:blipFill>
          <a:blip r:embed="rId2"/>
          <a:stretch/>
        </p:blipFill>
        <p:spPr>
          <a:xfrm>
            <a:off x="3962520" y="3657600"/>
            <a:ext cx="85716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380880" y="1523880"/>
            <a:ext cx="73915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zh-CN" sz="3700" spc="-1" strike="noStrike">
                <a:solidFill>
                  <a:srgbClr val="cc9900"/>
                </a:solidFill>
                <a:latin typeface="Arial"/>
              </a:rPr>
              <a:t>钥匙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4100" spc="-1" strike="noStrike">
                <a:solidFill>
                  <a:srgbClr val="000000"/>
                </a:solidFill>
                <a:latin typeface="Arial"/>
              </a:rPr>
              <a:t>钥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1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zh-CN" sz="3700" spc="-1" strike="noStrike">
                <a:solidFill>
                  <a:srgbClr val="3399ff"/>
                </a:solidFill>
                <a:latin typeface="Arial"/>
              </a:rPr>
              <a:t>锁钥</a:t>
            </a:r>
            <a:r>
              <a:rPr b="0" lang="zh-CN" sz="3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1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AutoShape 3"/>
          <p:cNvSpPr/>
          <p:nvPr/>
        </p:nvSpPr>
        <p:spPr>
          <a:xfrm>
            <a:off x="3505320" y="4267080"/>
            <a:ext cx="1523880" cy="914400"/>
          </a:xfrm>
          <a:prstGeom prst="wedgeRoundRectCallout">
            <a:avLst>
              <a:gd name="adj1" fmla="val -78541"/>
              <a:gd name="adj2" fmla="val -86287"/>
              <a:gd name="adj3" fmla="val 166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u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4"/>
          <p:cNvSpPr/>
          <p:nvPr/>
        </p:nvSpPr>
        <p:spPr>
          <a:xfrm>
            <a:off x="3581280" y="2209680"/>
            <a:ext cx="1600200" cy="1143000"/>
          </a:xfrm>
          <a:prstGeom prst="cloudCallout">
            <a:avLst>
              <a:gd name="adj1" fmla="val -93055"/>
              <a:gd name="adj2" fmla="val 2902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à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5"/>
          <p:cNvSpPr/>
          <p:nvPr/>
        </p:nvSpPr>
        <p:spPr>
          <a:xfrm>
            <a:off x="1181520" y="4572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多音字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奇思妙想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í sī miào  xiǎ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思维散发与众不同的观点想法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4" descr="向日葵"/>
          <p:cNvPicPr/>
          <p:nvPr/>
        </p:nvPicPr>
        <p:blipFill>
          <a:blip r:embed="rId1"/>
          <a:stretch/>
        </p:blipFill>
        <p:spPr>
          <a:xfrm>
            <a:off x="5638680" y="3809880"/>
            <a:ext cx="32036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6600ff"/>
                </a:solidFill>
                <a:latin typeface="Arial"/>
              </a:rPr>
              <a:t>争先恐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hēng xiān kǒng hò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争着向前，唯恐落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4" descr="01-09-008-04.gif (22138 字节)"/>
          <p:cNvPicPr/>
          <p:nvPr/>
        </p:nvPicPr>
        <p:blipFill>
          <a:blip r:embed="rId1"/>
          <a:stretch/>
        </p:blipFill>
        <p:spPr>
          <a:xfrm>
            <a:off x="6629400" y="3809880"/>
            <a:ext cx="16765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 txBox="1"/>
          <p:nvPr/>
        </p:nvSpPr>
        <p:spPr>
          <a:xfrm>
            <a:off x="609480" y="2133720"/>
            <a:ext cx="784872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à  hàn lín l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汗水往下滴，形容汗很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4920" y="990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大汗淋漓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4" descr="课件素材"/>
          <p:cNvPicPr/>
          <p:nvPr/>
        </p:nvPicPr>
        <p:blipFill>
          <a:blip r:embed="rId1"/>
          <a:stretch/>
        </p:blipFill>
        <p:spPr>
          <a:xfrm>
            <a:off x="6095880" y="4191120"/>
            <a:ext cx="262728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2"/>
          <p:cNvSpPr/>
          <p:nvPr/>
        </p:nvSpPr>
        <p:spPr>
          <a:xfrm>
            <a:off x="609480" y="68580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f2d07"/>
                </a:solidFill>
                <a:latin typeface="Arial"/>
                <a:ea typeface="宋体"/>
              </a:rPr>
              <a:t>没完没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3"/>
          <p:cNvSpPr/>
          <p:nvPr/>
        </p:nvSpPr>
        <p:spPr>
          <a:xfrm>
            <a:off x="60948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éi  wán méi liǎ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没有完结的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意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4" descr="c007460c27439cf686d6b6c0"/>
          <p:cNvPicPr/>
          <p:nvPr/>
        </p:nvPicPr>
        <p:blipFill>
          <a:blip r:embed="rId2"/>
          <a:stretch/>
        </p:blipFill>
        <p:spPr>
          <a:xfrm>
            <a:off x="5562720" y="304920"/>
            <a:ext cx="30477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cc0099"/>
                </a:solidFill>
                <a:latin typeface="Arial"/>
              </a:rPr>
              <a:t>稀奇古怪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ī   qí gǔ  guà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事物少见奇怪，与一般事物不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4" descr="2009042412385388"/>
          <p:cNvPicPr/>
          <p:nvPr/>
        </p:nvPicPr>
        <p:blipFill>
          <a:blip r:embed="rId1"/>
          <a:stretch/>
        </p:blipFill>
        <p:spPr>
          <a:xfrm>
            <a:off x="7162920" y="3429000"/>
            <a:ext cx="12189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333399"/>
                </a:solidFill>
                <a:latin typeface="Arial"/>
              </a:rPr>
              <a:t>海阔天空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914040" y="2133720"/>
            <a:ext cx="7620120" cy="24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ǎi  kuò tiān kō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像海一样阔，像天一样没有边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4" descr="2009042412394273"/>
          <p:cNvPicPr/>
          <p:nvPr/>
        </p:nvPicPr>
        <p:blipFill>
          <a:blip r:embed="rId1"/>
          <a:stretch/>
        </p:blipFill>
        <p:spPr>
          <a:xfrm>
            <a:off x="7010280" y="4114800"/>
            <a:ext cx="1600200" cy="1981080"/>
          </a:xfrm>
          <a:prstGeom prst="rect">
            <a:avLst/>
          </a:prstGeom>
          <a:ln w="0">
            <a:noFill/>
          </a:ln>
        </p:spPr>
      </p:pic>
      <p:sp>
        <p:nvSpPr>
          <p:cNvPr id="578" name="文本框 1"/>
          <p:cNvSpPr/>
          <p:nvPr/>
        </p:nvSpPr>
        <p:spPr>
          <a:xfrm>
            <a:off x="701640" y="4923000"/>
            <a:ext cx="52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2"/>
          <p:cNvSpPr/>
          <p:nvPr/>
        </p:nvSpPr>
        <p:spPr>
          <a:xfrm>
            <a:off x="380880" y="1143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条条框框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3"/>
          <p:cNvSpPr/>
          <p:nvPr/>
        </p:nvSpPr>
        <p:spPr>
          <a:xfrm>
            <a:off x="304920" y="20574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áo   tiáo  kuàng  kuà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束缚人的各种规章制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4" descr="01-09-008-04.gif (22138 字节)"/>
          <p:cNvPicPr/>
          <p:nvPr/>
        </p:nvPicPr>
        <p:blipFill>
          <a:blip r:embed="rId1"/>
          <a:stretch/>
        </p:blipFill>
        <p:spPr>
          <a:xfrm>
            <a:off x="6629400" y="3809880"/>
            <a:ext cx="16765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商务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CC36D-71A3-44CD-A483-4E90BD97F98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685800" y="1003320"/>
            <a:ext cx="822960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Arial"/>
              </a:rPr>
              <a:t>yāo    zhì      gǎo     yòu     qián   yào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Arial"/>
              </a:rPr>
              <a:t>邀      制       搞      幼      钱        </a:t>
            </a:r>
            <a:r>
              <a:rPr b="0" lang="zh-CN" sz="37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钥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Arial"/>
              </a:rPr>
              <a:t>lǔ      xuán    tán     jù       shè       wé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Arial"/>
              </a:rPr>
              <a:t>旅      悬      </a:t>
            </a:r>
            <a:r>
              <a:rPr b="0" lang="zh-CN" sz="37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弹</a:t>
            </a:r>
            <a:r>
              <a:rPr b="1" lang="zh-CN" sz="3700" spc="-1" strike="noStrike">
                <a:solidFill>
                  <a:srgbClr val="000000"/>
                </a:solidFill>
                <a:latin typeface="Arial"/>
              </a:rPr>
              <a:t>      拒        设        维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3" descr="20051010193113165"/>
          <p:cNvPicPr/>
          <p:nvPr/>
        </p:nvPicPr>
        <p:blipFill>
          <a:blip r:embed="rId3"/>
          <a:stretch/>
        </p:blipFill>
        <p:spPr>
          <a:xfrm>
            <a:off x="6477120" y="228600"/>
            <a:ext cx="144144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" dur="500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2"/>
          <p:cNvSpPr/>
          <p:nvPr/>
        </p:nvSpPr>
        <p:spPr>
          <a:xfrm>
            <a:off x="990720" y="1981080"/>
            <a:ext cx="33526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邀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特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制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制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搞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搞小制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幼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年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钱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钱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钥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钥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3"/>
          <p:cNvSpPr/>
          <p:nvPr/>
        </p:nvSpPr>
        <p:spPr>
          <a:xfrm>
            <a:off x="4800600" y="1981080"/>
            <a:ext cx="3200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旅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旅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悬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悬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弹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弹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拒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拒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设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设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维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思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你还能组别的词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4"/>
          <p:cNvSpPr/>
          <p:nvPr/>
        </p:nvSpPr>
        <p:spPr>
          <a:xfrm>
            <a:off x="2286000" y="68580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幼圆"/>
              </a:rPr>
              <a:t>课文中的组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5" descr="月亮"/>
          <p:cNvPicPr/>
          <p:nvPr/>
        </p:nvPicPr>
        <p:blipFill>
          <a:blip r:embed="rId1"/>
          <a:stretch/>
        </p:blipFill>
        <p:spPr>
          <a:xfrm>
            <a:off x="7010280" y="457200"/>
            <a:ext cx="143352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" dur="5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" dur="500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500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5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" dur="500"/>
                                        <p:tgtEl>
                                          <p:spTgt spid="5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6840" y="-152280"/>
            <a:ext cx="7792920" cy="168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你还能组别的词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685800" y="1523520"/>
            <a:ext cx="83073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邀请   受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制度  制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搞好  搞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幼儿   幼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金钱  挣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钥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4038480" y="1523880"/>
            <a:ext cx="4119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旅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悬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悬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弹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来者不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设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维持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" dur="5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500"/>
                            </p:stCondLst>
                            <p:childTnLst>
                              <p:par>
                                <p:cTn id="13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500"/>
                            </p:stCondLst>
                            <p:childTnLst>
                              <p:par>
                                <p:cTn id="141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500"/>
                            </p:stCondLst>
                            <p:childTnLst>
                              <p:par>
                                <p:cTn id="149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5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6000"/>
                            </p:stCondLst>
                            <p:childTnLst>
                              <p:par>
                                <p:cTn id="153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5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6500"/>
                            </p:stCondLst>
                            <p:childTnLst>
                              <p:par>
                                <p:cTn id="157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5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四字词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1219320" y="1981080"/>
            <a:ext cx="2133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奇思妙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争先恐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大汗淋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没完没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稀奇古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海阔天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条条框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3657600" y="19051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5" descr="20051010193901677"/>
          <p:cNvPicPr/>
          <p:nvPr/>
        </p:nvPicPr>
        <p:blipFill>
          <a:blip r:embed="rId8"/>
          <a:stretch/>
        </p:blipFill>
        <p:spPr>
          <a:xfrm>
            <a:off x="2819520" y="2438280"/>
            <a:ext cx="52387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矩形 8"/>
          <p:cNvSpPr/>
          <p:nvPr/>
        </p:nvSpPr>
        <p:spPr>
          <a:xfrm>
            <a:off x="1828800" y="472428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比一比，谁读得最棒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1066680" y="2133360"/>
            <a:ext cx="38102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男女生各读一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要求流利、带有感情的朗读 。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4" descr="Gif0405_105"/>
          <p:cNvPicPr/>
          <p:nvPr/>
        </p:nvPicPr>
        <p:blipFill>
          <a:blip r:embed="rId1"/>
          <a:stretch/>
        </p:blipFill>
        <p:spPr>
          <a:xfrm>
            <a:off x="5181480" y="2666880"/>
            <a:ext cx="3657600" cy="3381480"/>
          </a:xfrm>
          <a:prstGeom prst="rect">
            <a:avLst/>
          </a:prstGeom>
          <a:ln w="0">
            <a:noFill/>
          </a:ln>
        </p:spPr>
      </p:pic>
      <p:pic>
        <p:nvPicPr>
          <p:cNvPr id="524" name="最好的轻音乐 Adagio 纯音乐.mp3" descr=""/>
          <p:cNvPicPr/>
          <p:nvPr/>
        </p:nvPicPr>
        <p:blipFill>
          <a:blip r:embed="rId2"/>
          <a:stretch/>
        </p:blipFill>
        <p:spPr>
          <a:xfrm>
            <a:off x="8458200" y="60958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restart="whenNotActive" nodeType="interactiveSeq" fill="hold">
                <p:stCondLst>
                  <p:cond evt="onClick">
                    <p:tgtEl>
                      <p:spTgt spid="524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524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5" dur="328165" fill="hold"/>
                                        <p:tgtEl>
                                          <p:spTgt spid="5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课文讲了一件什么事情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篇课文讲了一次主题 为 “ 奇思妙想出发明”的有趣的班会活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是从哪归纳出来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4" descr="gisxs006"/>
          <p:cNvPicPr/>
          <p:nvPr/>
        </p:nvPicPr>
        <p:blipFill>
          <a:blip r:embed="rId1"/>
          <a:stretch/>
        </p:blipFill>
        <p:spPr>
          <a:xfrm>
            <a:off x="6781680" y="4191120"/>
            <a:ext cx="1905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2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2" descr="200752443254166"/>
          <p:cNvPicPr/>
          <p:nvPr/>
        </p:nvPicPr>
        <p:blipFill>
          <a:blip r:embed="rId1"/>
          <a:stretch/>
        </p:blipFill>
        <p:spPr>
          <a:xfrm>
            <a:off x="3962520" y="3048120"/>
            <a:ext cx="1600200" cy="310500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3" descr="200752443254166"/>
          <p:cNvPicPr/>
          <p:nvPr/>
        </p:nvPicPr>
        <p:blipFill>
          <a:blip r:embed="rId2"/>
          <a:stretch/>
        </p:blipFill>
        <p:spPr>
          <a:xfrm>
            <a:off x="4114800" y="3200400"/>
            <a:ext cx="1600200" cy="310500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4" descr="200752443254166"/>
          <p:cNvPicPr/>
          <p:nvPr/>
        </p:nvPicPr>
        <p:blipFill>
          <a:blip r:embed="rId3"/>
          <a:stretch/>
        </p:blipFill>
        <p:spPr>
          <a:xfrm>
            <a:off x="7543800" y="1600200"/>
            <a:ext cx="1600200" cy="310500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 txBox="1"/>
          <p:nvPr/>
        </p:nvSpPr>
        <p:spPr>
          <a:xfrm>
            <a:off x="837720" y="198072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看拼音写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āo qǐng   yào  shi   xuán guà   tán qí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              ) (            )   (             )   (    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ù  jué     sī wéi    zhēng xiān kǒng hò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        )      (       )      (                        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à  hàn lín lí        hǎi  kuò tiān kō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                      )      (                          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考一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3T23:05:4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35:41Z</dcterms:modified>
  <cp:revision>58</cp:revision>
  <dc:subject>第一PPT模板网-WWW.1PPT.COM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