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coin.wav" ContentType="audio/x-wav"/>
  <Override PartName="/ppt/media/image9.jpeg" ContentType="image/jpeg"/>
  <Override PartName="/ppt/media/suction.wav" ContentType="audio/x-wav"/>
  <Override PartName="/ppt/media/image22.gif" ContentType="image/gif"/>
  <Override PartName="/ppt/media/image15.png" ContentType="image/png"/>
  <Override PartName="/ppt/media/image21.jpeg" ContentType="image/jpeg"/>
  <Override PartName="/ppt/media/chimes.wav" ContentType="audio/x-wav"/>
  <Override PartName="/ppt/media/camera.wav" ContentType="audio/x-wav"/>
  <Override PartName="/ppt/media/breeze.wav" ContentType="audio/x-wav"/>
  <Override PartName="/ppt/media/image19.png" ContentType="image/png"/>
  <Override PartName="/ppt/media/image17.png" ContentType="image/png"/>
  <Override PartName="/ppt/media/image32.jpeg" ContentType="image/jpeg"/>
  <Override PartName="/ppt/media/image14.png" ContentType="image/png"/>
  <Override PartName="/ppt/media/image10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6.jpeg" ContentType="image/jpeg"/>
  <Override PartName="/ppt/media/image24.jpeg" ContentType="image/jpeg"/>
  <Override PartName="/ppt/media/image30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laser.wav" ContentType="audio/x-wav"/>
  <Override PartName="/ppt/media/image4.png" ContentType="image/png"/>
  <Override PartName="/ppt/media/cashreg.wav" ContentType="audio/x-wav"/>
  <Override PartName="/ppt/media/image3.jpeg" ContentType="image/jpeg"/>
  <Override PartName="/ppt/media/voltage.wav" ContentType="audio/x-wav"/>
  <Override PartName="/ppt/media/image37.jpeg" ContentType="image/jpeg"/>
  <Override PartName="/ppt/media/image27.jpeg" ContentType="image/jpeg"/>
  <Override PartName="/ppt/media/image33.jpeg" ContentType="image/jpeg"/>
  <Override PartName="/ppt/media/image29.jpeg" ContentType="image/jpeg"/>
  <Override PartName="/ppt/media/image8.jpeg" ContentType="image/jpeg"/>
  <Override PartName="/ppt/media/image23.png" ContentType="image/png"/>
  <Override PartName="/ppt/media/push.wav" ContentType="audio/x-wav"/>
  <Override PartName="/ppt/media/image34.jpeg" ContentType="image/jpeg"/>
  <Override PartName="/ppt/media/whoosh.wav" ContentType="audio/x-wav"/>
  <Override PartName="/ppt/media/image28.jpeg" ContentType="image/jpeg"/>
  <Override PartName="/ppt/media/image12.png" ContentType="image/png"/>
  <Override PartName="/ppt/media/image11.jpeg" ContentType="image/jpeg"/>
  <Override PartName="/ppt/media/image7.jpeg" ContentType="image/jpeg"/>
  <Override PartName="/ppt/media/image38.jpeg" ContentType="image/jpeg"/>
  <Override PartName="/ppt/media/image5.jpeg" ContentType="image/jpeg"/>
  <Override PartName="/ppt/media/explode.wav" ContentType="audio/x-wav"/>
  <Override PartName="/ppt/media/image6.jpeg" ContentType="image/jpeg"/>
  <Override PartName="/ppt/media/image18.png" ContentType="image/png"/>
  <Override PartName="/ppt/media/type.wav" ContentType="audio/x-wav"/>
  <Override PartName="/ppt/media/image16.png" ContentType="image/png"/>
  <Override PartName="/ppt/media/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FA0-E795-4798-B121-99CFEF744E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04DF-5E0F-4577-B329-4FE68743EB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B83-3664-4C1C-876E-ECDEEC3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8B9-0CC8-47E5-976F-4163C4F5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1A5-58CA-4E3B-93F3-BC1C3B0A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17C-9FE5-40B8-AA3E-7DFF8D6B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FEC-9012-4D01-964D-1AA85EC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792-9E7A-4D19-B475-E9C76FE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03A-F350-4E7B-98C1-D2F47C81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484-BAF9-481C-A596-D3CF657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EBC-714F-42EA-ADA8-F273B19F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8AD-ED62-43FC-8205-B765FC9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63C-02E0-44FB-A303-7E13306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B18-5885-4892-B3D8-45F95DD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3542-7408-4AD5-B5AB-F9F949F1A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push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laser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las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breeze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audio" Target="../media/coin.wav"/><Relationship Id="rId4" Type="http://schemas.openxmlformats.org/officeDocument/2006/relationships/audio" Target="../media/breez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hammer.wav"/><Relationship Id="rId5" Type="http://schemas.openxmlformats.org/officeDocument/2006/relationships/audio" Target="../media/coin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push.wav"/><Relationship Id="rId11" Type="http://schemas.openxmlformats.org/officeDocument/2006/relationships/audio" Target="../media/wind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audio" Target="../media/wind.wav"/><Relationship Id="rId5" Type="http://schemas.openxmlformats.org/officeDocument/2006/relationships/audio" Target="../media/las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oin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explode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voltag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breeze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2.png"/><Relationship Id="rId21" Type="http://schemas.openxmlformats.org/officeDocument/2006/relationships/image" Target="../media/image18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oin.wav"/><Relationship Id="rId3" Type="http://schemas.openxmlformats.org/officeDocument/2006/relationships/audio" Target="../media/wind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coin.wav"/><Relationship Id="rId7" Type="http://schemas.openxmlformats.org/officeDocument/2006/relationships/audio" Target="../media/breeze.wav"/><Relationship Id="rId8" Type="http://schemas.openxmlformats.org/officeDocument/2006/relationships/audio" Target="../media/whoosh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breeze.wav"/><Relationship Id="rId5" Type="http://schemas.openxmlformats.org/officeDocument/2006/relationships/audio" Target="../media/cashreg.wav"/><Relationship Id="rId6" Type="http://schemas.openxmlformats.org/officeDocument/2006/relationships/audio" Target="../media/suction.wav"/><Relationship Id="rId7" Type="http://schemas.openxmlformats.org/officeDocument/2006/relationships/audio" Target="../media/voltage.wav"/><Relationship Id="rId8" Type="http://schemas.openxmlformats.org/officeDocument/2006/relationships/audio" Target="../media/breeze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whoosh.wav"/><Relationship Id="rId3" Type="http://schemas.openxmlformats.org/officeDocument/2006/relationships/audio" Target="../media/coin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ind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249006195"/>
          <p:cNvPicPr/>
          <p:nvPr/>
        </p:nvPicPr>
        <p:blipFill>
          <a:blip r:embed="rId2"/>
          <a:stretch/>
        </p:blipFill>
        <p:spPr>
          <a:xfrm>
            <a:off x="509760" y="3124080"/>
            <a:ext cx="3124080" cy="30006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3" descr=""/>
          <p:cNvPicPr/>
          <p:nvPr/>
        </p:nvPicPr>
        <p:blipFill>
          <a:blip r:embed="rId3"/>
          <a:stretch/>
        </p:blipFill>
        <p:spPr>
          <a:xfrm>
            <a:off x="2362320" y="822240"/>
            <a:ext cx="651168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402840" y="6180120"/>
            <a:ext cx="5301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09520" y="523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文章开篇作者写久违的蝉声，为什么先写世俗的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5800" y="1676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俗的声音与蝉声形成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反衬出蝉声在作者心目中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74520" y="3124080"/>
            <a:ext cx="921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在文中，“四面楚歌、鸣金击鼓”分别指什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00200" y="4267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四面楚歌”形容被蝉声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鸣金击鼓”形容蝉声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9480" y="21337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9144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“我整个心思都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吸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了过去，就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铁砂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冲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磁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那样。”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2590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把“我”听到蝉声后的感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喻为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“铁砂冲向磁铁”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写出了“我”被蝉声深深地吸引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883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676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这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愉快的音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太像一卷录音带，让我把童年的声音又一 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09480" y="4495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达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童年生活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怀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3657600"/>
            <a:ext cx="7696080" cy="2590920"/>
          </a:xfrm>
          <a:prstGeom prst="wedgeEllipseCallout">
            <a:avLst>
              <a:gd name="adj1" fmla="val 38467"/>
              <a:gd name="adj2" fmla="val -84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2895480" y="0"/>
            <a:ext cx="3353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第二部分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99"/>
                            </p:stCondLst>
                            <p:childTnLst>
                              <p:par>
                                <p:cTn id="5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80880" y="66996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默读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思考从哪些句子可以看出作者喜欢“捉蝉”？勾画有关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2009072916332939378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8288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你能想象一群小学生，书包搁在路边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怕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掉到河里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也不怕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勾破衣服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更不怕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破皮流血，就一脚上一脚下地直往树的怀里钻的那股猛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276720" y="533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达作者回忆孩童时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激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心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581280" y="2743200"/>
            <a:ext cx="2438640" cy="1752480"/>
          </a:xfrm>
          <a:prstGeom prst="wedgeEllipseCallout">
            <a:avLst>
              <a:gd name="adj1" fmla="val -38087"/>
              <a:gd name="adj2" fmla="val 700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2590920" y="0"/>
            <a:ext cx="6553080" cy="16002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抓到了，抓到了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！有人在树上喊，下面有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赶快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打开铅笔盒把蝉关了进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12408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兴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66880" y="4495680"/>
            <a:ext cx="3124440" cy="1447920"/>
          </a:xfrm>
          <a:prstGeom prst="wedgeEllipseCallout">
            <a:avLst>
              <a:gd name="adj1" fmla="val -43750"/>
              <a:gd name="adj2" fmla="val -84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419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那时候打开铅笔盒就像开保险柜一般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心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心里痒痒的时候，也只敢凑一只眼睛开一条小缝去瞄几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895480"/>
            <a:ext cx="4724280" cy="1219320"/>
          </a:xfrm>
          <a:prstGeom prst="wedgeEllipseCallout">
            <a:avLst>
              <a:gd name="adj1" fmla="val -37500"/>
              <a:gd name="adj2" fmla="val 78384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057400" y="32004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绘出孩子们想看看蝉又生怕一不小心蝉飞走的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紧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33520" y="45720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那种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紧张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就像</a:t>
            </a: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方夜谭</a:t>
            </a: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里的渔夫用计把巨魔骗进古坛之后，赶忙封好符咒再不敢去碰它一般。在这一瞬间，那轻纱似的薄翼却已在小孩们心中留下了一季的闪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143000" y="0"/>
            <a:ext cx="2819520" cy="1447920"/>
          </a:xfrm>
          <a:prstGeom prst="wedgeEllipseCallout">
            <a:avLst>
              <a:gd name="adj1" fmla="val -55407"/>
              <a:gd name="adj2" fmla="val 56796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828800" y="380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10800000">
            <a:off x="6477120" y="2743200"/>
            <a:ext cx="2666880" cy="1295280"/>
          </a:xfrm>
          <a:prstGeom prst="wedgeEllipseCallout">
            <a:avLst>
              <a:gd name="adj1" fmla="val 34282"/>
              <a:gd name="adj2" fmla="val 74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7010280" y="30481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6400800" y="1981080"/>
            <a:ext cx="685800" cy="381240"/>
          </a:xfrm>
          <a:prstGeom prst="ellips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7696080" y="1981080"/>
            <a:ext cx="609840" cy="457200"/>
          </a:xfrm>
          <a:prstGeom prst="ellips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0" y="2362320"/>
            <a:ext cx="4267080" cy="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4343400" y="2286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类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基于两种不同事物间的类似而相提并论的表现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267080" y="228600"/>
            <a:ext cx="4572000" cy="1371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08102301183254806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8088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顾课文，体会捉蝉的乐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19051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04920" y="1905120"/>
            <a:ext cx="1218960" cy="58140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卡通简体"/>
              </a:rPr>
              <a:t>兴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2514600"/>
            <a:ext cx="2087640" cy="3580920"/>
            <a:chOff x="0" y="2514600"/>
            <a:chExt cx="2087640" cy="3580920"/>
          </a:xfrm>
        </p:grpSpPr>
        <p:sp>
          <p:nvSpPr>
            <p:cNvPr id="156" name="AutoShape 7"/>
            <p:cNvSpPr/>
            <p:nvPr/>
          </p:nvSpPr>
          <p:spPr>
            <a:xfrm>
              <a:off x="0" y="2514600"/>
              <a:ext cx="1871640" cy="3580920"/>
            </a:xfrm>
            <a:prstGeom prst="upArrowCallout">
              <a:avLst>
                <a:gd name="adj1" fmla="val 25002"/>
                <a:gd name="adj2" fmla="val 25000"/>
                <a:gd name="adj3" fmla="val 31870"/>
                <a:gd name="adj4" fmla="val 6666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71280" y="3962160"/>
              <a:ext cx="20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“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抓到了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方正魏碑简体"/>
                </a:rPr>
                <a:t>抓到了！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9"/>
          <p:cNvSpPr/>
          <p:nvPr/>
        </p:nvSpPr>
        <p:spPr>
          <a:xfrm>
            <a:off x="1828800" y="2133720"/>
            <a:ext cx="503280" cy="287280"/>
          </a:xfrm>
          <a:prstGeom prst="rightArrow">
            <a:avLst>
              <a:gd name="adj1" fmla="val 50000"/>
              <a:gd name="adj2" fmla="val 43781"/>
            </a:avLst>
          </a:prstGeom>
          <a:solidFill>
            <a:srgbClr val="cc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514600" y="1905120"/>
            <a:ext cx="1224000" cy="64260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卡通简体"/>
              </a:rPr>
              <a:t>紧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209680" y="2590920"/>
            <a:ext cx="1871640" cy="3476520"/>
            <a:chOff x="2209680" y="2590920"/>
            <a:chExt cx="1871640" cy="3476520"/>
          </a:xfrm>
        </p:grpSpPr>
        <p:sp>
          <p:nvSpPr>
            <p:cNvPr id="161" name="AutoShape 12"/>
            <p:cNvSpPr/>
            <p:nvPr/>
          </p:nvSpPr>
          <p:spPr>
            <a:xfrm>
              <a:off x="2209680" y="2590920"/>
              <a:ext cx="1871640" cy="3476520"/>
            </a:xfrm>
            <a:prstGeom prst="upArrowCallout">
              <a:avLst>
                <a:gd name="adj1" fmla="val 25002"/>
                <a:gd name="adj2" fmla="val 25000"/>
                <a:gd name="adj3" fmla="val 30941"/>
                <a:gd name="adj4" fmla="val 6666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2280960" y="3848040"/>
              <a:ext cx="17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那种紧张就像</a:t>
              </a:r>
              <a:r>
                <a:rPr b="1" lang="en-US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《</a:t>
              </a: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天方夜谭</a:t>
              </a:r>
              <a:r>
                <a:rPr b="1" lang="en-US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》</a:t>
              </a:r>
              <a:r>
                <a:rPr b="1" lang="zh-CN" sz="2000" spc="-1" strike="noStrike">
                  <a:solidFill>
                    <a:srgbClr val="990033"/>
                  </a:solidFill>
                  <a:latin typeface="Times New Roman"/>
                  <a:ea typeface="方正魏碑简体"/>
                </a:rPr>
                <a:t>里的渔夫用计把巨魔骗进古坛之后，赶忙封好咒符再不敢去碰它一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14"/>
          <p:cNvSpPr/>
          <p:nvPr/>
        </p:nvSpPr>
        <p:spPr>
          <a:xfrm>
            <a:off x="3962520" y="2133720"/>
            <a:ext cx="503280" cy="287280"/>
          </a:xfrm>
          <a:prstGeom prst="rightArrow">
            <a:avLst>
              <a:gd name="adj1" fmla="val 50000"/>
              <a:gd name="adj2" fmla="val 43781"/>
            </a:avLst>
          </a:prstGeom>
          <a:solidFill>
            <a:srgbClr val="cc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724280" y="1905120"/>
            <a:ext cx="1152720" cy="64260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卡通简体"/>
              </a:rPr>
              <a:t>小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6"/>
          <p:cNvGrpSpPr/>
          <p:nvPr/>
        </p:nvGrpSpPr>
        <p:grpSpPr>
          <a:xfrm>
            <a:off x="4343400" y="2590920"/>
            <a:ext cx="1944720" cy="3476520"/>
            <a:chOff x="4343400" y="2590920"/>
            <a:chExt cx="1944720" cy="3476520"/>
          </a:xfrm>
        </p:grpSpPr>
        <p:sp>
          <p:nvSpPr>
            <p:cNvPr id="166" name="AutoShape 17"/>
            <p:cNvSpPr/>
            <p:nvPr/>
          </p:nvSpPr>
          <p:spPr>
            <a:xfrm>
              <a:off x="4343400" y="2590920"/>
              <a:ext cx="1871640" cy="3476520"/>
            </a:xfrm>
            <a:prstGeom prst="upArrowCallout">
              <a:avLst>
                <a:gd name="adj1" fmla="val 25002"/>
                <a:gd name="adj2" fmla="val 25000"/>
                <a:gd name="adj3" fmla="val 30941"/>
                <a:gd name="adj4" fmla="val 6666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416480" y="38480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cc"/>
                  </a:solidFill>
                  <a:latin typeface="Times New Roman"/>
                  <a:ea typeface="方正魏碑简体"/>
                </a:rPr>
                <a:t>就像打开保险柜一般小心，心里痒痒的时候，也只敢凑一只眼睛开一条小缝去瞄几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590920" y="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ff"/>
                  </a:solidFill>
                  <a:round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宋体"/>
              </a:rPr>
              <a:t>第三部分</a:t>
            </a:r>
            <a:endParaRPr b="1" lang="en-US" sz="7200" spc="1" strike="noStrike">
              <a:ln w="12600">
                <a:solidFill>
                  <a:srgbClr val="3333ff"/>
                </a:solidFill>
                <a:round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04920" y="1981080"/>
            <a:ext cx="8458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捉得住蝉，却捉不住蝉声。”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w020100813309897449475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5486400" y="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思考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267080" y="1447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343400" y="1371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写这样的文章结尾是想告诉我们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724280" y="3429000"/>
            <a:ext cx="396252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的事物要让其自然呈现，而不可以人为的束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01081711501536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/>
          <p:cNvSpPr/>
          <p:nvPr/>
        </p:nvSpPr>
        <p:spPr>
          <a:xfrm>
            <a:off x="0" y="533520"/>
            <a:ext cx="3886200" cy="3733560"/>
          </a:xfrm>
          <a:custGeom>
            <a:avLst/>
            <a:gdLst>
              <a:gd name="textAreaLeft" fmla="*/ 912600 w 3886200"/>
              <a:gd name="textAreaRight" fmla="*/ 2973600 w 3886200"/>
              <a:gd name="textAreaTop" fmla="*/ 876600 h 3733560"/>
              <a:gd name="textAreaBottom" fmla="*/ 28569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49568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竖起自己聪慧的耳朵去聆听，睁大自己敏锐的眼睛去观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505320" y="0"/>
            <a:ext cx="4572000" cy="4114800"/>
          </a:xfrm>
          <a:custGeom>
            <a:avLst/>
            <a:gdLst>
              <a:gd name="textAreaLeft" fmla="*/ 1073520 w 4572000"/>
              <a:gd name="textAreaRight" fmla="*/ 3498480 w 4572000"/>
              <a:gd name="textAreaTop" fmla="*/ 966240 h 4114800"/>
              <a:gd name="textAreaBottom" fmla="*/ 31485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5800" y="17524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热爱生活，热爱大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7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85680" y="249876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久违的蝉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2514600" y="2743200"/>
            <a:ext cx="10666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033800" y="247824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童年的回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762120" y="3124080"/>
            <a:ext cx="167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念童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562720" y="2743200"/>
            <a:ext cx="10666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139160" y="2478240"/>
            <a:ext cx="121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捉蝉的感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50120" y="914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捉不住的蝉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886200" y="3108240"/>
            <a:ext cx="167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爱生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781680" y="31240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爱大自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"/>
          <p:cNvSpPr/>
          <p:nvPr/>
        </p:nvSpPr>
        <p:spPr>
          <a:xfrm>
            <a:off x="1619280" y="47782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848720" y="5867280"/>
            <a:ext cx="12952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简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"/>
          <p:cNvPicPr/>
          <p:nvPr/>
        </p:nvPicPr>
        <p:blipFill>
          <a:blip r:embed="rId2"/>
          <a:stretch/>
        </p:blipFill>
        <p:spPr>
          <a:xfrm>
            <a:off x="4216320" y="1900080"/>
            <a:ext cx="3648240" cy="4648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52280" y="1828800"/>
            <a:ext cx="396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简媜（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6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－），原名简敏媜，台湾宜兰县冬山乡人，台湾大学中文系毕业。 首部散文集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水问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为大学时期作品结集。大学毕业后前往高雄佛光山普门寺从事佛经白话释义工作，整理星云法师文稿。佛光山上数年，其生命情调有所转变，亦影响其创作风格。早期作品，中文系背景浓厚，文字雕琢细致，情感浓郁；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浮在空中的鱼群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胭脂盆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等作品转而对都市生活观察描写；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女儿红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红婴仔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则由女性，乃至母亲的角色出发。由于出身出版工作，其创作与作品出版隐约有其规划，十数本结集，呈现多样的风格与主题。被评为“当代台湾十二大散文名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581040" y="19044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童年乐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80880" y="182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说说你的童年趣事。类似夏日捉蝉的过程、心情、捕捉到之后你又是怎么做的、什么样的心情？与同学一起来分享和快乐时光的美好心情吧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CC0-1C92-43E5-9A72-94371B5D50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0ed4d3f18812de99e3d62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ra0408150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201089153139991"/>
          <p:cNvPicPr/>
          <p:nvPr/>
        </p:nvPicPr>
        <p:blipFill>
          <a:blip r:embed="rId4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%E5%A4%8F%E6%97%A5%E6%AD%8C%E6%89%8B--%E8%8D%89%E8%9F%AC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1000000000000119088348213133_s"/>
          <p:cNvPicPr/>
          <p:nvPr/>
        </p:nvPicPr>
        <p:blipFill>
          <a:blip r:embed="rId6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红点1"/>
          <p:cNvPicPr/>
          <p:nvPr/>
        </p:nvPicPr>
        <p:blipFill>
          <a:blip r:embed="rId7"/>
          <a:stretch/>
        </p:blipFill>
        <p:spPr>
          <a:xfrm>
            <a:off x="1933560" y="2887560"/>
            <a:ext cx="368280" cy="35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红2"/>
          <p:cNvPicPr/>
          <p:nvPr/>
        </p:nvPicPr>
        <p:blipFill>
          <a:blip r:embed="rId8"/>
          <a:stretch/>
        </p:blipFill>
        <p:spPr>
          <a:xfrm>
            <a:off x="457200" y="2023920"/>
            <a:ext cx="4533840" cy="261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绿2"/>
          <p:cNvPicPr/>
          <p:nvPr/>
        </p:nvPicPr>
        <p:blipFill>
          <a:blip r:embed="rId9"/>
          <a:stretch/>
        </p:blipFill>
        <p:spPr>
          <a:xfrm>
            <a:off x="457200" y="1447920"/>
            <a:ext cx="4572000" cy="184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红点2"/>
          <p:cNvPicPr/>
          <p:nvPr/>
        </p:nvPicPr>
        <p:blipFill>
          <a:blip r:embed="rId10"/>
          <a:stretch/>
        </p:blipFill>
        <p:spPr>
          <a:xfrm>
            <a:off x="3876840" y="4616280"/>
            <a:ext cx="126720" cy="14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绿点1"/>
          <p:cNvPicPr/>
          <p:nvPr/>
        </p:nvPicPr>
        <p:blipFill>
          <a:blip r:embed="rId11"/>
          <a:stretch/>
        </p:blipFill>
        <p:spPr>
          <a:xfrm>
            <a:off x="1428840" y="317664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绿点2"/>
          <p:cNvPicPr/>
          <p:nvPr/>
        </p:nvPicPr>
        <p:blipFill>
          <a:blip r:embed="rId12"/>
          <a:stretch/>
        </p:blipFill>
        <p:spPr>
          <a:xfrm>
            <a:off x="3375000" y="4545000"/>
            <a:ext cx="101520" cy="8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红点1"/>
          <p:cNvPicPr/>
          <p:nvPr/>
        </p:nvPicPr>
        <p:blipFill>
          <a:blip r:embed="rId13"/>
          <a:stretch/>
        </p:blipFill>
        <p:spPr>
          <a:xfrm>
            <a:off x="-135000" y="1663560"/>
            <a:ext cx="362160" cy="35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红点2"/>
          <p:cNvPicPr/>
          <p:nvPr/>
        </p:nvPicPr>
        <p:blipFill>
          <a:blip r:embed="rId14"/>
          <a:stretch/>
        </p:blipFill>
        <p:spPr>
          <a:xfrm>
            <a:off x="146160" y="2384280"/>
            <a:ext cx="126720" cy="13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绿点1"/>
          <p:cNvPicPr/>
          <p:nvPr/>
        </p:nvPicPr>
        <p:blipFill>
          <a:blip r:embed="rId15"/>
          <a:stretch/>
        </p:blipFill>
        <p:spPr>
          <a:xfrm>
            <a:off x="1440" y="116064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绿点2"/>
          <p:cNvPicPr/>
          <p:nvPr/>
        </p:nvPicPr>
        <p:blipFill>
          <a:blip r:embed="rId16"/>
          <a:stretch/>
        </p:blipFill>
        <p:spPr>
          <a:xfrm>
            <a:off x="-206280" y="728640"/>
            <a:ext cx="100080" cy="8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红点1"/>
          <p:cNvPicPr/>
          <p:nvPr/>
        </p:nvPicPr>
        <p:blipFill>
          <a:blip r:embed="rId17"/>
          <a:stretch/>
        </p:blipFill>
        <p:spPr>
          <a:xfrm>
            <a:off x="781200" y="2600280"/>
            <a:ext cx="368280" cy="355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绿点1"/>
          <p:cNvPicPr/>
          <p:nvPr/>
        </p:nvPicPr>
        <p:blipFill>
          <a:blip r:embed="rId18"/>
          <a:stretch/>
        </p:blipFill>
        <p:spPr>
          <a:xfrm>
            <a:off x="3013200" y="38955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绿点1"/>
          <p:cNvPicPr/>
          <p:nvPr/>
        </p:nvPicPr>
        <p:blipFill>
          <a:blip r:embed="rId19"/>
          <a:stretch/>
        </p:blipFill>
        <p:spPr>
          <a:xfrm>
            <a:off x="2149560" y="353700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红点1"/>
          <p:cNvPicPr/>
          <p:nvPr/>
        </p:nvPicPr>
        <p:blipFill>
          <a:blip r:embed="rId20"/>
          <a:stretch/>
        </p:blipFill>
        <p:spPr>
          <a:xfrm>
            <a:off x="1933560" y="4040280"/>
            <a:ext cx="276120" cy="2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红点1"/>
          <p:cNvPicPr/>
          <p:nvPr/>
        </p:nvPicPr>
        <p:blipFill>
          <a:blip r:embed="rId21"/>
          <a:stretch/>
        </p:blipFill>
        <p:spPr>
          <a:xfrm>
            <a:off x="3660840" y="3753000"/>
            <a:ext cx="183960" cy="17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红点2"/>
          <p:cNvPicPr/>
          <p:nvPr/>
        </p:nvPicPr>
        <p:blipFill>
          <a:blip r:embed="rId22"/>
          <a:stretch/>
        </p:blipFill>
        <p:spPr>
          <a:xfrm>
            <a:off x="2654280" y="2095560"/>
            <a:ext cx="127080" cy="13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红点2"/>
          <p:cNvPicPr/>
          <p:nvPr/>
        </p:nvPicPr>
        <p:blipFill>
          <a:blip r:embed="rId23"/>
          <a:stretch/>
        </p:blipFill>
        <p:spPr>
          <a:xfrm>
            <a:off x="1212840" y="3679920"/>
            <a:ext cx="127080" cy="13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红点2"/>
          <p:cNvPicPr/>
          <p:nvPr/>
        </p:nvPicPr>
        <p:blipFill>
          <a:blip r:embed="rId24"/>
          <a:stretch/>
        </p:blipFill>
        <p:spPr>
          <a:xfrm>
            <a:off x="2654280" y="3105000"/>
            <a:ext cx="127080" cy="13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绿点1"/>
          <p:cNvPicPr/>
          <p:nvPr/>
        </p:nvPicPr>
        <p:blipFill>
          <a:blip r:embed="rId25"/>
          <a:stretch/>
        </p:blipFill>
        <p:spPr>
          <a:xfrm>
            <a:off x="1717560" y="4400640"/>
            <a:ext cx="241560" cy="23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绿点1"/>
          <p:cNvPicPr/>
          <p:nvPr/>
        </p:nvPicPr>
        <p:blipFill>
          <a:blip r:embed="rId26"/>
          <a:stretch/>
        </p:blipFill>
        <p:spPr>
          <a:xfrm>
            <a:off x="1933560" y="274464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绿点2"/>
          <p:cNvPicPr/>
          <p:nvPr/>
        </p:nvPicPr>
        <p:blipFill>
          <a:blip r:embed="rId27"/>
          <a:stretch/>
        </p:blipFill>
        <p:spPr>
          <a:xfrm>
            <a:off x="1717560" y="3753000"/>
            <a:ext cx="101880" cy="8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绿点2"/>
          <p:cNvPicPr/>
          <p:nvPr/>
        </p:nvPicPr>
        <p:blipFill>
          <a:blip r:embed="rId28"/>
          <a:stretch/>
        </p:blipFill>
        <p:spPr>
          <a:xfrm>
            <a:off x="2654280" y="4327560"/>
            <a:ext cx="101520" cy="8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绿点2"/>
          <p:cNvPicPr/>
          <p:nvPr/>
        </p:nvPicPr>
        <p:blipFill>
          <a:blip r:embed="rId29"/>
          <a:stretch/>
        </p:blipFill>
        <p:spPr>
          <a:xfrm>
            <a:off x="853920" y="3105000"/>
            <a:ext cx="10188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4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26" repeatCount="indefinite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2501 -0.140481 C 0.013047 -0.138215 0.015051 -0.131418 0.01578 -0.126885 C 0.016509 -0.122352 0.015962 -0.116688 0.016873 -0.113289 C 0.017785 -0.109889 0.019789 -0.108756 0.021247 -0.10649 C 0.022704 -0.104224 0.024162 -0.101392 0.02562 -0.099693 C 0.027078 -0.097993 0.028536 -0.09856 0.029993 -0.096293 C 0.031451 -0.094027 0.032909 -0.088928 0.034367 -0.086097 C 0.035825 -0.083264 0.037283 -0.081564 0.038741 -0.079298 C 0.040198 -0.077031 0.041656 -0.074765 0.043114 -0.072499 C 0.044572 -0.070234 0.045847 -0.066835 0.047488 -0.065702 C 0.049127 -0.064568 0.051314 -0.065702 0.052954 -0.065702 C 0.054594 -0.065702 0.055688 -0.065702 0.057327 -0.065702 C 0.058968 -0.065702 0.061154 -0.065702 0.062794 -0.065702 C 0.064434 -0.065702 0.06571 -0.066268 0.067168 -0.065702 C 0.068625 -0.065135 0.069901 -0.063435 0.071541 -0.062302 C 0.073181 -0.061169 0.075368 -0.061169 0.077007 -0.058903 C 0.078648 -0.056638 0.079923 -0.052672 0.081381 -0.048706 C 0.082839 -0.04474 0.084297 -0.039642 0.085754 -0.03511 C 0.087212 -0.030577 0.08867 -0.024913 0.090128 -0.021514 C 0.091585 -0.018114 0.092861 -0.018681 0.094501 -0.014715 C 0.096142 -0.010751 0.098692 -0.002819 0.099969 0.002281 C 0.101243 0.007378 0.101243 0.011344 0.102154 0.015877 C 0.103065 0.020408 0.104888 0.02494 0.105434 0.029473 C 0.105981 0.034005 0.105434 0.038536 0.105434 0.043069 C 0.105434 0.047602 0.105253 0.052133 0.105434 0.056665 C 0.105617 0.061198 0.106345 0.06573 0.106528 0.070261 C 0.106711 0.074794 0.106164 0.07876 0.106528 0.083857 C 0.106892 0.088957 0.107622 0.096322 0.108715 0.100853 C 0.109808 0.105386 0.11163 0.107085 0.113088 0.111051 C 0.114545 0.115016 0.116369 0.120115 0.117461 0.124647 C 0.118555 0.129178 0.119102 0.133711 0.119649 0.138243 C 0.120195 0.142775 0.120013 0.147307 0.120741 0.15184 C 0.121471 0.156372 0.122746 0.16147 0.124022 0.165436 C 0.125298 0.169402 0.126755 0.172234 0.128395 0.175633 C 0.130035 0.179032 0.131311 0.181865 0.133862 0.18583 C 0.136413 0.189795 0.141151 0.196594 0.143702 0.199427 C 0.146253 0.202259 0.147346 0.199993 0.149169 0.202826 C 0.150991 0.205658 0.152995 0.213023 0.154635 0.216422 C 0.156276 0.21982 0.157551 0.22152 0.159009 0.22322 C 0.160466 0.224919 0.161924 0.224353 0.163382 0.226619 C 0.16484 0.228885 0.166115 0.232851 0.167756 0.236816 C 0.169395 0.240782 0.1714 0.24758 0.173222 0.250412 C 0.175045 0.253245 0.176867 0.252112 0.178689 0.253811 C 0.180511 0.255511 0.18288 0.256644 0.184156 0.26061 C 0.185431 0.264575 0.185067 0.273073 0.186342 0.277605 C 0.187618 0.282137 0.190533 0.28327 0.19181 0.287802 C 0.193085 0.292334 0.193085 0.299699 0.193996 0.304797 C 0.194907 0.309896 0.196001 0.313862 0.197275 0.318393 C 0.198552 0.322926 0.200191 0.327458 0.201649 0.33199 C 0.203107 0.336522 0.204565 0.341055 0.206023 0.345586 C 0.207481 0.350118 0.208939 0.355217 0.210396 0.359183 C 0.211854 0.363148 0.212583 0.365414 0.21477 0.36938 C 0.216956 0.373345 0.22133 0.37901 0.223516 0.382976 C 0.225703 0.386941 0.22625 0.389774 0.22789 0.393173 C 0.22953 0.396572 0.231534 0.399972 0.233356 0.40337 C 0.235179 0.406769 0.237183 0.410735 0.238823 0.413568 C 0.240463 0.416401 0.241739 0.418099 0.243197 0.420365 C 0.244655 0.422632 0.246294 0.423765 0.24757 0.427164 C 0.248845 0.430563 0.249939 0.436228 0.25085 0.44076 C 0.251761 0.445293 0.251944 0.449824 0.253036 0.454356 C 0.25413 0.458889 0.256499 0.463421 0.25741 0.467952 C 0.258321 0.472485 0.258321 0.477018 0.258504 0.481549 C 0.258686 0.486081 0.258504 0.490614 0.258504 0.495145 C 0.258504 0.499677 0.258504 0.506476 0.258504 0.508742 E">
                                      <p:cBhvr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9E-005 -8.5E-005 C 0.000783 0.001326 0.003585 0.005562 0.004604 0.008387 C 0.005623 0.011212 0.004858 0.014742 0.006132 0.016859 C 0.007405 0.018979 0.010208 0.019684 0.012245 0.021097 C 0.014283 0.022509 0.016321 0.024273 0.018358 0.025333 C 0.020396 0.026392 0.022434 0.026039 0.024472 0.027451 C 0.026509 0.028863 0.028548 0.032041 0.030586 0.033806 C 0.032623 0.03557 0.03466 0.03663 0.036698 0.038042 C 0.038737 0.039454 0.040774 0.040867 0.042812 0.04228 C 0.044849 0.04369 0.046632 0.045809 0.048925 0.046515 C 0.051217 0.047221 0.054274 0.046515 0.056567 0.046515 C 0.058859 0.046515 0.060388 0.046515 0.06268 0.046515 C 0.064973 0.046515 0.068029 0.046515 0.070321 0.046515 C 0.072614 0.046515 0.074398 0.046163 0.076435 0.046515 C 0.078472 0.046867 0.080255 0.047927 0.082548 0.048634 C 0.08484 0.04934 0.087898 0.04934 0.09019 0.050751 C 0.092483 0.052163 0.094265 0.054634 0.096303 0.057107 C 0.098341 0.059578 0.100379 0.062755 0.102417 0.065578 C 0.104454 0.068404 0.106492 0.071933 0.10853 0.074052 C 0.110568 0.076171 0.11235 0.075817 0.114642 0.078289 C 0.116935 0.08076 0.120501 0.085702 0.122285 0.08888 C 0.124067 0.092057 0.124067 0.094528 0.125341 0.097353 C 0.126615 0.100176 0.129162 0.103001 0.129926 0.105826 C 0.13069 0.10865 0.129926 0.111475 0.129926 0.114298 C 0.129926 0.117123 0.129672 0.119947 0.129926 0.122772 C 0.130181 0.125596 0.1312 0.12842 0.131455 0.131244 C 0.13171 0.134069 0.130945 0.13654 0.131455 0.139717 C 0.131964 0.142894 0.132983 0.147484 0.134512 0.150308 C 0.13604 0.153133 0.138587 0.154191 0.140624 0.156663 C 0.142663 0.159134 0.145209 0.162311 0.146737 0.165136 C 0.148266 0.16796 0.14903 0.170784 0.149795 0.173609 C 0.150558 0.176433 0.150303 0.179257 0.151322 0.182082 C 0.152342 0.184906 0.154125 0.188082 0.155908 0.190554 C 0.157691 0.193026 0.159728 0.194792 0.162021 0.196909 C 0.164313 0.199028 0.166097 0.200792 0.169662 0.203264 C 0.173228 0.205735 0.179851 0.209972 0.183418 0.211736 C 0.186983 0.213503 0.188512 0.21209 0.191059 0.213856 C 0.193607 0.215619 0.196409 0.22021 0.198701 0.222329 C 0.200993 0.224445 0.202777 0.225505 0.204814 0.226564 C 0.206852 0.227624 0.208889 0.22727 0.210928 0.228683 C 0.212966 0.230095 0.214748 0.232566 0.21704 0.235037 C 0.219333 0.237508 0.222135 0.241745 0.224682 0.24351 C 0.22723 0.245276 0.229776 0.244569 0.232324 0.245627 C 0.234871 0.246687 0.238182 0.247394 0.239966 0.249865 C 0.241749 0.252336 0.241239 0.257632 0.243022 0.260455 C 0.244805 0.26328 0.24888 0.263987 0.250664 0.26681 C 0.252446 0.269635 0.252446 0.274224 0.25372 0.277402 C 0.254994 0.280579 0.256523 0.283049 0.258305 0.285875 C 0.260089 0.288699 0.262381 0.291523 0.264419 0.294347 C 0.266457 0.297172 0.268494 0.299996 0.270532 0.30282 C 0.27257 0.305645 0.274608 0.308823 0.276645 0.311293 C 0.278682 0.313765 0.279702 0.315177 0.282759 0.317649 C 0.285815 0.320119 0.291929 0.32365 0.294985 0.326121 C 0.298042 0.328592 0.298806 0.330357 0.301098 0.332476 C 0.303392 0.334594 0.306192 0.336712 0.30874 0.33883 C 0.311287 0.340948 0.31409 0.34342 0.316383 0.345185 C 0.318675 0.346951 0.320457 0.348009 0.322495 0.349421 C 0.324533 0.350833 0.326825 0.35154 0.328608 0.353658 C 0.330391 0.355777 0.33192 0.359306 0.333193 0.362131 C 0.334467 0.364955 0.334722 0.367779 0.33625 0.370604 C 0.337779 0.373428 0.34109 0.376252 0.342364 0.379076 C 0.343637 0.381901 0.343637 0.384726 0.343892 0.387549 C 0.344146 0.390374 0.343892 0.393198 0.343892 0.396022 C 0.343892 0.398847 0.343892 0.403083 0.343892 0.404496 E">
                                      <p:cBhvr>
                                        <p:cTn id="83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5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25834 -0.048447 C 0.027038 -0.045785 0.031445 -0.037799 0.03305 -0.032474 C 0.034653 -0.02715 0.03345 -0.020495 0.035454 -0.016502 C 0.037458 -0.012509 0.041867 -0.011177 0.045074 -0.008515 C 0.048281 -0.005852 0.051487 -0.002526 0.054694 -0.00053 C 0.0579 0.001467 0.061108 0.000802 0.064314 0.003464 C 0.06752 0.006127 0.070727 0.012117 0.073934 0.015443 C 0.07714 0.018771 0.080347 0.020768 0.083553 0.02343 C 0.086761 0.026092 0.089967 0.028754 0.093173 0.031417 C 0.09638 0.034078 0.099186 0.038072 0.102794 0.039402 C 0.106401 0.040733 0.11121 0.039402 0.114818 0.039402 C 0.118425 0.039402 0.120831 0.039402 0.124438 0.039402 C 0.128046 0.039402 0.132854 0.039402 0.136462 0.039402 C 0.14007 0.039402 0.142876 0.038737 0.146083 0.039402 C 0.149288 0.040068 0.152095 0.042065 0.155703 0.043396 C 0.159309 0.044727 0.16412 0.044727 0.167728 0.04739 C 0.171335 0.050051 0.17414 0.054709 0.177347 0.059369 C 0.180554 0.064027 0.183761 0.070016 0.186967 0.075341 C 0.190173 0.080666 0.19338 0.08732 0.196587 0.091314 C 0.199793 0.095307 0.202599 0.094642 0.206206 0.0993 C 0.209814 0.103958 0.215426 0.113276 0.218231 0.119266 C 0.221037 0.125255 0.221037 0.129915 0.223041 0.13524 C 0.225045 0.140562 0.229054 0.145887 0.230256 0.151212 C 0.231459 0.156536 0.230256 0.16186 0.230256 0.167184 C 0.230256 0.172509 0.229856 0.177832 0.230256 0.183157 C 0.230658 0.188482 0.23226 0.193806 0.232661 0.199129 C 0.233062 0.204454 0.231859 0.209113 0.232661 0.215102 C 0.233462 0.221092 0.235067 0.229745 0.237471 0.235067 C 0.239876 0.240392 0.243884 0.242389 0.247091 0.247048 C 0.250297 0.251706 0.254306 0.257696 0.256711 0.263021 C 0.259115 0.268344 0.260318 0.273669 0.261521 0.278993 C 0.262723 0.284316 0.262323 0.289641 0.263926 0.294966 C 0.265529 0.300291 0.268334 0.30628 0.27114 0.310938 C 0.273947 0.315598 0.277152 0.318925 0.28076 0.322917 C 0.284368 0.326911 0.287173 0.330239 0.292785 0.334897 C 0.298396 0.339555 0.308818 0.347543 0.314429 0.35087 C 0.320041 0.354198 0.322446 0.351536 0.326455 0.354864 C 0.330463 0.35819 0.334871 0.366843 0.338479 0.370836 C 0.342087 0.374828 0.344893 0.376825 0.3481 0.378822 C 0.351305 0.380819 0.354512 0.380153 0.35772 0.382816 C 0.360926 0.385477 0.363732 0.390137 0.367338 0.394795 C 0.370946 0.399453 0.375356 0.40744 0.379364 0.410767 C 0.383371 0.414095 0.38738 0.412764 0.391389 0.41476 C 0.395397 0.416757 0.400608 0.418089 0.403413 0.422747 C 0.40622 0.427405 0.405417 0.437389 0.408223 0.442713 C 0.411029 0.448037 0.417443 0.449368 0.420248 0.454692 C 0.423054 0.460017 0.423054 0.468668 0.425058 0.474659 C 0.427061 0.480649 0.429467 0.485306 0.432272 0.490631 C 0.435079 0.495956 0.438687 0.501279 0.441893 0.506604 C 0.445099 0.511928 0.448305 0.517253 0.451513 0.522576 C 0.45472 0.527901 0.457926 0.533891 0.461132 0.538548 C 0.464338 0.543207 0.465943 0.54587 0.470753 0.550528 C 0.475562 0.555186 0.485182 0.561842 0.489991 0.566502 C 0.494802 0.571159 0.496004 0.574487 0.499612 0.57848 C 0.50322 0.582474 0.507629 0.586468 0.511636 0.590459 C 0.515644 0.594453 0.520054 0.599112 0.523662 0.60244 C 0.527269 0.605768 0.530076 0.607763 0.533281 0.610426 C 0.536488 0.613088 0.540096 0.614419 0.542901 0.618413 C 0.545707 0.622406 0.548112 0.62906 0.550117 0.634385 C 0.552121 0.63971 0.552521 0.645033 0.554925 0.650357 C 0.557331 0.655682 0.562542 0.661007 0.564546 0.66633 C 0.566551 0.671655 0.566551 0.676979 0.566951 0.682302 C 0.567352 0.687627 0.566951 0.692952 0.566951 0.698275 C 0.566951 0.7036 0.566951 0.711587 0.566951 0.714249 E">
                                      <p:cBhvr>
                                        <p:cTn id="96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dur="indefinite" nodeType="withEffect" fill="hold" presetClass="entr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3E-006 -6.2E-005 C 0.000867 0.001841 0.004056 0.007551 0.005216 0.011357 C 0.006376 0.015163 0.005505 0.019921 0.006956 0.022776 C 0.008405 0.02563 0.011595 0.026582 0.013914 0.028485 C 0.016233 0.030389 0.018552 0.032767 0.020872 0.034194 C 0.023191 0.035622 0.025511 0.035146 0.02783 0.037049 C 0.030149 0.038953 0.032469 0.043235 0.034788 0.045613 C 0.037108 0.047992 0.039427 0.04942 0.041747 0.051323 C 0.044066 0.053227 0.046386 0.05513 0.048704 0.057033 C 0.051024 0.058936 0.053054 0.061791 0.055663 0.062742 C 0.058272 0.063694 0.061751 0.062742 0.06436 0.062742 C 0.066969 0.062742 0.06871 0.062742 0.071319 0.062742 C 0.073928 0.062742 0.077407 0.062742 0.080016 0.062742 C 0.082625 0.062742 0.084655 0.062266 0.086975 0.062742 C 0.089294 0.063218 0.091324 0.064645 0.093933 0.065597 C 0.096543 0.066548 0.100022 0.066548 0.102631 0.068452 C 0.10524 0.070354 0.107269 0.073685 0.109589 0.077016 C 0.111908 0.080346 0.114228 0.084628 0.116546 0.088434 C 0.118866 0.092241 0.121186 0.096998 0.123506 0.099853 C 0.125824 0.102709 0.127854 0.102233 0.130464 0.105563 C 0.133073 0.108893 0.137132 0.115555 0.139162 0.119837 C 0.14119 0.124118 0.14119 0.127449 0.14264 0.131256 C 0.144089 0.135061 0.14699 0.138868 0.147858 0.142675 C 0.148729 0.146481 0.147858 0.150287 0.147858 0.154094 C 0.147858 0.1579 0.147569 0.161706 0.147858 0.165512 C 0.148149 0.169319 0.149308 0.173125 0.149599 0.176931 C 0.149888 0.180737 0.149018 0.184069 0.149599 0.18835 C 0.150178 0.192632 0.151338 0.198818 0.153077 0.202624 C 0.154818 0.20643 0.157716 0.207858 0.160036 0.211188 C 0.162354 0.214519 0.165255 0.218801 0.166994 0.222607 C 0.168733 0.226413 0.169603 0.230219 0.170473 0.234026 C 0.171342 0.237832 0.171053 0.241638 0.172212 0.245445 C 0.173372 0.249252 0.175401 0.253532 0.177431 0.256864 C 0.179461 0.260194 0.18178 0.262573 0.184389 0.265428 C 0.186998 0.268283 0.189028 0.270661 0.193087 0.273992 C 0.197146 0.277322 0.204684 0.283032 0.208743 0.285411 C 0.212802 0.28779 0.214541 0.285887 0.217441 0.288266 C 0.22034 0.290644 0.223529 0.29683 0.226138 0.299685 C 0.228747 0.302539 0.230777 0.303966 0.233097 0.305394 C 0.235415 0.306822 0.237735 0.306345 0.240055 0.308249 C 0.242375 0.310152 0.244403 0.313483 0.247013 0.316813 C 0.249622 0.320143 0.252812 0.325853 0.255711 0.328232 C 0.25861 0.330611 0.261509 0.329659 0.264408 0.331086 C 0.267308 0.332514 0.271077 0.333465 0.273106 0.336796 C 0.275136 0.340126 0.274555 0.347263 0.276585 0.35107 C 0.278615 0.354875 0.283253 0.355827 0.285283 0.359634 C 0.287312 0.363441 0.287312 0.369625 0.288762 0.373908 C 0.290211 0.37819 0.291952 0.38152 0.293981 0.385326 C 0.29601 0.389133 0.29862 0.392939 0.300939 0.396745 C 0.303258 0.400552 0.305577 0.404359 0.307897 0.408164 C 0.310217 0.411971 0.312536 0.416253 0.314855 0.419583 C 0.317174 0.422914 0.318334 0.424817 0.321813 0.428147 C 0.325293 0.431478 0.332251 0.436236 0.33573 0.439566 C 0.339209 0.442896 0.340079 0.445275 0.342688 0.44813 C 0.345297 0.450985 0.348486 0.453841 0.351386 0.456694 C 0.354284 0.459549 0.357474 0.46288 0.360084 0.465259 C 0.362693 0.467638 0.364723 0.469064 0.367042 0.470968 C 0.369361 0.472871 0.37197 0.473823 0.374 0.476678 C 0.376029 0.479533 0.377769 0.48429 0.379219 0.488096 C 0.380668 0.491903 0.380958 0.495709 0.382697 0.499515 C 0.384437 0.503322 0.388207 0.507129 0.389656 0.510934 C 0.391105 0.514741 0.391105 0.518547 0.391395 0.522353 C 0.391685 0.52616 0.391395 0.529966 0.391395 0.533772 C 0.391395 0.537578 0.391395 0.543288 0.391395 0.545192 E">
                                      <p:cBhvr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6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228600" y="30492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初读课文</a:t>
            </a:r>
            <a:endParaRPr b="0" lang="en-US" sz="5400" spc="1" strike="noStrike">
              <a:ln w="9360">
                <a:solidFill>
                  <a:srgbClr val="ff33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182880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44792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由读课文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标出自然段、生字、新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准字音、读通课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遇到难读的字词和句子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边读边思考，课文主要讲了什么事？大致可以分为哪几个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4"/>
          <p:cNvSpPr/>
          <p:nvPr/>
        </p:nvSpPr>
        <p:spPr>
          <a:xfrm>
            <a:off x="6208560" y="5337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4fa18ff696443388f3d385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09680" y="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复习生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676520"/>
            <a:ext cx="77724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窃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窃私语    天方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瞬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间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炫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瞄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几眼       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敛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喜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62120" y="17524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qi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791320" y="175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85800" y="2895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49568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5800" y="4038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mi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76920" y="4038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li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914400" y="525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4114800" y="304920"/>
            <a:ext cx="4724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词语解释</a:t>
            </a:r>
            <a:endParaRPr b="1" lang="en-US" sz="7200" spc="-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43200" y="167652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悄悄、小声地说话。窃窃，形容声音细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比喻四面受敌，孤立无援的处境。本文指被蝉声包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敲锣打鼓。鸣金，敲锣。本文指蝉声很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先没有约定而前来会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荒凉偏僻，少有人到的地方。罕，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招呼、邀引朋友聚在一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着翅膀。敛，收住、收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9480" y="15238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窃窃私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0948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面楚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09480" y="2743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鸣金击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约而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人迹罕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9480" y="4572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呼朋引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14400" y="5181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敛着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11611184100369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380880" y="304920"/>
            <a:ext cx="3962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交流和感受</a:t>
            </a:r>
            <a:endParaRPr b="1" lang="en-US" sz="60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AutoShape 4"/>
          <p:cNvSpPr/>
          <p:nvPr/>
        </p:nvSpPr>
        <p:spPr>
          <a:xfrm rot="10405200">
            <a:off x="304920" y="2819160"/>
            <a:ext cx="4038480" cy="2895480"/>
          </a:xfrm>
          <a:prstGeom prst="wedgeRoundRectCallout">
            <a:avLst>
              <a:gd name="adj1" fmla="val -50388"/>
              <a:gd name="adj2" fmla="val 932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5800" y="3200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完本文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中你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cf341a0455f27819152ee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2057400" y="45720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文章结构</a:t>
            </a:r>
            <a:endParaRPr b="1" lang="en-US" sz="7200" spc="1" strike="noStrike">
              <a:ln w="9360">
                <a:solidFill>
                  <a:srgbClr val="0080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1752480"/>
            <a:ext cx="9367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                           写蝉声让“我”感觉到夏天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                           回忆童年捉蝉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                           写捉蝉独特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7920" y="1828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~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57440" y="34243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 4~9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然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47920" y="4724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第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11112113102208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2819520" y="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部分</a:t>
            </a:r>
            <a:endParaRPr b="1" lang="en-US" sz="7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9144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齐读第一部分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）文章开篇作者写久违的蝉声，为什么先写世俗的声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）在文中，“四面楚歌、鸣金击鼓”分别指什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） “我整个心思都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吸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了过去，就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铁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冲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磁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那样。”你能体会这句话的意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9:21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31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