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3.gif" ContentType="image/gif"/>
  <Override PartName="/ppt/media/image16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33cc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ED90-01BB-4CC8-B85F-8AF50FCE8A5E}" type="slidenum">
              <a:rPr b="1" lang="zh-CN" sz="1200" spc="-1" strike="noStrike">
                <a:solidFill>
                  <a:srgbClr val="33cc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08A7-4F65-404F-B4DD-C3371204BB21}" type="slidenum">
              <a:rPr b="1" lang="zh-CN" sz="1200" spc="-1" strike="noStrike">
                <a:solidFill>
                  <a:srgbClr val="33cc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E88-DC2D-4A7C-8590-18D439B5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133-9441-4E7C-B6F3-939E3DF2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42F41-BDB6-4DD2-94D1-A7C8763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34971-DD0C-40DA-BBC4-5F16B7E3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9DB05-D73E-4F04-A622-4EA9EFB5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EB67D-0672-4295-A4F6-8041D58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F5A97-C4BD-4B2E-BCE8-CB3D53E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92492-9098-402B-8D8C-6F4A6935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1637D-044A-40EC-9117-8B90AFF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E8C2A-D9EB-4F7D-9194-D3A2E239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EA8FB-9AA0-432E-98E1-F69866DB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6FB44-8CA3-4CB1-8E23-86B89578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BDC-E6E2-42B5-8028-87072457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1CC09-8D6D-4C77-BD2C-8283EB25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A4675-252D-4869-9A85-5A8C2FA5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BC5A6-FA49-43BC-B98A-BA6C5516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9A987-3CB4-4A51-B354-A8E9AE99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588BC-49B3-447B-8883-A194A4F0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B491E-754A-4A4F-94CB-16FFF859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D7AAF-8183-4E45-B654-8B6CADFC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6E3E6-FCD3-486B-B92F-938411D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33D78-2AEA-473E-8980-66500AAD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75BB8-E6DD-492C-936E-62707489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8D0-28E0-48BB-97E0-9D85D4BB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80989-CEE0-4612-854B-21FB6FE7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519C0-1059-4F96-B908-E858BEF4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D9534-6A0F-4F3D-AE3D-B9EE5B27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113C2-F87E-4706-8D21-9A358CFD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6166A-E6C9-4D22-A5F0-8534C92E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5D83B-7657-470A-B076-4D854378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6C78C-2B4F-484B-B913-1A5D47DA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F9278-A7C8-4332-86BA-FD4EA848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665B0-060B-4411-8137-F421928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232C2-194F-4336-9083-8D1DBBC6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85C2-33A2-4217-B525-B3BC2D1D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7032C-855A-4551-84BA-6D951E7F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490B9-8DA7-40DB-9A54-94ECD10D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F46A5-ADF0-45D6-B069-091F3DFA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20D36-9367-45FF-B210-8F74998F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FF45E-0F73-4ED3-90C5-A85AD5EE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D0B34-C416-496D-AE3C-A7AAEBCA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66070-2099-4835-BC62-84DC4586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5C121-0DAD-47D0-AFC9-6F087ADB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72631-0F9F-4617-95BF-BB5EDC21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F6567-593B-4F28-8D13-A2637145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D058-2207-40ED-951D-715E761B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28B82-CA17-4F9E-B03A-54B35307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C59EC-33F4-4CBE-BBE1-19DB53C6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E9BA9-1BB5-4E50-AA1E-FED57251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0FC9E-BB41-4C9B-879D-06253AE4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305CF-8AF9-4311-8FA9-9912DA15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60ECC-5E72-4CE6-8806-065D7528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10142-EC35-441B-A18D-6C1C1ACF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7E678-A7B5-4B95-AAB7-C6755378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6F5E4-3245-4D92-AE04-98A8F9BB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A8373-2F6A-4C07-8C01-D05FE498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ACC7-F70D-4309-9F50-2D1DBD44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A0598-F2E6-44DF-91E3-9FC237C6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43AD8-B96E-460B-A4ED-ECB166A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D5824-0194-4F28-AFE7-F42724AD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0B6AA-7D92-465A-8C33-C015B72D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813E5-D626-4EFF-8ADC-532ECC01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83509-A160-4FD8-813A-38DB8E47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12DD7-C016-4210-AD85-5192F129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A232-A4FA-4B7B-A499-AB0F9F48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0A0A-1131-4228-8B0C-693F9029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15B8-7E8E-4B30-A2A9-1E65EBBA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E49C-F969-4587-8941-FB6425A0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784-3F0D-43E8-9D00-A92B75B7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6ECF-A672-4B28-84A0-65E888F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455B-4DB1-4572-8363-55A43D95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B8ED-0777-4C73-8F46-79D4A20E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E6CE-927D-4AA1-9C64-03C89B26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BB0-9263-4880-8226-C2FEC82B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E1E9-86F8-4F76-AC1C-0A9C1AB8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BEBC-A7FE-4DA7-994B-10139256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18F1-5C9E-4F5D-A636-F9D9FAE4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0DE3-F554-4800-88FE-B525FBDB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F033-7843-4468-959F-0F180241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7B5-BCE2-44A9-84DD-96EFD79B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35BC3-4D27-44B2-B88C-5E5FED48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FA38-30EA-4B2A-A3E6-9330ECCB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A7AE-961E-457A-A4D4-B1B12090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DF3B-8213-4299-9B9C-E2AFB541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12B6-6370-4B2D-BEA0-6292E81A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D7CD-4F1A-4262-A0D3-DB5F3F2B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4489-6649-41CA-8EA9-17255973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5A94-5C48-45D3-92F4-651AE6DB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89A41-EEDA-4CC0-99EC-F07234B5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738D0-D8EF-4436-99BD-DB302D06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13C-EA56-4DF2-B966-645F6A6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8227-B60E-43A3-943D-476965AD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A9B9-4CD2-4BFB-A505-0A2E4C21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825C7-26D6-4D65-B08A-79A4CAAE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FF3C0-DBDE-485B-9FD1-392DD328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B1AF-7E0E-42CA-B839-1AA326DB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7019-8C4E-4203-9697-369830C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4C98-572C-4DCE-B0ED-6DE72D1B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FFE3-4282-463D-89B4-6ABCAFB4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ACF26-1597-45AB-8A8F-5BAB62EB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EA0E2-CAB4-490D-8FB7-1BD3D242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B82-9F6F-45C3-AC01-20C938D6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6396E-54FE-4295-A131-A00A416E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85F5F-3666-4EFD-9A8C-7AEC3455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D0BE2-3B1E-499A-922C-8F432D16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288C-5169-47A8-9A98-7CE51EEB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44E7D-D99D-4A56-AE84-B8E84443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01503-F4E3-4000-B44B-D8A6E9AA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91824-D3D4-4C2E-9D78-BD0F83DF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F410-ADAC-47FC-8EB8-E74405F9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F4116-1F6B-4DD2-B0B2-5A52017C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E3C6-75DE-4C35-B42C-B70373C9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F0A-4A44-43FA-8205-6C763F3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4FFD7-8F83-4A2B-9E6B-57EE2ABB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C796-6307-493F-A3C4-18B69C65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C2A7-C269-4A50-8FB3-F46B02D4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F1A50-DB41-4BF1-8141-E438D782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BBA6D-25D3-4E2F-BA28-FED81C61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91E68-6593-42BF-9C62-593C65EE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53D31-50CE-4FA4-A94E-DDAA56E3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CE168-3881-4A69-A5A2-76308004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7201-98C6-428D-8426-A831E64F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6EF85-4052-4D0B-879B-C8E0DAF2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299-AC63-4755-BE13-8CD5D004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F6D40-39F4-4F2D-8414-E5FD890C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3228A-5E82-4FDB-82DE-03A3E6E5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B590-2FA0-40F2-8AAD-C16443F3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317CB-ADFF-4F92-91AF-2251A4C9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4FC0D-C1B6-41A0-84EF-E24CB119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5B0C5-BF8D-4EE6-AC3F-753BF3B3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2442B-9B87-4826-8352-90BA9411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99DD3-7333-4E48-8959-CD776505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F3C25-585F-46E3-AA37-9BF361B7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6AFB8-3456-4999-B5E5-A5FA8FE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46C-955D-4218-9206-4EDD7A81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99EB8-788F-44CA-BEDD-8982CB8E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838F3-EB27-4F58-9FCA-712BEB0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60635-CCFE-418E-8ED4-5E3AF4B6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D8650-9916-415A-84C9-B9CC804D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248D5-B6D9-4EDE-B0AC-59B00B6E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A6B84-733F-4420-97CE-129F3B3C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519A1-53C1-47E2-A75D-04492FC2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C132F-8A73-4A8E-8C7A-940E2644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FA8BD-D48E-4A59-94B7-BAF2A2A7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78D67-0143-41E9-A112-2B61A229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FBC-F024-44DD-B7BF-C681D3D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228E1-286E-4CE5-99F1-C80272E2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86A89-C2AC-457F-8214-9083077F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65D39-3A33-4884-B4FE-12E3E99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48B89-2714-4191-9224-5ABF3332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12344-3CB2-456B-A35A-FC693B5C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04FE7-CA64-45B2-85B3-DF3765CB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2C2D1-4B74-4EDD-942B-F2B42AB0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EDA9B-ECE9-4F90-8E00-A870454C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0195E-7C81-403E-8F4A-B641C830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6FA2A-1448-4554-BE9B-4D96FDD1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13F2-672F-45CC-AC31-3917514B9ABC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7CFD-64EC-4239-AA44-D5A95C602BA6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7452-7DC4-448A-B768-17A8BF90B1EE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6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6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08DB-D896-4961-B54A-13ABAEA64B36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7C42-5513-4A1E-9B07-33FF44C58759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8BF4-5BB6-4063-8C45-2B015920C998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8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12" descr=""/>
          <p:cNvPicPr/>
          <p:nvPr/>
        </p:nvPicPr>
        <p:blipFill>
          <a:blip r:embed="rId3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4369-C5D8-407B-94F5-31D5C0A74D97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1D0D-43B8-454A-B0B3-723F34190988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B2B0-2483-4C23-BA26-9DFDC2D275B3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214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215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B54C-9EF1-4053-A76F-B64CDDBBA009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016F-06E5-4D44-9926-69C7603B2B7A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300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301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E179-90F1-43DF-BB9B-22906AE3D69F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3A23-F295-432C-9B40-3C471766403C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1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3"/>
          <p:cNvSpPr/>
          <p:nvPr/>
        </p:nvSpPr>
        <p:spPr>
          <a:xfrm>
            <a:off x="2138400" y="1600200"/>
            <a:ext cx="4876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早 晨</a:t>
            </a:r>
            <a:endParaRPr b="1" lang="en-US" sz="115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2297160" y="40608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高尔基</a:t>
            </a:r>
            <a:endParaRPr b="1" lang="en-US" sz="3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1" name="矩形 4"/>
          <p:cNvSpPr/>
          <p:nvPr/>
        </p:nvSpPr>
        <p:spPr>
          <a:xfrm>
            <a:off x="1942560" y="58165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微笑的太阳"/>
          <p:cNvPicPr/>
          <p:nvPr/>
        </p:nvPicPr>
        <p:blipFill>
          <a:blip r:embed="rId2"/>
          <a:stretch/>
        </p:blipFill>
        <p:spPr>
          <a:xfrm>
            <a:off x="0" y="0"/>
            <a:ext cx="1924200" cy="228276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3"/>
          <p:cNvSpPr/>
          <p:nvPr/>
        </p:nvSpPr>
        <p:spPr>
          <a:xfrm>
            <a:off x="4572000" y="228600"/>
            <a:ext cx="2514600" cy="1523880"/>
          </a:xfrm>
          <a:custGeom>
            <a:avLst/>
            <a:gdLst>
              <a:gd name="textAreaLeft" fmla="*/ 0 w 2514600"/>
              <a:gd name="textAreaRight" fmla="*/ 2514960 w 251460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欢迎你呀，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界的主宰！”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99" name="横卷形 3"/>
          <p:cNvSpPr/>
          <p:nvPr/>
        </p:nvSpPr>
        <p:spPr>
          <a:xfrm>
            <a:off x="457200" y="2514600"/>
            <a:ext cx="5943600" cy="27432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上好，美丽的浪花！不过你们玩够了，安静一下吧！要是你们继续这样高高地蹦跳，孩子们将不能在海水中洗澡！应该让世界上的一切都能得到各自的享受，不是吗？”</a:t>
            </a:r>
            <a:endParaRPr b="1" lang="en-US" sz="25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600" name="大自然的声音 - 纯音乐 未知歌手.mp3" descr=""/>
          <p:cNvPicPr/>
          <p:nvPr/>
        </p:nvPicPr>
        <p:blipFill>
          <a:blip r:embed="rId3"/>
          <a:stretch/>
        </p:blipFill>
        <p:spPr>
          <a:xfrm>
            <a:off x="78487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-360" y="1080"/>
            <a:ext cx="8915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Lucida Sans Unicode"/>
              </a:rPr>
              <a:t>这些海浪整夜戏耍着，不停地翻滚。现在，他们披头散发，身上绿色的衣裳皱皱巴巴，天鹅绒的长披纱也被搅得乱七八糟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绿色蜥蜴3"/>
          <p:cNvPicPr/>
          <p:nvPr/>
        </p:nvPicPr>
        <p:blipFill>
          <a:blip r:embed="rId2"/>
          <a:stretch/>
        </p:blipFill>
        <p:spPr>
          <a:xfrm>
            <a:off x="4648320" y="3506760"/>
            <a:ext cx="4446360" cy="3276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石头缝中的绿蜥蜴"/>
          <p:cNvPicPr/>
          <p:nvPr/>
        </p:nvPicPr>
        <p:blipFill>
          <a:blip r:embed="rId3"/>
          <a:stretch/>
        </p:blipFill>
        <p:spPr>
          <a:xfrm>
            <a:off x="3240" y="77760"/>
            <a:ext cx="4647960" cy="3351240"/>
          </a:xfrm>
          <a:prstGeom prst="rect">
            <a:avLst/>
          </a:prstGeom>
          <a:ln w="0">
            <a:noFill/>
          </a:ln>
        </p:spPr>
      </p:pic>
      <p:sp>
        <p:nvSpPr>
          <p:cNvPr id="604" name="TextBox 4"/>
          <p:cNvSpPr/>
          <p:nvPr/>
        </p:nvSpPr>
        <p:spPr>
          <a:xfrm>
            <a:off x="5105520" y="1295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天的天气一定很热！”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05" name="TextBox 5"/>
          <p:cNvSpPr/>
          <p:nvPr/>
        </p:nvSpPr>
        <p:spPr>
          <a:xfrm>
            <a:off x="304920" y="35053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大热天，苍蝇飞得不快，蜥蜴能够轻易的捕获它们，把它们吃掉。吃活的苍蝇，这是一件多么惬意的事情！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沾满露水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" descr="阳光照耀下沾满露水的花"/>
          <p:cNvPicPr/>
          <p:nvPr/>
        </p:nvPicPr>
        <p:blipFill>
          <a:blip r:embed="rId3"/>
          <a:stretch/>
        </p:blipFill>
        <p:spPr>
          <a:xfrm>
            <a:off x="4419720" y="3524400"/>
            <a:ext cx="4724280" cy="3333600"/>
          </a:xfrm>
          <a:prstGeom prst="rect">
            <a:avLst/>
          </a:prstGeom>
          <a:ln w="0">
            <a:noFill/>
          </a:ln>
        </p:spPr>
      </p:pic>
      <p:pic>
        <p:nvPicPr>
          <p:cNvPr id="608" name="清晨班得瑞轻音乐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6" descr="u=3384501156,3710757347&amp;fm=23&amp;gp=0.jpg"/>
          <p:cNvPicPr/>
          <p:nvPr/>
        </p:nvPicPr>
        <p:blipFill>
          <a:blip r:embed="rId5"/>
          <a:stretch/>
        </p:blipFill>
        <p:spPr>
          <a:xfrm>
            <a:off x="0" y="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7" descr="u=1231103227,2171715107&amp;fm=21&amp;gp=0.jpg"/>
          <p:cNvPicPr/>
          <p:nvPr/>
        </p:nvPicPr>
        <p:blipFill>
          <a:blip r:embed="rId6"/>
          <a:stretch/>
        </p:blipFill>
        <p:spPr>
          <a:xfrm>
            <a:off x="0" y="34290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“</a:t>
            </a:r>
            <a:r>
              <a:rPr b="0" lang="zh-CN" sz="4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把我们描绘下来吧，先生，早晨我们用露水的衣饰装扮着，是多么的美丽呀！用语言替花儿描绘一帧小照吧！</a:t>
            </a:r>
            <a:r>
              <a:rPr b="0" lang="en-US" sz="4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”</a:t>
            </a:r>
            <a:endParaRPr b="0" lang="en-US" sz="4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5638680" y="456840"/>
            <a:ext cx="38102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美好的太阳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是愉快生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源泉！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美好的工作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把大地装扮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得华丽美艳！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7"/>
          <p:cNvSpPr/>
          <p:nvPr/>
        </p:nvSpPr>
        <p:spPr>
          <a:xfrm>
            <a:off x="152280" y="30492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世界上最美好的事情，是去看一天是怎样诞生的！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                      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高尔基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微笑的太阳1"/>
          <p:cNvPicPr/>
          <p:nvPr/>
        </p:nvPicPr>
        <p:blipFill>
          <a:blip r:embed="rId2"/>
          <a:stretch/>
        </p:blipFill>
        <p:spPr>
          <a:xfrm>
            <a:off x="6553080" y="0"/>
            <a:ext cx="25401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304920" y="1311120"/>
            <a:ext cx="861192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cc33"/>
                </a:solidFill>
                <a:latin typeface="Arial"/>
              </a:rPr>
              <a:t>美丽的东西永远是美丽的，</a:t>
            </a:r>
            <a:endParaRPr b="1" lang="en-US" sz="4500" spc="-1" strike="noStrike">
              <a:solidFill>
                <a:srgbClr val="33cc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cc33"/>
                </a:solidFill>
                <a:latin typeface="Arial"/>
              </a:rPr>
              <a:t>即使在它凋谢的时候；</a:t>
            </a:r>
            <a:endParaRPr b="1" lang="en-US" sz="4500" spc="-1" strike="noStrike">
              <a:solidFill>
                <a:srgbClr val="33cc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cc33"/>
                </a:solidFill>
                <a:latin typeface="Arial"/>
              </a:rPr>
              <a:t>我们所爱的东西我们会永远爱着，</a:t>
            </a:r>
            <a:endParaRPr b="1" lang="en-US" sz="4500" spc="-1" strike="noStrike">
              <a:solidFill>
                <a:srgbClr val="33cc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cc33"/>
                </a:solidFill>
                <a:latin typeface="Arial"/>
              </a:rPr>
              <a:t>即使在我们死去的时候</a:t>
            </a:r>
            <a:r>
              <a:rPr b="1" lang="en-US" sz="4500" spc="-1" strike="noStrike">
                <a:solidFill>
                  <a:srgbClr val="33cc33"/>
                </a:solidFill>
                <a:latin typeface="Arial"/>
              </a:rPr>
              <a:t>……</a:t>
            </a:r>
            <a:endParaRPr b="1" lang="en-US" sz="4500" spc="-1" strike="noStrike">
              <a:solidFill>
                <a:srgbClr val="33cc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cc33"/>
                </a:solidFill>
                <a:latin typeface="Arial"/>
              </a:rPr>
              <a:t>一天开始了！</a:t>
            </a:r>
            <a:endParaRPr b="1" lang="en-US" sz="45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371600" y="914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中融入了作者怎样的情感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685800" y="2438280"/>
            <a:ext cx="57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676520" y="21337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赞美早晨的美丽景色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358128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1600200" y="41911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热爱自然、热爱生活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2590920" y="5335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685800" y="18288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作者抓住（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）刚刚升起时的特点，以（             ）、（            ）、（            ）和（           ）为主要描写对象，用准确优美的文字，从不同角度描绘了（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日出时独有的美景，抒发了作者对早晨由衷的（           ）之情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457200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太阳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34290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海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6172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1447920" y="281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鸟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3809880" y="2819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们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1523880" y="3809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早晨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441972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美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9" name="文本框 1"/>
          <p:cNvSpPr/>
          <p:nvPr/>
        </p:nvSpPr>
        <p:spPr>
          <a:xfrm>
            <a:off x="1523880" y="52624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模板尽在：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600200" y="685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1" lang="en-US" sz="3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990720" y="167652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同学们，学习了这篇文章，我们对美丽的早晨美景有了更深刻的印象，你也一定和老师、同学或父母一起享受过清晨、黄昏、雨后……运用所学的写作方法，把自己的所见所感记录下来。  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143000" y="2666880"/>
            <a:ext cx="754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33" name="WordArt 3"/>
          <p:cNvSpPr txBox="1"/>
          <p:nvPr/>
        </p:nvSpPr>
        <p:spPr>
          <a:xfrm>
            <a:off x="1066680" y="2057400"/>
            <a:ext cx="7315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课到此结束，谢谢大家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使用规范说明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Lucida Sans Unicode"/>
              </a:rPr>
              <a:t> </a:t>
            </a:r>
            <a:r>
              <a:rPr b="0" lang="zh-CN" sz="1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           </a:t>
            </a: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           </a:t>
            </a: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Lucida Sans Unicode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qiye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商务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市场营销策划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  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6397-A2B9-4EEF-8D39-251B9E5FF5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6a84a74ba10bb1c383025c77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4952880" y="0"/>
            <a:ext cx="36576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尔基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8-19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苏联无产阶级作家，社会主义现实主义文学的奠基人。他出身贫苦，幼年丧父，十一岁就为生计在社会上奔波，当过装卸工、面包房工人。这些经历对他的思想和创作产生了重要的影响。代表作品有：《童年》、《在人间》、《我的大学》、《母亲》等。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752480" y="68580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1" lang="en-US" sz="4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533520" y="1676520"/>
            <a:ext cx="83055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初读课文，正确认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要求会认   的生字，掌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要求会写的字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再读课文，了解课文大意，理清文章脉络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体会本文景物描写的特点，感受大自然的美好，唤起学生对自然、对生活的热爱之情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4"/>
          <p:cNvSpPr/>
          <p:nvPr/>
        </p:nvSpPr>
        <p:spPr>
          <a:xfrm>
            <a:off x="3276720" y="16002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8" name="Text Box 2"/>
          <p:cNvSpPr/>
          <p:nvPr/>
        </p:nvSpPr>
        <p:spPr>
          <a:xfrm>
            <a:off x="1600200" y="2286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检查预习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457200" y="914400"/>
            <a:ext cx="7772400" cy="601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1" lang="en-US" sz="36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音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醇 （            ）  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       )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写一写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ū   gōng             chún   hòu                    wěn   ruì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      )           (                  )                (                  )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è sè                qiè     yì                     xīngsōng                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     )          (                 )               (                  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多音字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缝                                  钻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2438280" y="76212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章结构层次</a:t>
            </a:r>
            <a:endParaRPr b="1" lang="en-US" sz="4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228600" y="205740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概括说明早晨是一天中最美好的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—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具体描绘太阳升起时，海面上美丽的景色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—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具体描绘太阳升起时，陆地上美丽的景色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Rectangle 2" descr=""/>
          <p:cNvPicPr/>
          <p:nvPr/>
        </p:nvPicPr>
        <p:blipFill>
          <a:blip r:embed="rId1"/>
          <a:stretch/>
        </p:blipFill>
        <p:spPr>
          <a:xfrm>
            <a:off x="0" y="685800"/>
            <a:ext cx="1371600" cy="9349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7315200" y="609480"/>
            <a:ext cx="16002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海浪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2514600" y="1752480"/>
            <a:ext cx="114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蜥蜴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7543800" y="1752480"/>
            <a:ext cx="1371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花儿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2514600" y="2895480"/>
            <a:ext cx="114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蜜蜂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391520" y="2895480"/>
            <a:ext cx="198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知更鸟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2590920" y="3962520"/>
            <a:ext cx="114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黄雀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6781680" y="3962520"/>
            <a:ext cx="3124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家燕和雨燕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7162920" y="5257800"/>
            <a:ext cx="22096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蔷薇花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457200" y="685800"/>
            <a:ext cx="2590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和煦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457200" y="1752480"/>
            <a:ext cx="2666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惬意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304920" y="2895480"/>
            <a:ext cx="2438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金色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304920" y="3886200"/>
            <a:ext cx="2590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快乐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4800600" y="609480"/>
            <a:ext cx="2666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顽皮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4724280" y="1676520"/>
            <a:ext cx="327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沾满露水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4800600" y="2895480"/>
            <a:ext cx="2438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红胸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4648320" y="3962520"/>
            <a:ext cx="2590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幸福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4724280" y="5257800"/>
            <a:ext cx="2438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微笑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514600" y="5105520"/>
            <a:ext cx="114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人们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380880" y="5029200"/>
            <a:ext cx="2590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勤劳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3059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描写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__________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时，作者使用了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______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修辞方法），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_______________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词语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表现了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________________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_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事物的特点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表达了作者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________________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__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的感情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676520" y="6094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太阳初升，带来光明</a:t>
            </a:r>
            <a:endParaRPr b="1" lang="en-US" sz="4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930400" y="27208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95" name="Text Box 2"/>
          <p:cNvSpPr/>
          <p:nvPr/>
        </p:nvSpPr>
        <p:spPr>
          <a:xfrm>
            <a:off x="152280" y="265104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天空中突然闪出一丝阳光。夜的黑暗将悄悄地躲藏到山谷和石缝中去，躲藏到浓密的树叶里去，躲藏到沾满露水的乱草丛中去。山顶露出愉悦的笑容，仿佛在对夜的淡淡的阴影说：“别害怕，这是太阳！”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596" name="大自然的声音 - 纯音乐 未知歌手.mp3" descr=""/>
          <p:cNvPicPr/>
          <p:nvPr/>
        </p:nvPicPr>
        <p:blipFill>
          <a:blip r:embed="rId2"/>
          <a:stretch/>
        </p:blipFill>
        <p:spPr>
          <a:xfrm>
            <a:off x="8001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0:10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7:59Z</dcterms:modified>
  <cp:revision>8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