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EB4-E05F-4A34-BDFE-915626F4E8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F98-77A4-435E-9BFB-DF15E64A6E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76C-640E-4B75-8D1F-1986CC29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655-61C9-40EA-A258-A5326F2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D52-F8DE-4B21-8280-38C46E03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BCB-0D19-4D76-94B1-C538340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BE6-0B83-4300-8A55-A3C8EE3D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502-EC6D-4ECB-B1A5-32903FDB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6B8-2F55-4093-841C-A8DE3AA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861-ED0D-4AB6-842D-8E86292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DE9-6BCD-450F-9BE1-D41CCB3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3D8-67BF-4B68-9213-C77433E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C28-C384-4021-A6E8-A5CA952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DE7-26BA-4345-BA7C-63EE522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F65E-3646-417D-9768-65CF264F67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43280" y="907920"/>
            <a:ext cx="61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华文隶书"/>
                <a:ea typeface="华文隶书"/>
              </a:rPr>
              <a:t>再寄小读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735200" y="607212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428760" y="1357200"/>
            <a:ext cx="835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小孩子。我写儿童通讯的时节，我似乎看得见那天真纯洁的对象，我行云流水似的，不造作，不矜持，说我心中所要说的话。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928800" y="714240"/>
            <a:ext cx="329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357280" y="2159280"/>
            <a:ext cx="46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寄小读者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寄小读者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673200" y="6002280"/>
            <a:ext cx="53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310400" y="642960"/>
            <a:ext cx="1278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42960" y="28260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完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寄小读者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文章，写写自己的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搜集冰心的作品并进行阅读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082-D4D7-4060-9CF8-3A0284D0B4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571680" y="857160"/>
            <a:ext cx="807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心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开始写第一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在北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报副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新辟“儿童世界”一栏连载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共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通讯组成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开始，冰心开始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寄小读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本文是“通讯一”，本系列共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通讯组成。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寄小读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寄小读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前后五十多年，冰心奶奶时时刻刻都在关心着少年儿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785880" y="121428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谓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是一种新闻体裁，是翔实而生动地报道客观事物或典型人物的文章。从表现形式上看，文章类似书信，有写作对象的称谓，有极富情感的交流内容，有落款，有写作的日期及地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00040" y="4539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字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28800" y="1643040"/>
            <a:ext cx="5643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曙             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狱             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辣             酸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643720" y="1571760"/>
            <a:ext cx="12855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ǎ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714680" y="1643040"/>
            <a:ext cx="1857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h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929280" y="1643040"/>
            <a:ext cx="1428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亿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酸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57400" y="1643040"/>
            <a:ext cx="13575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曙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监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辣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篇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"/>
          <p:cNvSpPr/>
          <p:nvPr/>
        </p:nvSpPr>
        <p:spPr>
          <a:xfrm>
            <a:off x="3059280" y="321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928800" y="83988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心奶奶在这篇课文中向我们谈了几方面的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1571760" y="2928960"/>
            <a:ext cx="700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继续为儿童写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继续写作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祖国三十多年的大变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571680" y="1000080"/>
            <a:ext cx="8143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边读边体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冰心奶奶写的内容上看，你认为冰心奶奶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怀着怎样的心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写这封信的？你是从哪些句子和词语中读出了冰心奶奶的心情？勾画有关语句，并写下批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4214880" y="911160"/>
            <a:ext cx="435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个不平常的春天里，我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其真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其炽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想起你们来了。我似乎看见了你们漆黑发光的大眼睛，笑嘻嘻的通红而略带腼腆的小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C20090330093506687"/>
          <p:cNvPicPr/>
          <p:nvPr/>
        </p:nvPicPr>
        <p:blipFill>
          <a:blip r:embed="rId2"/>
          <a:stretch/>
        </p:blipFill>
        <p:spPr>
          <a:xfrm>
            <a:off x="399960" y="907920"/>
            <a:ext cx="3743280" cy="469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285840" y="61920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如今再拿起这支笔来，给你们写通讯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论我走到哪里，我都要把热爱你们的心，带到哪里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不断地写，好好地写，把我看到听到想到的事情，只要我觉得你们会感兴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对你们有益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都要尽量地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倾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C20090330093506093"/>
          <p:cNvPicPr/>
          <p:nvPr/>
        </p:nvPicPr>
        <p:blipFill>
          <a:blip r:embed="rId2"/>
          <a:stretch/>
        </p:blipFill>
        <p:spPr>
          <a:xfrm>
            <a:off x="4071960" y="3000240"/>
            <a:ext cx="4500720" cy="292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785880" y="5000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从决心再给你们写通讯，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几夜不能安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今早四点钟就醒了，睁开眼来是满窗的明月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20090330093506890"/>
          <p:cNvPicPr/>
          <p:nvPr/>
        </p:nvPicPr>
        <p:blipFill>
          <a:blip r:embed="rId2"/>
          <a:stretch/>
        </p:blipFill>
        <p:spPr>
          <a:xfrm>
            <a:off x="1785960" y="3214800"/>
            <a:ext cx="5857920" cy="328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24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4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