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33E-3783-4D17-B6A4-1CBD6D3286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7D2-A0A7-46EB-B3D9-B193F53714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5A0-AF8A-4B1C-A12B-6045F8A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8F4-E674-4CFB-BE98-B57F7D41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892-1A51-4144-8E2C-4FEC04B9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9CE-4228-4306-9A5A-C9D518E7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315-275A-4379-A28C-0905190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EBF-0F9B-42B0-8013-69362AA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189-B588-4041-B32F-3559070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7AF-07A2-4A3E-B072-15AFB25C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2F8-7902-48F8-9F94-8343D01E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CAB-233C-4B69-AC1D-8B418EB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4EE-FE84-4F31-98C5-37BFC0A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97D-8F21-4EA4-A25E-4C095B1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BA8-E7FD-466C-8803-9FB04645D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354400" y="2597040"/>
            <a:ext cx="4419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站起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9992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4AD-CCB7-4FAE-B749-764A1B0D3C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143000" y="3124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742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2362320"/>
            <a:ext cx="780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说一说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这两个自然段主要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31840" y="2644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020320" y="1828800"/>
            <a:ext cx="4636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个月后，父亲希望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到一个怎样的儿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3962520"/>
            <a:ext cx="75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看了孩子的表现，父亲是什么态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父亲看到孩子的表现时，是什么反应？找出关键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77240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3581280" y="3657600"/>
            <a:ext cx="25909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324480" y="41911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14400" y="480060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14400" y="4952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结果真的是这样吗？听到父亲这么说，你觉得他说的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65" name="Oval 5"/>
          <p:cNvSpPr/>
          <p:nvPr/>
        </p:nvSpPr>
        <p:spPr>
          <a:xfrm>
            <a:off x="3429000" y="3124080"/>
            <a:ext cx="121932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3886200" y="3733920"/>
            <a:ext cx="121932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2209680" y="3733920"/>
            <a:ext cx="99072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23880" y="4648320"/>
            <a:ext cx="2895840" cy="1981080"/>
          </a:xfrm>
          <a:prstGeom prst="cloudCallout">
            <a:avLst>
              <a:gd name="adj1" fmla="val 1875"/>
              <a:gd name="adj2" fmla="val -104949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丝毫没有    害怕的样   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5334120" y="3124080"/>
            <a:ext cx="60948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609480" y="1828800"/>
            <a:ext cx="788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孩子在与巨人摔跤时，是怎样的表现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出表示动作的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父亲后来是怎样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315200" cy="206352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>
            <a:off x="2286000" y="3276720"/>
            <a:ext cx="28195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066680" y="3809880"/>
            <a:ext cx="70866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066680" y="43434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181480" y="3809880"/>
            <a:ext cx="53352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752480" y="5105520"/>
            <a:ext cx="3581640" cy="1066680"/>
          </a:xfrm>
          <a:prstGeom prst="wedgeRoundRectCallout">
            <a:avLst>
              <a:gd name="adj1" fmla="val 45657"/>
              <a:gd name="adj2" fmla="val -131398"/>
              <a:gd name="adj3" fmla="val 16667"/>
            </a:avLst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子倒下去又站起来的勇气和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914400" y="3276720"/>
            <a:ext cx="114300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809880" y="3276720"/>
            <a:ext cx="137160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5335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96080" cy="444168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1905120" y="3809880"/>
            <a:ext cx="6172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838080" y="480060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434340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838080" y="5410080"/>
            <a:ext cx="2971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18000" y="1219320"/>
            <a:ext cx="39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楷体_GBK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文中哪句话感动了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2133720"/>
            <a:ext cx="831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你觉得还有什么是真正的男子气概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965160" y="591804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3:48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39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5009000000000001024120</vt:lpwstr>
  </property>
  <property fmtid="{D5CDD505-2E9C-101B-9397-08002B2CF9AE}" pid="4" name="Version">
    <vt:r8>1</vt:r8>
  </property>
</Properties>
</file>