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E63A-ED73-4E8F-93FF-8E045B03703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ABA6-35E9-49A6-B5A9-554F60DE20CC}" type="slidenum">
              <a:rPr b="0" lang="zh-CN" sz="12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E817CA-83EB-4B18-B750-06BA683D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05A6-96D7-4B6D-864E-02B742FA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58D51-D52A-4738-9407-36413603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9C083-BA78-4FCF-ACE5-4D2A5594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6E551-F4F2-4760-B919-C899D943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11622-74E0-4E0A-B56A-BD279090A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0D84F-E140-47ED-851B-DA46A1EB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53614-60BA-42E0-9297-BAEE5A026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B62CF1-0A67-40F3-9C4A-816A88EF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60DC7-8482-4C30-8132-BEBE0F10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822BB-7B57-4498-A6B6-3633E12F6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2C7B5-E533-4E67-9ECF-C51965AA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2674F-EBBA-4019-963B-110F0039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67EF3-C80B-4959-A873-9CB2E121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DF02C-AF33-4CEB-ADFF-6F548E48E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280AF-D699-4DE9-9B02-F2F2FF9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D2805-45FB-4658-B027-35944D2B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9B871-07F5-4E02-A48C-16164C87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DB5B2-D989-4098-AD6F-70B1B9972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0754C-3E2D-4655-AEA5-670CDE32A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6C31E-AAB1-4094-9390-82E45C8F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A4400-2487-4AE6-8742-B9DA0BDCF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FB1902-3908-43F6-BA18-C7E15FA5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C539E-958D-4746-8DE7-5430E4BC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8F710A-371B-428F-B4E6-16BF58F1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2BB3E-B36D-44C6-8152-4ECFC8E5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93E66-37F0-48E6-A761-EA0ADFCF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19DA3-6B88-4E09-9E65-67F3527F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BF72B-9483-4B2B-81AF-783768B9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193AF-F267-4543-9A57-335EECE8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7D985-5DA9-44BA-8B14-E787E7A4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7CFE37-2BC9-4082-B5B2-0FE498F2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7C083-C9EF-433E-A7A8-41435B85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52F67-7922-4D65-9670-66C9DE64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763D7-EEB6-406E-A53D-5B078789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CB870-8A78-4806-B46E-B59F7AE8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49BA0-F71D-41B5-8D6E-D01A5FC8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D8CCD-E11A-4ACB-8283-67701EE3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BAB7D-833D-4692-8835-248E6B6C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37B3E-C218-4472-BDCB-74219CD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07611-37F6-442F-83AF-F6B7B121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B564F-F40B-4924-B808-693AB704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8C0AA-C8F7-432D-8663-FCEFE473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3E7CC-BDF6-42A9-A381-25027BF4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A22A4-492B-4230-AA35-A4B9207F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8463-C25B-4580-B418-2F848249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1A72-0B91-4865-B74B-06D6DB35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246A-8374-468D-9E12-5495BEF6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D9B1-A301-4912-9A95-62008E55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AE43-0A05-49BA-812F-921F4F99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232F-ECB9-4646-B521-2ECFCD9D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B19-B9BD-43DF-87B1-BB71E32B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A994-04DA-47FE-B192-324B58C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1F3-56BE-4DEF-A0B5-4A86961B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AF2-1D8D-4811-97AE-DBFA9F73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4AE2-C51C-4FA2-95FF-B7F9730B5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9A1-B2C8-45AA-A57A-7C0967D0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636C-0040-4596-8B96-BC9FDD3D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438A-9399-483C-8192-4F0E742A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293D-0E0F-42D4-A9C6-67FCACE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CD1E-2441-484C-92CF-E0D7754B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2C7E-C742-41BF-9C6F-E92A23ED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C813-C700-4B56-B417-34BFF4A8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A4F2-51AA-4550-A80C-0D74EBD7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288A-D760-4798-B555-10C3B0D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E440-0E13-42A7-960B-4D304478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97131-7956-4DF0-A756-2A5F2474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A57B-0D07-45D3-9517-AE94409B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5637-660E-420A-BFCC-CE9E1AB3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44C04-6504-4FD8-A0AA-1A359501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481C1-8967-42DC-AB07-7FE82623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DF89-5FBF-4E9C-8E55-C0A17A51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07422-5CF2-4E87-AA49-40DB1CD1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D026B-BB3A-44DC-8C04-A602B178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C7ED0-6413-4CE1-AC99-F4C50A73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BC632-BB9F-4928-B7AA-F1C39B04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6D802-2D59-495B-AB7E-CFA42A4B9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758FEA-6454-4C6B-B827-51166513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9BB89-BA1D-4B0F-A12F-A2C695DB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812F3-6895-4874-8451-641395BE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5E6AC-1EC5-44A6-815A-ED71EB7B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F67E1-6686-4467-906A-1189B60E2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712C-830E-4E77-8E9A-30B39F3B1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3E60-D99D-4530-B2D8-86EB24D2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6DE3A-9A4D-4874-8125-D6012BF3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86F29-B377-4378-A65A-AA0C929C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AA1D-8E48-4717-A4F8-690FC9C8C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F9306-807D-427F-AB93-A8A32663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358E0-968A-451D-AE51-D7EDC2B5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B362-79AD-44B8-A581-01453A0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5034A-A9AA-411D-A717-A1B8A6FD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24CD-FDFE-4FD1-88E1-5F4B7584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70A9-5F0E-4C59-8435-072FD35B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AB95F-7F33-4491-B410-CAE42C4DA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8784A-6722-43EE-9066-8A515A82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B619A-0B2F-44F0-B573-FCB627A9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173BA-470D-40E6-9F50-6D7277A2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AFF76-6961-4A5C-860D-168D9A60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1654A-95ED-4062-BF26-92FCB0FF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F00EF-F00E-4ABB-8DAB-A6B194D8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20BF2-DF0F-4830-8C93-5DFD7D4B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AF712-108B-40A2-8C27-EA3A9C11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F423-1D74-47D4-B821-312C7978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71F33-E0A1-4D4E-A0F1-39971E6DE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CA29A-D976-4E92-84B5-143138052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C97F1-ECB8-4103-BF57-778FCF1C9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BE837-1568-410D-8FBB-0AB67EF5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E3393-04F2-410C-AAFB-8417E422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BBD25-32A5-4A21-8EEF-A3A7F29C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95DB6-477C-4D2E-97A2-18B1C19F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C0E73-BB9A-4D8F-9EF5-23A8AEF1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CA578-A818-4D86-BB05-044C90A7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B1263-B11D-42F3-A549-CF096E6A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69F1-11CA-45F2-882E-77E57B9E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65FFB-7666-4285-96D4-61DBABA0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B5072-F202-4710-9E7C-E154648FB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27BA0-33DD-44B3-96F1-6DE5377C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59481-1E3E-466D-9088-FD580CEAC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7EFA8-2AEB-4FB6-B704-8A9AF9DB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9769A6-83CD-47D3-AF41-933629DC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4897-4840-4750-B326-54246D7314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3CCE4-2BB3-4026-9705-C0B90ECB4C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3EE-182F-4AD4-A2AD-C7CE2E5E74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807C-B7DF-4B57-A93F-033ED254FC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5DAE-1FCD-4E2D-A893-AE0AA7E800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49B2-BD64-4A20-9E32-5CAFC1A23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FB62-C8B2-4705-A55F-17B260FE1E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512A-61FE-44CC-AB34-E59531E4B3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95D1-352A-438A-ADD2-0D1CDC7A8F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2FD8-432F-4A37-8CC4-9488114DC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view/2677.htm" TargetMode="External"/><Relationship Id="rId3" Type="http://schemas.openxmlformats.org/officeDocument/2006/relationships/hyperlink" Target="http://baike.baidu.com/view/1076.htm" TargetMode="External"/><Relationship Id="rId4" Type="http://schemas.openxmlformats.org/officeDocument/2006/relationships/hyperlink" Target="http://baike.baidu.com/view/29247.htm" TargetMode="External"/><Relationship Id="rId5" Type="http://schemas.openxmlformats.org/officeDocument/2006/relationships/hyperlink" Target="http://baike.baidu.com/view/2691.htm" TargetMode="External"/><Relationship Id="rId6" Type="http://schemas.openxmlformats.org/officeDocument/2006/relationships/hyperlink" Target="http://baike.baidu.com/view/114993.htm" TargetMode="External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94436.htm" TargetMode="External"/><Relationship Id="rId2" Type="http://schemas.openxmlformats.org/officeDocument/2006/relationships/hyperlink" Target="http://baike.baidu.com/view/33058.htm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view/94436.htm" TargetMode="External"/><Relationship Id="rId2" Type="http://schemas.openxmlformats.org/officeDocument/2006/relationships/hyperlink" Target="http://baike.baidu.com/view/33058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3"/>
          <p:cNvSpPr/>
          <p:nvPr/>
        </p:nvSpPr>
        <p:spPr>
          <a:xfrm>
            <a:off x="609480" y="1752480"/>
            <a:ext cx="42674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竹石</a:t>
            </a:r>
            <a:endParaRPr b="0" lang="en-US" sz="13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"/>
          <p:cNvSpPr/>
          <p:nvPr/>
        </p:nvSpPr>
        <p:spPr>
          <a:xfrm>
            <a:off x="1446120" y="4737240"/>
            <a:ext cx="25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清  郑燮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矩形 8"/>
          <p:cNvSpPr/>
          <p:nvPr/>
        </p:nvSpPr>
        <p:spPr>
          <a:xfrm>
            <a:off x="558360" y="5943600"/>
            <a:ext cx="4912920" cy="4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201002051124549833_S"/>
          <p:cNvPicPr/>
          <p:nvPr/>
        </p:nvPicPr>
        <p:blipFill>
          <a:blip r:embed="rId1"/>
          <a:stretch/>
        </p:blipFill>
        <p:spPr>
          <a:xfrm>
            <a:off x="6248520" y="304920"/>
            <a:ext cx="2895480" cy="6172200"/>
          </a:xfrm>
          <a:prstGeom prst="rect">
            <a:avLst/>
          </a:prstGeom>
          <a:ln w="0">
            <a:noFill/>
          </a:ln>
        </p:spPr>
      </p:pic>
      <p:sp>
        <p:nvSpPr>
          <p:cNvPr id="476" name="Text Box 3"/>
          <p:cNvSpPr/>
          <p:nvPr/>
        </p:nvSpPr>
        <p:spPr>
          <a:xfrm>
            <a:off x="95400" y="1101600"/>
            <a:ext cx="617220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字克柔，号板桥，又号理庵，江苏兴化人，生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9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，卒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76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，康熙秀才、雍正举人、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乾隆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3"/>
              </a:rPr>
              <a:t>进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客居扬州，以卖画为生。为“</a:t>
            </a:r>
            <a:r>
              <a:rPr b="1" lang="zh-CN" sz="2800" spc="-1" strike="noStrike">
                <a:solidFill>
                  <a:srgbClr val="0099cc"/>
                </a:solidFill>
                <a:latin typeface="Arial"/>
                <a:ea typeface="宋体"/>
              </a:rPr>
              <a:t>扬州八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”之一，其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4"/>
              </a:rPr>
              <a:t>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5"/>
              </a:rPr>
              <a:t>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6"/>
              </a:rPr>
              <a:t>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世称“三绝”，擅画兰竹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郑板桥任潍县知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，最大的政绩是救济灾民。他处处关心百姓，千方百计拯民于水火，因此触犯了豪绅巨贾利益，遭诬告罢官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380880" y="22860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Arial"/>
                <a:ea typeface="宋体"/>
              </a:rPr>
              <a:t>郑燮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7"/>
          <p:cNvSpPr/>
          <p:nvPr/>
        </p:nvSpPr>
        <p:spPr>
          <a:xfrm>
            <a:off x="228600" y="1143000"/>
            <a:ext cx="4800600" cy="39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竹 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1"/>
              </a:rPr>
              <a:t>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郑 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iè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咬定青山不放松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立根原在破岩中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千磨万击还坚劲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任尔东西南北风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79" name="Picture 13" descr="724a4a5d94677241a7d31c78913c05e5"/>
          <p:cNvPicPr/>
          <p:nvPr/>
        </p:nvPicPr>
        <p:blipFill>
          <a:blip r:embed="rId3"/>
          <a:stretch/>
        </p:blipFill>
        <p:spPr>
          <a:xfrm>
            <a:off x="5257800" y="304920"/>
            <a:ext cx="350532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0" y="228600"/>
            <a:ext cx="4800600" cy="53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竹 石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1"/>
              </a:rPr>
              <a:t>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800" spc="-1" strike="noStrike" u="sng">
                <a:solidFill>
                  <a:srgbClr val="00b200"/>
                </a:solidFill>
                <a:uFillTx/>
                <a:latin typeface="Arial"/>
                <a:ea typeface="宋体"/>
                <a:hlinkClick r:id="rId2"/>
              </a:rPr>
              <a:t>郑 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iè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咬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青山不放松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立根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在破岩中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千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万击还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坚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　　</a:t>
            </a:r>
            <a:r>
              <a:rPr b="0" lang="zh-CN" sz="3600" spc="-1" strike="noStrike" u="sng">
                <a:solidFill>
                  <a:srgbClr val="990000"/>
                </a:solidFill>
                <a:uFillTx/>
                <a:latin typeface="Arial"/>
                <a:ea typeface="宋体"/>
              </a:rPr>
              <a:t>任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东西南北风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1" name="Picture 5" descr="8_huaniao"/>
          <p:cNvPicPr/>
          <p:nvPr/>
        </p:nvPicPr>
        <p:blipFill>
          <a:blip r:embed="rId3"/>
          <a:stretch/>
        </p:blipFill>
        <p:spPr>
          <a:xfrm>
            <a:off x="6081840" y="1319040"/>
            <a:ext cx="2581200" cy="467712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7"/>
          <p:cNvSpPr/>
          <p:nvPr/>
        </p:nvSpPr>
        <p:spPr>
          <a:xfrm>
            <a:off x="3505320" y="457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竹石：扎根在石缝中的竹子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990720" y="579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任：任凭。</a:t>
            </a: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10"/>
          <p:cNvSpPr/>
          <p:nvPr/>
        </p:nvSpPr>
        <p:spPr>
          <a:xfrm>
            <a:off x="0" y="22096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咬定：比喻根扎得结实，像咬着青山不松口一样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228600" y="34290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立根：扎根，生根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3809880" y="3429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原：本来。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13"/>
          <p:cNvSpPr/>
          <p:nvPr/>
        </p:nvSpPr>
        <p:spPr>
          <a:xfrm>
            <a:off x="838080" y="4495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磨：折磨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Text Box 14"/>
          <p:cNvSpPr/>
          <p:nvPr/>
        </p:nvSpPr>
        <p:spPr>
          <a:xfrm>
            <a:off x="3505320" y="45720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坚劲：坚定强劲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Text Box 15"/>
          <p:cNvSpPr/>
          <p:nvPr/>
        </p:nvSpPr>
        <p:spPr>
          <a:xfrm>
            <a:off x="3809880" y="57913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Arial"/>
                <a:ea typeface="宋体"/>
              </a:rPr>
              <a:t>尔：你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4"/>
          <p:cNvSpPr/>
          <p:nvPr/>
        </p:nvSpPr>
        <p:spPr>
          <a:xfrm>
            <a:off x="457200" y="6094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咬住了青山就绝不肯放松，竹根已经深扎在岩石缝之中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宋体"/>
              </a:rPr>
              <a:t>　　历经千万次磨炼还是那样坚韧，不管是东风西风，还是南风北风，都不能把它吹倒，不能让它屈服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文本框 1"/>
          <p:cNvSpPr/>
          <p:nvPr/>
        </p:nvSpPr>
        <p:spPr>
          <a:xfrm>
            <a:off x="2455920" y="4606920"/>
            <a:ext cx="562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1"/>
          <p:cNvSpPr/>
          <p:nvPr/>
        </p:nvSpPr>
        <p:spPr>
          <a:xfrm>
            <a:off x="1614600" y="358128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380880" y="91440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竹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作者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。诗人用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（                   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方法，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赞颂了岩竹（                       ）的品质，表达了诗人（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4648320" y="9144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清朝的郑燮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1981080" y="1371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托物言志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1143000" y="1905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坚定顽强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Text Box 13"/>
          <p:cNvSpPr/>
          <p:nvPr/>
        </p:nvSpPr>
        <p:spPr>
          <a:xfrm>
            <a:off x="380880" y="2514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对当时黑暗社会不妥协的斗争意志和高尚节操。</a:t>
            </a:r>
            <a:r>
              <a:rPr b="0" lang="zh-CN" sz="18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98" name="Picture 15" descr="7aad4ae7e5a1b66eb9382096"/>
          <p:cNvPicPr/>
          <p:nvPr/>
        </p:nvPicPr>
        <p:blipFill>
          <a:blip r:embed="rId1"/>
          <a:stretch/>
        </p:blipFill>
        <p:spPr>
          <a:xfrm>
            <a:off x="1066680" y="3276720"/>
            <a:ext cx="480060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F745-6A24-467D-897C-2C2D3A7BE1E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5:52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19:02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