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8-13T13:29:59.359000000" idx="1">
    <p:pos x="5312" y="58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6A2-FFED-4608-8018-A2139C9E1F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E26-2EF6-47E3-A819-34DECC194D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A2C-CCA3-42DF-AFB7-08B0FC3B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16A-D69F-468F-A4E2-2805414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EBD-1237-4B86-A71A-6DF24A93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E0A-62DD-4FCF-8CFA-A82278B9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C34-04B8-4E65-8A8F-251E839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E2C-7DBA-47F4-BDDA-0C7B238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03B-6E1F-4041-94A5-199D309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7B4-8A92-44AC-B314-6669FC4E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1F0-C883-4C04-B706-637D0B4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4C0-1299-48CD-967F-F05689C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209-887D-45EC-A7C4-5873575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2FF-18EF-4C43-8644-BC0CBD0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C09-0EF2-43E4-8760-D55C3B3C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1482840" y="1879560"/>
            <a:ext cx="64785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10" descr=""/>
          <p:cNvPicPr/>
          <p:nvPr/>
        </p:nvPicPr>
        <p:blipFill>
          <a:blip r:embed="rId3"/>
          <a:stretch/>
        </p:blipFill>
        <p:spPr>
          <a:xfrm>
            <a:off x="1865160" y="556272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33520" y="2286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.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欣赏诗人笔下的小白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不再胆怯的小白菊，慢慢的抬起他们的头试试寒，试试暖，然后一瓣瓣地绽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想象小白菊绽放时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感受诗句的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28760" y="1981080"/>
            <a:ext cx="87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柔弱的小白菊熬过风吹雨打，在雨后的阳光中舒展开它的枝叶，感受着雨后的轻风与暖阳。和煦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光召唤着它们，小白菊终于绽开了笑容，一瓣瓣地舒展、开放，在雨后的晴阳下抖擞一身的明艳，显示出勃勃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57200" y="4484520"/>
            <a:ext cx="854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诗人是多么的浪漫，采用了拟人手法，运用“胆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形容小白菊经历了风雨的吹打，运用“慢慢”“试试”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些词描绘小白菊的谨慎，表现小白菊的可爱与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66680" y="1484280"/>
            <a:ext cx="664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如果把这句诗中“一瓣瓣”改成“一瓣一瓣”好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04960" y="2813040"/>
            <a:ext cx="619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一瓣一瓣”不能够把连续开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的情形表达出来，体现不出绽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所表达的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33520" y="417600"/>
            <a:ext cx="841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欣赏诗人笔下的风蝶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抖去水珠的凤蝶儿，在木叶间自在闲游，把它饰彩的智慧书页，曝着阳光一开一放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理解诗句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感受诗句的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1523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凤蝶儿在雨后的花木中自由自在的飞翔，它那美丽的翅膀在阳光下一张一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176200" y="2960640"/>
            <a:ext cx="5387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闲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词采用了拟人手法，表现了凤蝶儿的自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与快乐，体现了雨后的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智慧书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采用了比喻的手法，形象的描绘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凤蝶儿翅膀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曝着阳光一开一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描绘了凤蝶儿的动态美，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示着生命的活力，表现了雨后小径的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27160" y="396720"/>
            <a:ext cx="801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齐读第一节诗，完成下面小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路（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后  小草美好（                  ）美好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白菊（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凤蝶儿（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213372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21337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213372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 flipH="1">
            <a:off x="7391160" y="1676520"/>
            <a:ext cx="7596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0"/>
          <p:cNvSpPr/>
          <p:nvPr/>
        </p:nvSpPr>
        <p:spPr>
          <a:xfrm flipH="1">
            <a:off x="6933960" y="1676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68580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4421160" y="3657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4267080" y="136512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凉爽又温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8"/>
          <p:cNvSpPr/>
          <p:nvPr/>
        </p:nvSpPr>
        <p:spPr>
          <a:xfrm>
            <a:off x="4419720" y="3733920"/>
            <a:ext cx="27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美丽地绽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9"/>
          <p:cNvSpPr/>
          <p:nvPr/>
        </p:nvSpPr>
        <p:spPr>
          <a:xfrm>
            <a:off x="4343400" y="474012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快乐地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0"/>
          <p:cNvSpPr/>
          <p:nvPr/>
        </p:nvSpPr>
        <p:spPr>
          <a:xfrm>
            <a:off x="5338800" y="2584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一身新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898560" y="228600"/>
            <a:ext cx="75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第二节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到小径中去走走吧，在天晴了的时候：赤着脚，携着手，踏着新泥，涉过溪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066680" y="1644480"/>
            <a:ext cx="76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雨后的小径该怎样走才能充分显示它的美好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赤着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让赤裸的双足与柔软的泥路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昵地接触，充分地享受泥路的温柔，感觉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后的温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携着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与朋友、家人一同出游，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享受雨后清新的空气和美好的景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踏着新泥，涉过溪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味地往前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让雨后大自然的泥土与流水在足下经过，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所有美景一一尽收眼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080" y="417600"/>
            <a:ext cx="76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习第三节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阳推开阴霾了，溪水在温风中晕皱，看山间移动的暗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云的脚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它也在闲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理解诗句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感受诗句的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90720" y="1905120"/>
            <a:ext cx="77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雨后的太阳照耀着大地，云开雾散，溪水在温风中漾起美丽的波纹，山中的绿树在雨后显得更加翠绿，天上的云朵也在悠闲地飘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3646440"/>
            <a:ext cx="789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推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词采用了拟人的手法，描绘出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阳的力量是伟大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晕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词表现了溪水的陶醉与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云的脚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它也在闲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在诗人的笔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云是有脚的，云是浪漫的，云是在悠闲地散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974880" y="569880"/>
            <a:ext cx="761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人运用拟人的手法，描绘了天晴时小径上美丽的景物，表现了景物鲜活的生命力，表达了诗人轻松、愉悦的心情，表达了诗人对生活的热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576360" y="5321160"/>
            <a:ext cx="81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905120" y="1066680"/>
            <a:ext cx="4952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0730-79C8-412A-A441-AD768BEF77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0169C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30492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欣赏诗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雨歇林间凉自生，风穿径里晓逾清。（宋   杨万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空山新雨后，天气晚来秋。（唐  王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千条拂翠微，雨后碧新肥。（清  夏完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它们写的都是什么时候的景色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人无一例外地雨后天晴怎样的景色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275240" y="37018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（雨后天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4692600"/>
            <a:ext cx="822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（凉爽的风与空气，碧绿的树木，大地一片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绿，令人心旷神怡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066680" y="38088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古代的诗人将雨后写的清新美好，那现代诗人戴望舒写的自由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在天晴了的时候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又描绘了怎样的景色？他的诗有富有怎样的韵味？首先，我们来了解一下戴望舒的生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戴望舒，浙江杭县（今杭州）人，中国二十世纪三十年代著名的诗人，以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雨巷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诗成名，又称雨巷诗人，诗的风格浪漫抒情。主要作品有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雨巷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狱中题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我用残损的手掌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T0169C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914400" y="9367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初读古诗，整体感知诗的内容及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学诗歌，通过工具书或联系上下文掌握生字新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学诗歌，动笔归纳每一节诗的大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由读诗，感受诗人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080" y="708120"/>
            <a:ext cx="6553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检出自学情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炫     垢     怯     凤     慧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携     皱     曝     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4300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u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黑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66688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1132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878360" y="2133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325200" y="213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99252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134800" y="3352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354120" y="3352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421160" y="3352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85800" y="99072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理解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尘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胆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风蝶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阴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146040" y="1471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指灰尘与污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941200" y="2003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胆小怯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82040" y="2514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大型昆虫，有两对翅膀，上有花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856160" y="2940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418120" y="3397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带着；带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812960" y="3886200"/>
            <a:ext cx="589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空中悬浮着的大量烟、尘等微粒而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成的混浊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239560" y="492120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泛起皱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74880" y="838080"/>
            <a:ext cx="773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归纳每节诗的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一节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节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68640" y="126360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天晴了的时候，到小径中走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会看到凉爽又温柔的泥路，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丽的小草，小白菊和凤碟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184560" y="284148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天晴了的时候，要赤脚携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踏着新泥，涉过溪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200400" y="38322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阳光下的溪水、树林、云朵都是美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57200" y="609480"/>
            <a:ext cx="869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深入了解诗的内容，品味诗人遣词用句的精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第一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人在初晴的小径中看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给雨润过的泥路，一定是凉爽又温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这一句诗人写得好，好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83680" y="182880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（泥路、小草、小白菊、凤蝶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190960" y="3168720"/>
            <a:ext cx="4874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 雨后的泥路充满了泥泞，一脚踩下去就会沾一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泥巴，这原本是让人难以理解的，可是到了诗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笔下，粘糊糊的泥巴路居然是凉爽又温柔的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的感觉像是母亲的手，亲切而又温情脉脉地抚摸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你的双脚，这样美丽的泥路怎不令人向往？诗人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用了拟人手法。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温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词描绘泥路的柔软，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现了泥路的美好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T0169C~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80368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68580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炫耀着新绿的小草，已一下子洗净了尘垢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理解诗句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欣赏诗人写得好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66760" y="236232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小草自豪地展露着雨后洗去尘埃与污垢的翠绿身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15440" y="3646440"/>
            <a:ext cx="510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炫耀”一词写出了小草的快乐与自豪，采用的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拟人的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洗净”一词写出了雨后小草的洁净、清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15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07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