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  <p:custShowLst>
    <p:custShow name="自定义放映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C8F2-2679-4458-840E-B54D51C2CE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185E-92F8-43BE-AC66-41FE1A7DAC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F0A-12D5-4E3F-8C2B-40FD1A35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6CD-5153-4B76-AD15-299E764D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1CD-EA49-4DC2-9C08-B57DCF12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268-0CF3-47CE-92D7-EEA29321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E51-1E07-4A38-9112-B347F0C5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37D-D8BF-4B2C-B7F2-64A4E09B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7FC-88EB-4748-A435-124EF5FB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348-A040-492E-B28D-45D7E1BF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51D-7D1A-4627-9BAC-85986AA2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F10-F0DC-4DE6-84FB-57B6852B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A2D-163D-45AC-90AC-9D1678C5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DB2-0C53-40B6-AABF-B496DD8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6C50-AE4E-4FFB-8F95-165A986DF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50760" y="1000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1"/>
          <p:cNvSpPr/>
          <p:nvPr/>
        </p:nvSpPr>
        <p:spPr>
          <a:xfrm>
            <a:off x="1941480" y="173196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赠 汪 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953720" y="5318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0"/>
          <p:cNvGrpSpPr/>
          <p:nvPr/>
        </p:nvGrpSpPr>
        <p:grpSpPr>
          <a:xfrm>
            <a:off x="0" y="404640"/>
            <a:ext cx="4716360" cy="5977080"/>
            <a:chOff x="0" y="404640"/>
            <a:chExt cx="4716360" cy="5977080"/>
          </a:xfrm>
        </p:grpSpPr>
        <p:pic>
          <p:nvPicPr>
            <p:cNvPr id="102" name="Picture 16" descr="922793014"/>
            <p:cNvPicPr/>
            <p:nvPr/>
          </p:nvPicPr>
          <p:blipFill>
            <a:blip r:embed="rId1"/>
            <a:stretch/>
          </p:blipFill>
          <p:spPr>
            <a:xfrm>
              <a:off x="0" y="404640"/>
              <a:ext cx="47163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7"/>
            <p:cNvSpPr/>
            <p:nvPr/>
          </p:nvSpPr>
          <p:spPr>
            <a:xfrm>
              <a:off x="3137040" y="620640"/>
              <a:ext cx="1277640" cy="35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手可摘星辰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危楼高百尺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4716360" y="476280"/>
            <a:ext cx="4751640" cy="5905440"/>
            <a:chOff x="4716360" y="476280"/>
            <a:chExt cx="4751640" cy="5905440"/>
          </a:xfrm>
        </p:grpSpPr>
        <p:pic>
          <p:nvPicPr>
            <p:cNvPr id="105" name="Picture 18" descr="图片1"/>
            <p:cNvPicPr/>
            <p:nvPr/>
          </p:nvPicPr>
          <p:blipFill>
            <a:blip r:embed="rId2"/>
            <a:stretch/>
          </p:blipFill>
          <p:spPr>
            <a:xfrm>
              <a:off x="4716360" y="476280"/>
              <a:ext cx="442764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19"/>
            <p:cNvSpPr/>
            <p:nvPr/>
          </p:nvSpPr>
          <p:spPr>
            <a:xfrm>
              <a:off x="4896000" y="2276640"/>
              <a:ext cx="457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桃花潭水深千尺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不及汪伦送我情 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9" descr="20070128230551287"/>
          <p:cNvPicPr/>
          <p:nvPr/>
        </p:nvPicPr>
        <p:blipFill>
          <a:blip r:embed="rId1"/>
          <a:stretch/>
        </p:blipFill>
        <p:spPr>
          <a:xfrm>
            <a:off x="0" y="404640"/>
            <a:ext cx="4643280" cy="5977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25280" y="5493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飞流直下三千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疑是银河落九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4643280" y="476280"/>
            <a:ext cx="4824360" cy="5905440"/>
            <a:chOff x="4643280" y="476280"/>
            <a:chExt cx="4824360" cy="5905440"/>
          </a:xfrm>
        </p:grpSpPr>
        <p:pic>
          <p:nvPicPr>
            <p:cNvPr id="110" name="Picture 7" descr="图片1"/>
            <p:cNvPicPr/>
            <p:nvPr/>
          </p:nvPicPr>
          <p:blipFill>
            <a:blip r:embed="rId2"/>
            <a:stretch/>
          </p:blipFill>
          <p:spPr>
            <a:xfrm>
              <a:off x="4643280" y="476280"/>
              <a:ext cx="449568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8"/>
            <p:cNvSpPr/>
            <p:nvPr/>
          </p:nvSpPr>
          <p:spPr>
            <a:xfrm>
              <a:off x="4825440" y="2276640"/>
              <a:ext cx="4642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桃花潭水深千尺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不及汪伦送我情 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赠汪伦诗画欣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108000" y="2438280"/>
            <a:ext cx="51894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桃花潭水深千尺 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及汪伦送我情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赠汪伦诗画欣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6480" y="928800"/>
            <a:ext cx="51894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李白乘舟将欲行 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忽闻岸上踏歌声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桃花潭水深千尺 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及汪伦送我情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西厢词 (王雪晴独奏).mp3" descr=""/>
          <p:cNvPicPr/>
          <p:nvPr/>
        </p:nvPicPr>
        <p:blipFill>
          <a:blip r:embed="rId2"/>
          <a:stretch/>
        </p:blipFill>
        <p:spPr>
          <a:xfrm>
            <a:off x="0" y="6146640"/>
            <a:ext cx="71136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250920" y="44280"/>
            <a:ext cx="7885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故人西辞黄鹤楼 ，烟花三月下扬州 。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孤帆远影碧空尽 ，惟见长江天际流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李白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黄鹤楼送孟浩然之广陵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西厢词 (王雪晴独奏).mp3" descr=""/>
          <p:cNvPicPr/>
          <p:nvPr/>
        </p:nvPicPr>
        <p:blipFill>
          <a:blip r:embed="rId1"/>
          <a:stretch/>
        </p:blipFill>
        <p:spPr>
          <a:xfrm>
            <a:off x="0" y="6146640"/>
            <a:ext cx="711360" cy="711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600480" y="760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送别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1327320" y="5613480"/>
            <a:ext cx="59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赠汪伦诗画欣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-324000" y="739800"/>
            <a:ext cx="5189760" cy="46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6bc4"/>
                </a:solidFill>
                <a:latin typeface="华文中宋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赠汪伦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李白乘舟将欲行 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忽闻岸上踏歌声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桃花潭水深千尺 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及汪伦送我情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赠汪伦诗画欣赏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108000" y="1700280"/>
            <a:ext cx="518940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李白乘舟将欲行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忽闻岸上踏歌声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桃花潭水深千尺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及汪伦送我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2625-E3F1-463E-B753-268A99DC6D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50760" y="1000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39640" y="1773360"/>
            <a:ext cx="417672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庐山瀑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照香炉生紫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遥看瀑布挂前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流直下三千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是银河落九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003640" y="1773360"/>
            <a:ext cx="417672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宿山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楼高百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可摘星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敢高声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恐惊天上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xinhua_sc_mianyang2005627215818"/>
          <p:cNvPicPr/>
          <p:nvPr/>
        </p:nvPicPr>
        <p:blipFill>
          <a:blip r:embed="rId1"/>
          <a:stretch/>
        </p:blipFill>
        <p:spPr>
          <a:xfrm>
            <a:off x="826920" y="1701720"/>
            <a:ext cx="3597480" cy="4680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2363760" y="4572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80"/>
                </a:solidFill>
                <a:latin typeface="Times New Roman"/>
                <a:ea typeface="华文中宋"/>
              </a:rPr>
              <a:t>李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788000" y="187812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726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李白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是我国唐代的伟大诗人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他的诗豪放飘逸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被称为“诗仙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39640" y="2276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隶书"/>
              </a:rPr>
              <a:t>十里桃花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611880" y="3357720"/>
            <a:ext cx="240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  <a:ea typeface="隶书"/>
              </a:rPr>
              <a:t>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隶书"/>
              </a:rPr>
              <a:t>万家酒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1835280" y="907920"/>
            <a:ext cx="518940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赠汪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    将  行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闻岸上    声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花    深千尺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及汪伦送我情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3849480" y="2276640"/>
            <a:ext cx="1143720" cy="992160"/>
            <a:chOff x="3849480" y="2276640"/>
            <a:chExt cx="1143720" cy="992160"/>
          </a:xfrm>
        </p:grpSpPr>
        <p:sp>
          <p:nvSpPr>
            <p:cNvPr id="64" name="Rectangle 23"/>
            <p:cNvSpPr/>
            <p:nvPr/>
          </p:nvSpPr>
          <p:spPr>
            <a:xfrm>
              <a:off x="3849480" y="25653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乘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4"/>
            <p:cNvSpPr/>
            <p:nvPr/>
          </p:nvSpPr>
          <p:spPr>
            <a:xfrm>
              <a:off x="4152600" y="227664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hō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5"/>
          <p:cNvGrpSpPr/>
          <p:nvPr/>
        </p:nvGrpSpPr>
        <p:grpSpPr>
          <a:xfrm>
            <a:off x="5220000" y="2276640"/>
            <a:ext cx="502920" cy="992160"/>
            <a:chOff x="5220000" y="2276640"/>
            <a:chExt cx="502920" cy="992160"/>
          </a:xfrm>
        </p:grpSpPr>
        <p:sp>
          <p:nvSpPr>
            <p:cNvPr id="67" name="Rectangle 26"/>
            <p:cNvSpPr/>
            <p:nvPr/>
          </p:nvSpPr>
          <p:spPr>
            <a:xfrm>
              <a:off x="5237280" y="25653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7"/>
            <p:cNvSpPr/>
            <p:nvPr/>
          </p:nvSpPr>
          <p:spPr>
            <a:xfrm>
              <a:off x="5220000" y="227664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8"/>
          <p:cNvGrpSpPr/>
          <p:nvPr/>
        </p:nvGrpSpPr>
        <p:grpSpPr>
          <a:xfrm>
            <a:off x="4599000" y="3141720"/>
            <a:ext cx="1280880" cy="1005120"/>
            <a:chOff x="4599000" y="3141720"/>
            <a:chExt cx="1280880" cy="1005120"/>
          </a:xfrm>
        </p:grpSpPr>
        <p:sp>
          <p:nvSpPr>
            <p:cNvPr id="70" name="Rectangle 29"/>
            <p:cNvSpPr/>
            <p:nvPr/>
          </p:nvSpPr>
          <p:spPr>
            <a:xfrm>
              <a:off x="4599000" y="3443400"/>
              <a:ext cx="1280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踏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0"/>
            <p:cNvSpPr/>
            <p:nvPr/>
          </p:nvSpPr>
          <p:spPr>
            <a:xfrm>
              <a:off x="4754160" y="31417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1"/>
          <p:cNvGrpSpPr/>
          <p:nvPr/>
        </p:nvGrpSpPr>
        <p:grpSpPr>
          <a:xfrm>
            <a:off x="3549600" y="3979800"/>
            <a:ext cx="1268280" cy="1001880"/>
            <a:chOff x="3549600" y="3979800"/>
            <a:chExt cx="1268280" cy="1001880"/>
          </a:xfrm>
        </p:grpSpPr>
        <p:sp>
          <p:nvSpPr>
            <p:cNvPr id="73" name="Rectangle 32"/>
            <p:cNvSpPr/>
            <p:nvPr/>
          </p:nvSpPr>
          <p:spPr>
            <a:xfrm>
              <a:off x="3549600" y="4278240"/>
              <a:ext cx="126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潭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3"/>
            <p:cNvSpPr/>
            <p:nvPr/>
          </p:nvSpPr>
          <p:spPr>
            <a:xfrm>
              <a:off x="3641400" y="39798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5.78035E-007 L 0.2835 0.09017 E">
                                      <p:cBhvr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78035E-007 L -0.41424 0.09988 E">
                                      <p:cBhvr>
                                        <p:cTn id="3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5087E-006 L 0.11459 -0.15977 E">
                                      <p:cBhvr>
                                        <p:cTn id="35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0.04763 L -0.20903 -0.0333 E">
                                      <p:cBhvr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401920" y="1803240"/>
          <a:ext cx="4086360" cy="3494160"/>
        </p:xfrm>
        <a:graphic>
          <a:graphicData uri="http://schemas.openxmlformats.org/drawingml/2006/table">
            <a:tbl>
              <a:tblPr/>
              <a:tblGrid>
                <a:gridCol w="2043000"/>
                <a:gridCol w="2043360"/>
              </a:tblGrid>
              <a:tr h="1738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 Box 42"/>
          <p:cNvSpPr/>
          <p:nvPr/>
        </p:nvSpPr>
        <p:spPr>
          <a:xfrm>
            <a:off x="3662280" y="1860480"/>
            <a:ext cx="178092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0" spc="-1" strike="noStrike">
                <a:solidFill>
                  <a:srgbClr val="000000"/>
                </a:solidFill>
                <a:latin typeface="Arial"/>
                <a:ea typeface="楷体_GB2312"/>
              </a:rPr>
              <a:t>乘</a:t>
            </a: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835280" y="907920"/>
            <a:ext cx="518940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赠汪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乘舟将欲行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闻岸上踏歌声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花潭水深千尺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及汪伦送我情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3"/>
          <p:cNvGrpSpPr/>
          <p:nvPr/>
        </p:nvGrpSpPr>
        <p:grpSpPr>
          <a:xfrm>
            <a:off x="1582920" y="2968560"/>
            <a:ext cx="6309720" cy="1016280"/>
            <a:chOff x="1582920" y="2968560"/>
            <a:chExt cx="6309720" cy="1016280"/>
          </a:xfrm>
        </p:grpSpPr>
        <p:grpSp>
          <p:nvGrpSpPr>
            <p:cNvPr id="79" name="Group 10"/>
            <p:cNvGrpSpPr/>
            <p:nvPr/>
          </p:nvGrpSpPr>
          <p:grpSpPr>
            <a:xfrm>
              <a:off x="6748200" y="2979720"/>
              <a:ext cx="1144440" cy="992160"/>
              <a:chOff x="6748200" y="2979720"/>
              <a:chExt cx="1144440" cy="992160"/>
            </a:xfrm>
          </p:grpSpPr>
          <p:sp>
            <p:nvSpPr>
              <p:cNvPr id="80" name="Rectangle 11"/>
              <p:cNvSpPr/>
              <p:nvPr/>
            </p:nvSpPr>
            <p:spPr>
              <a:xfrm>
                <a:off x="6748200" y="326844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乘舟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2"/>
              <p:cNvSpPr/>
              <p:nvPr/>
            </p:nvSpPr>
            <p:spPr>
              <a:xfrm>
                <a:off x="7052040" y="297972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hō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3"/>
            <p:cNvGrpSpPr/>
            <p:nvPr/>
          </p:nvGrpSpPr>
          <p:grpSpPr>
            <a:xfrm>
              <a:off x="1582920" y="2979720"/>
              <a:ext cx="504720" cy="992160"/>
              <a:chOff x="1582920" y="2979720"/>
              <a:chExt cx="504720" cy="992160"/>
            </a:xfrm>
          </p:grpSpPr>
          <p:sp>
            <p:nvSpPr>
              <p:cNvPr id="83" name="Rectangle 14"/>
              <p:cNvSpPr/>
              <p:nvPr/>
            </p:nvSpPr>
            <p:spPr>
              <a:xfrm>
                <a:off x="1602000" y="326844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欲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5"/>
              <p:cNvSpPr/>
              <p:nvPr/>
            </p:nvSpPr>
            <p:spPr>
              <a:xfrm>
                <a:off x="1582920" y="297972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y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16"/>
            <p:cNvGrpSpPr/>
            <p:nvPr/>
          </p:nvGrpSpPr>
          <p:grpSpPr>
            <a:xfrm>
              <a:off x="2805840" y="2979720"/>
              <a:ext cx="1208520" cy="1005120"/>
              <a:chOff x="2805840" y="2979720"/>
              <a:chExt cx="1208520" cy="1005120"/>
            </a:xfrm>
          </p:grpSpPr>
          <p:sp>
            <p:nvSpPr>
              <p:cNvPr id="86" name="Rectangle 17"/>
              <p:cNvSpPr/>
              <p:nvPr/>
            </p:nvSpPr>
            <p:spPr>
              <a:xfrm>
                <a:off x="2805840" y="3281400"/>
                <a:ext cx="1208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踏歌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8"/>
              <p:cNvSpPr/>
              <p:nvPr/>
            </p:nvSpPr>
            <p:spPr>
              <a:xfrm>
                <a:off x="2930760" y="2979720"/>
                <a:ext cx="43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19"/>
            <p:cNvGrpSpPr/>
            <p:nvPr/>
          </p:nvGrpSpPr>
          <p:grpSpPr>
            <a:xfrm>
              <a:off x="4997880" y="2968560"/>
              <a:ext cx="932760" cy="1001880"/>
              <a:chOff x="4997880" y="2968560"/>
              <a:chExt cx="932760" cy="1001880"/>
            </a:xfrm>
          </p:grpSpPr>
          <p:sp>
            <p:nvSpPr>
              <p:cNvPr id="89" name="Rectangle 20"/>
              <p:cNvSpPr/>
              <p:nvPr/>
            </p:nvSpPr>
            <p:spPr>
              <a:xfrm>
                <a:off x="5140440" y="326700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潭水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4997880" y="2968560"/>
                <a:ext cx="60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514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图片2"/>
          <p:cNvPicPr/>
          <p:nvPr/>
        </p:nvPicPr>
        <p:blipFill>
          <a:blip r:embed="rId2"/>
          <a:stretch/>
        </p:blipFill>
        <p:spPr>
          <a:xfrm>
            <a:off x="0" y="-782640"/>
            <a:ext cx="9144000" cy="7640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14400" y="1158840"/>
            <a:ext cx="518940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李白乘舟将欲行 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忽闻岸上踏歌声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440" y="1149480"/>
            <a:ext cx="518976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李白乘舟将欲行 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忽闻岸上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踏歌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声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出水莲.mp3" descr=""/>
          <p:cNvPicPr/>
          <p:nvPr/>
        </p:nvPicPr>
        <p:blipFill>
          <a:blip r:embed="rId3"/>
          <a:stretch/>
        </p:blipFill>
        <p:spPr>
          <a:xfrm>
            <a:off x="0" y="6191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722160" y="1962000"/>
            <a:ext cx="12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忽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7640" y="1906560"/>
            <a:ext cx="518940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桃花潭水深千尺 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及汪伦送我情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图片2"/>
          <p:cNvPicPr/>
          <p:nvPr/>
        </p:nvPicPr>
        <p:blipFill>
          <a:blip r:embed="rId1"/>
          <a:stretch/>
        </p:blipFill>
        <p:spPr>
          <a:xfrm>
            <a:off x="0" y="-782640"/>
            <a:ext cx="9144000" cy="7640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108000" y="2438280"/>
            <a:ext cx="51894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桃花潭水深千尺 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及汪伦送我情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3232080"/>
            <a:ext cx="13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2:22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1:11Z</dcterms:modified>
  <cp:revision>1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