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FA3-4E9D-4C77-A7CC-8FE5FFCD57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3E3D-D278-45E7-89C4-98CD2A22B3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9C5-14AD-4208-91D2-E9963DCA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496-CA8F-440F-912E-A116AE3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448-830D-408A-9CD0-7CF62670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D14-FA79-41AC-B64A-A243E3B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25E-E475-445E-B7F2-1F3076CE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EEB-5B6A-48D9-A871-85B2817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735-9931-4053-955C-D5650DC5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987-BE93-4BBA-B7E5-A73C4519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6AF-62F8-4403-A333-DC08A378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A29-E554-4DB9-A484-3DD8093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435-FA0C-4C45-ACF6-239EEA2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35FC-53A0-42E3-AC80-1EB6CC8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8B98-13BF-429F-BC07-1332985D4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aoki2.si.gunma-u.ac.jp/BotanicalGarden/PICTs/afurika_housenka.jpeg&amp;imgrefurl=http://aoki2.si.gunma-u.ac.jp/BotanicalGarden/HTMLs/afurika_housenka.html&amp;h=205&amp;w=206&amp;prev=/images%3Fq%3D%25BB%25F1%25A5P%25AA%25E1%26svnum%3D10%26hl%3Dzh-TW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ome.hkcampus.net/~young/y27/tree/f9.jpg&amp;imgrefurl=http://home.hkcampus.net/~young/y27/tree/27tree.htm&amp;h=392&amp;w=259&amp;prev=/images%3Fq%3D%25DC%2560%25BC%25DF%25AF%25F3%26svnum%3D10%26hl%3Dzh-TW%26sa%3D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bamboo.hc.edu.tw/research_publish/textbook/bio01/chapter07/images/bio-m-ch07-04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611280" y="134136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Arial"/>
                <a:ea typeface="华文行楷"/>
              </a:rPr>
              <a:t>植物妈妈有办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1899720" y="5084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50920" y="764640"/>
            <a:ext cx="854064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华文新魏"/>
              </a:rPr>
              <a:t>我们的启示</a:t>
            </a:r>
            <a:r>
              <a:rPr b="0" lang="en-US" sz="4800" spc="-1" strike="noStrike">
                <a:solidFill>
                  <a:srgbClr val="cc3300"/>
                </a:solidFill>
                <a:latin typeface="Arial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界真是丰富多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虽然不能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是聪明的它们能用各种方法来传播自己的种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在学习和生活中也要善于思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勤学多思才能学到丰富的知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8975-7DB0-4AC6-A332-2D8F4349AF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8360" y="54936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  <a:ea typeface="华文彩云"/>
              </a:rPr>
              <a:t>开始我们自己的探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老师介绍了蒲公英妈妈 、苍耳妈妈、豌豆妈妈送别自己孩子的方法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我们觉得植物真神奇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真有趣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植物妈妈们还用那些方法来送别自己的孩子呢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我们开始了自己的探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404640"/>
            <a:ext cx="8640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  <a:ea typeface="华文新魏"/>
              </a:rPr>
              <a:t>探究活动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分小组通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网收集各种植物传播种子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组组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二组组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三组组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四组组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2440" y="1052280"/>
            <a:ext cx="8540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我们收集了植物传播种子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afurika_housen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2060640"/>
            <a:ext cx="3456000" cy="244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219640" y="234936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行楷"/>
              </a:rPr>
              <a:t>凤仙花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成熟开裂时，将种子直接弹射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f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4508640"/>
            <a:ext cx="2519640" cy="187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703440" y="49370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行楷"/>
              </a:rPr>
              <a:t>炸浆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果实成熟后，直接掉落地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lotusflower"/>
          <p:cNvPicPr/>
          <p:nvPr/>
        </p:nvPicPr>
        <p:blipFill>
          <a:blip r:embed="rId1"/>
          <a:stretch/>
        </p:blipFill>
        <p:spPr>
          <a:xfrm>
            <a:off x="395280" y="223920"/>
            <a:ext cx="3024360" cy="252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3614760" y="1197000"/>
            <a:ext cx="187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睡莲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子浮在水上，由水来传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bio-s-ch07-0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403440"/>
            <a:ext cx="237636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395280" y="299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鬼针草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果实成熟后有很强的吸附力，粘在动物皮毛或人的衣服上传播种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13" descr=""/>
          <p:cNvPicPr/>
          <p:nvPr/>
        </p:nvPicPr>
        <p:blipFill>
          <a:blip r:embed="rId4"/>
          <a:stretch/>
        </p:blipFill>
        <p:spPr>
          <a:xfrm>
            <a:off x="6156360" y="260280"/>
            <a:ext cx="2592360" cy="2665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5651640" y="3500280"/>
            <a:ext cx="3095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咸丰草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黏附在人或动物的身体上传播种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981000"/>
            <a:ext cx="854064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红皮柳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  <a:ea typeface="华文新魏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春天柳絮飞扬的奥秘吗？柳絮里面有许多小颗粒，这就是柳树的种子。柳树就是靠柳絮飞扬来传播种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加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果实成熟后，杨絮就四处飞扬，家杨也是靠杨絮传播种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 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华文新魏"/>
              </a:rPr>
              <a:t>喷瓜</a:t>
            </a:r>
            <a:br>
              <a:rPr sz="2400"/>
            </a:b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一株属于葫芦科的植物，已经结了一个带毛刺的小“瓜”，你可知道此“瓜”的奥秘吗？当瓜成熟时，稍有触动此“瓜”便会脱落，并从顶端将“瓜”内的种子连同粘液一起喷射出去，射程可达５米以外，喷瓜也因此而得名。大自然中喷瓜传播种子的本领已经登峰造极的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onkey"/>
          <p:cNvPicPr/>
          <p:nvPr/>
        </p:nvPicPr>
        <p:blipFill>
          <a:blip r:embed="rId1"/>
          <a:stretch/>
        </p:blipFill>
        <p:spPr>
          <a:xfrm>
            <a:off x="4859280" y="386064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624560" y="985680"/>
            <a:ext cx="31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11280" y="4797360"/>
            <a:ext cx="36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植物的果实被哺乳动物吃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泄物中种子未消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就能去远方旅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620640"/>
            <a:ext cx="8820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spread12"/>
          <p:cNvPicPr/>
          <p:nvPr/>
        </p:nvPicPr>
        <p:blipFill>
          <a:blip r:embed="rId2"/>
          <a:stretch/>
        </p:blipFill>
        <p:spPr>
          <a:xfrm>
            <a:off x="395280" y="692280"/>
            <a:ext cx="4392720" cy="3241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5076720" y="1125360"/>
            <a:ext cx="35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些植物的花朵非常漂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引来昆虫吸食花粉传播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3640" y="836640"/>
            <a:ext cx="9188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  <a:ea typeface="华文新魏"/>
              </a:rPr>
              <a:t>探究活动二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我们分组讨论、总结各种植物传播种子的方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2787480" y="4695840"/>
            <a:ext cx="50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7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种子的传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042920" y="1268280"/>
          <a:ext cx="6834240" cy="4218120"/>
        </p:xfrm>
        <a:graphic>
          <a:graphicData uri="http://schemas.openxmlformats.org/drawingml/2006/table">
            <a:tbl>
              <a:tblPr/>
              <a:tblGrid>
                <a:gridCol w="3233880"/>
                <a:gridCol w="360036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子传播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表植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体传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凤仙花   炸浆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风传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蒲公英   柳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传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睡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鸟传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芭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昆虫传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季花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哺乳动物传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咸丰草  苍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2:0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49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