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151-EDC1-462C-BE35-B1B4DADCFF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F49B-3C53-4A5B-BF1F-F103614DB0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DDA-19BC-4BA9-890F-B050BE6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6E0-544C-4030-96C0-42EF5D37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E8E-DBEA-4645-BF2A-FEA718D1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86A-6DE3-4CA0-924B-7455796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0E3-E01C-42F7-B169-1F8797A0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CB1-FF5B-47B2-8FE7-34DB8CA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8DC-9D1B-4DD8-B441-6F1217C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D80-9FD1-4EE7-A5F5-41BD32E8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D5A-D26C-461D-86FB-7E2BDE21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E25-529A-4CD0-AEFE-42A6A9E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1EF-036A-4DE7-B4EA-9535E8B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458-014D-46E7-8977-75AB241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9599-07C8-408D-9992-D04FF9E8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ic.d777.com/html/308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forest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835280" y="1773360"/>
            <a:ext cx="547344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ffff"/>
                  </a:solidFill>
                  <a:round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祖先的摇篮</a:t>
            </a:r>
            <a:endParaRPr b="1" lang="en-US" sz="1800" spc="1" strike="noStrike">
              <a:ln w="19080">
                <a:solidFill>
                  <a:srgbClr val="00ffff"/>
                </a:solidFill>
                <a:round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森林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971640" y="1413000"/>
            <a:ext cx="431964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们的祖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这些大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摘野果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掏鹊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那片草地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和野兔赛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看蘑菇打伞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76720" y="765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5092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爷爷的比喻使作者展开了无限的遐想。他写出了孩子们梦想中的祖先的田园生活。有哪些美好的生活场景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己读读诗歌划一划，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932360" y="1384200"/>
            <a:ext cx="302436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那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孩子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逗小松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采野蔷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捉红蜻蜓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逮绿蝈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116000" y="3357720"/>
            <a:ext cx="1008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1979640" y="386064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1332000" y="537372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835280" y="5950080"/>
            <a:ext cx="1800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1835280" y="724536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2050920" y="746136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2266920" y="767700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2482920" y="789300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>
            <a:off x="5508720" y="4797360"/>
            <a:ext cx="1800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>
            <a:off x="5580000" y="5373720"/>
            <a:ext cx="180036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"/>
          <p:cNvSpPr/>
          <p:nvPr/>
        </p:nvSpPr>
        <p:spPr>
          <a:xfrm>
            <a:off x="5580000" y="3860640"/>
            <a:ext cx="180036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5508720" y="3284640"/>
            <a:ext cx="1800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森林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24000" y="333360"/>
            <a:ext cx="270036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多大的摇篮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浓绿的树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916360" y="376200"/>
            <a:ext cx="431964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们的祖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这些大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摘野果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掏鹊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那片草地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和野兔赛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看蘑菇打伞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076720" y="765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96000" y="376200"/>
            <a:ext cx="331308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那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孩子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逗小松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采野蔷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捉红蜻蜓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逮绿蝈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203640" y="51577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想一想，我们的祖先还曾在这里做什么？请你也当回小诗人，以诗歌的形式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orest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0626r11"/>
          <p:cNvPicPr/>
          <p:nvPr/>
        </p:nvPicPr>
        <p:blipFill>
          <a:blip r:embed="rId2"/>
          <a:stretch/>
        </p:blipFill>
        <p:spPr>
          <a:xfrm>
            <a:off x="3348000" y="0"/>
            <a:ext cx="2476440" cy="2390760"/>
          </a:xfrm>
          <a:prstGeom prst="rect">
            <a:avLst/>
          </a:prstGeom>
          <a:ln w="0">
            <a:noFill/>
          </a:ln>
        </p:spPr>
      </p:pic>
      <p:sp>
        <p:nvSpPr>
          <p:cNvPr id="102" name="Oval 4"/>
          <p:cNvSpPr/>
          <p:nvPr/>
        </p:nvSpPr>
        <p:spPr>
          <a:xfrm>
            <a:off x="4859280" y="4437000"/>
            <a:ext cx="2592360" cy="2421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835280" y="4336920"/>
            <a:ext cx="2663640" cy="2521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72360" y="2276640"/>
            <a:ext cx="2592360" cy="2636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95280" y="2349360"/>
            <a:ext cx="2592360" cy="2521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3492360" y="2276640"/>
            <a:ext cx="2521080" cy="2519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156360" y="0"/>
            <a:ext cx="2305080" cy="2421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8360" y="0"/>
            <a:ext cx="2448000" cy="244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11600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摘野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492360" y="765000"/>
            <a:ext cx="4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掏鹊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826920" y="39798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看蘑菇打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635280" y="263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逗小松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6445080" y="15318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和野兔赛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02000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采野蔷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556000" y="4653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捉红蜻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411880" y="614052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逮绿蝈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468360" y="1916280"/>
            <a:ext cx="8424720" cy="947160"/>
          </a:xfrm>
          <a:prstGeom prst="rect">
            <a:avLst/>
          </a:prstGeom>
          <a:solidFill>
            <a:srgbClr val="ccffc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原始森林带给我们许多美好而遥远的回忆。我们的祖先，也许，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；也许，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；也许，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539640" y="260280"/>
            <a:ext cx="453564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风儿吹动树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沙沙！沙沙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那回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么美好，又多么遥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苍苍茫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始森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们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祖先的摇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65800" y="189000"/>
            <a:ext cx="316692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但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地久天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永远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不被污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明的起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神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然博物馆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forest15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orest15"/>
          <p:cNvPicPr/>
          <p:nvPr/>
        </p:nvPicPr>
        <p:blipFill>
          <a:blip r:embed="rId1"/>
          <a:stretch/>
        </p:blipFill>
        <p:spPr>
          <a:xfrm>
            <a:off x="324000" y="3213000"/>
            <a:ext cx="8496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50920" y="112536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原始森林蕴藏着巨大的财富，是人类生态环境的屏障，特别是它保存着人类文明发展的历史痕迹，不容轻视怠慢，所以课文这样形容，非常正确，又很贴切，给人深刻的启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42920" y="333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觉得这样形容原始森林贴切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094827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160358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160341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8360" y="152280"/>
            <a:ext cx="7993080" cy="39888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怎样才能地久天长，永远不被污染？我们能为保护环境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ores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195640" y="4365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人与自然和谐相处，自觉保护环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森林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0" y="836640"/>
            <a:ext cx="313200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多大的摇篮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浓绿的树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340000" y="692280"/>
            <a:ext cx="277164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我们的祖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这些大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摘野果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掏鹊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那片草地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和野兔赛跑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看蘑菇打伞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那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孩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逗小松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采野蔷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捉红蜻蜓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逮绿蝈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427640" y="620640"/>
            <a:ext cx="273528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风儿吹动树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沙沙！沙沙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回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么美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又多么遥远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苍苍茫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原始森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祖先的摇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77080" y="544680"/>
            <a:ext cx="25192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地久天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永远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被污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文明的起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神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然博物馆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钢琴曲-世界名曲-秋日的私语.mp3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050920" y="0"/>
            <a:ext cx="49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33"/>
                  </a:solidFill>
                  <a:round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宋体"/>
              </a:rPr>
              <a:t>6  </a:t>
            </a:r>
            <a:r>
              <a:rPr b="1" lang="zh-CN" sz="1800" spc="1" strike="noStrike">
                <a:ln w="9360">
                  <a:solidFill>
                    <a:srgbClr val="33cc33"/>
                  </a:solidFill>
                  <a:round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宋体"/>
              </a:rPr>
              <a:t>祖先的摇篮</a:t>
            </a:r>
            <a:endParaRPr b="1" lang="en-US" sz="1800" spc="1" strike="noStrike">
              <a:ln w="9360">
                <a:solidFill>
                  <a:srgbClr val="33cc33"/>
                </a:solidFill>
                <a:round/>
              </a:ln>
              <a:solidFill>
                <a:srgbClr val="33cc33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0277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摇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摇篮是可摇动的婴儿卧具。或形容装婴儿睡觉的篮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人才成长的处所或重要事物的发源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ores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755640" y="4149720"/>
            <a:ext cx="7345440" cy="2531160"/>
          </a:xfrm>
          <a:prstGeom prst="rect">
            <a:avLst/>
          </a:prstGeom>
          <a:solidFill>
            <a:srgbClr val="ccff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自由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森林老人，我想对你说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我们的祖先，我想对你说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林中的小动物，我想对你们说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砍伐树木的人们，我想对你们说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forest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84360" y="3860640"/>
            <a:ext cx="7704000" cy="2486520"/>
          </a:xfrm>
          <a:prstGeom prst="rect">
            <a:avLst/>
          </a:prstGeom>
          <a:solidFill>
            <a:srgbClr val="ccffc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地久天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永远永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被污染，</a:t>
            </a: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054080" y="2062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forest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24000" y="907920"/>
            <a:ext cx="8820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蘑菇、蔷薇、遥远、苍苍茫茫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望无边、地久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一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照样子写词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久天长（     ）（     ）（    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积累形容地方大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望无边（     ）（     ）（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9595-8341-4C04-BEF8-EF671587A6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始森林是指天然形成的，未遭到人的破坏的完整生物圈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原始森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给野生动物提供广阔的生存空间，具有维持生物的多样性，保持生态平衡的作用；同时原始森林还能净化空气、调节气候、涵养水份、保持水土、增强土壤肥力、减轻自然灾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rest15"/>
          <p:cNvPicPr/>
          <p:nvPr/>
        </p:nvPicPr>
        <p:blipFill>
          <a:blip r:embed="rId1"/>
          <a:stretch/>
        </p:blipFill>
        <p:spPr>
          <a:xfrm>
            <a:off x="108000" y="144360"/>
            <a:ext cx="5040360" cy="6597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292720" y="260280"/>
            <a:ext cx="367200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真有意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这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多大的摇篮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一望无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那浓绿的树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遮住了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06祖先的摇篮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钢琴曲-世界名曲-秋日的私语.mp3" descr=""/>
          <p:cNvPicPr/>
          <p:nvPr/>
        </p:nvPicPr>
        <p:blipFill>
          <a:blip r:embed="rId3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forest10"/>
          <p:cNvPicPr/>
          <p:nvPr/>
        </p:nvPicPr>
        <p:blipFill>
          <a:blip r:embed="rId1"/>
          <a:stretch/>
        </p:blipFill>
        <p:spPr>
          <a:xfrm>
            <a:off x="0" y="0"/>
            <a:ext cx="521964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867280" y="376200"/>
            <a:ext cx="277200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我们的祖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这些大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摘野果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掏鹊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那片草地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和野兔赛跑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看蘑菇打伞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那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孩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逗小松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采野蔷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捉红蜻蜓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逮绿蝈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20051230142439626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5651640" y="549360"/>
            <a:ext cx="3492360" cy="51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风儿吹动树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沙沙！沙沙！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那回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多么美好，又那么遥远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苍苍茫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祖先的摇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orest14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940360" y="333360"/>
            <a:ext cx="2916360" cy="71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但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地久天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永远永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不被污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人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文明的起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神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天然博物馆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森林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333360"/>
            <a:ext cx="392436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多大的摇篮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浓绿的树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68360" y="376200"/>
            <a:ext cx="2772000" cy="66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我们的祖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这些大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摘野果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掏鹊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可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那片草地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和野兔赛跑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看蘑菇打伞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那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孩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逗小松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采野蔷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也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捉红蜻蜓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逮绿蝈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500720" y="311040"/>
            <a:ext cx="259236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风儿吹动树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沙沙！沙沙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回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么美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又那么遥远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苍苍茫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原始森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祖先的摇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04000" y="338040"/>
            <a:ext cx="25192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地久天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永远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被污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文明的起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神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然博物馆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森林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5146560" y="5950080"/>
            <a:ext cx="208944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643280" y="4869000"/>
            <a:ext cx="165744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55640" y="981000"/>
            <a:ext cx="360036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多大的摇篮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浓绿的树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076720" y="765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00720" y="981000"/>
            <a:ext cx="345600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爷爷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那原始森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大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的摇篮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那浓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绿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的树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900000" y="189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爷爷说“那原始森林，是我们祖先的摇篮”，这是个怎样的摇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1:06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58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