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9DDD-B964-48AE-8E5E-39C99175EA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F0C3-559D-4732-A0D9-A8792480A5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E26-B7EB-4482-8D65-72E52AD8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DF7-5E12-49D4-AEC1-A8DB61A2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D67-8FA7-4240-B1C2-F88BF9EA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B2D-FE53-423A-B8DB-B70FA54B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881-B661-4DD7-B9F7-73618E6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0E8-360B-4D98-9ACB-FF4935E5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E80-768F-4713-A7F2-A71A5381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6F4-04A5-47BC-A889-5C421897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7DB-3692-45D0-BA8E-0B607BB7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9C3-DD32-49C0-9516-80921CA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54F-1DEC-4B54-830B-EF26106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41A-A2CA-4B2D-8E0F-91223C7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5A15-BE17-4B38-AD1D-69B2D56805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8920" y="1267920"/>
            <a:ext cx="4478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60360" y="2781360"/>
            <a:ext cx="66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相矛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2700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24000" y="36306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道理：</a:t>
            </a:r>
            <a:r>
              <a:rPr b="1" lang="zh-CN" sz="4000" spc="-1" strike="noStrike">
                <a:solidFill>
                  <a:srgbClr val="fb1a09"/>
                </a:solidFill>
                <a:latin typeface="Arial"/>
                <a:ea typeface="微软雅黑"/>
              </a:rPr>
              <a:t>告诉人们说话办事要实事求是，不能言过其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84360" y="141300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15588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微软雅黑"/>
              </a:rPr>
              <a:t>自相矛盾：比喻说话、做事前后抵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914400" y="5857920"/>
            <a:ext cx="54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55640" y="34257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自相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2627280" y="2708280"/>
            <a:ext cx="73080" cy="2087640"/>
          </a:xfrm>
          <a:custGeom>
            <a:avLst/>
            <a:gdLst>
              <a:gd name="textAreaLeft" fmla="*/ 46800 w 73080"/>
              <a:gd name="textAreaRight" fmla="*/ 73440 w 730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843280" y="25621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708360" y="25621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物莫能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844720" y="33544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916360" y="42181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以矛刺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708360" y="34257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物无不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508720" y="278136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724360" y="3065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前后抵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3A31-A171-4EEB-B100-8974574836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扫描0001"/>
          <p:cNvPicPr/>
          <p:nvPr/>
        </p:nvPicPr>
        <p:blipFill>
          <a:blip r:embed="rId1"/>
          <a:stretch/>
        </p:blipFill>
        <p:spPr>
          <a:xfrm>
            <a:off x="3995640" y="620640"/>
            <a:ext cx="5148360" cy="5832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题质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16088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图中都有谁？他们在干什么？他们在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33200" y="3357720"/>
            <a:ext cx="3888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中有一个卖兵器的和一位顾客。他们可能会说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寓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0488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寓言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寓言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词，最早出现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的寓言篇。它往往叙述一个小故事，而又于具体的情节中，隐含着更深刻的思想，常语带双关，借以阐发哲理，印证观念，而在春秋战国时期，这样的叙述方式就常被先秦诸子使用，以作为陈说辞理的手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韩非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韩非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由韩非子所著，是先秦法家的代表作，共五十篇，书中记载着大量脍炙人口的寓言故事。这教学法生动的寓言故事，蕴含着深隽的哲理，凭着它们的思想性和艺术性和完美结合，给人们以智慧的启迪，具有较高的文学价值，韩非子巧妙地运用寓言故事来说理以及表达自己的思想，达到良好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解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相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古代的一种兵器，在长柄的端装有枪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79280" y="3716280"/>
            <a:ext cx="8353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自相矛盾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讲述了楚国一个人夸耀自己卖的矛与盾时，前后话语矛盾而被人笑的故事，说明言行应前后一致，不能互相抵触，否则就会闹出笑话，反而不得于把事做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79280" y="306864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盾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盾牌，古代作战时遮挡刀箭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5"/>
          <p:cNvSpPr/>
          <p:nvPr/>
        </p:nvSpPr>
        <p:spPr>
          <a:xfrm>
            <a:off x="4067280" y="2924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B001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00000" y="671400"/>
            <a:ext cx="8064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楚人有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鬻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ù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盾与矛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者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誉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曰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uē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吾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盾之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坚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莫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陷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iàn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也。”又誉其矛曰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吾矛之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利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物无不陷也。”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或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曰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子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之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陷子之盾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何如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其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弗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ú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能</a:t>
            </a:r>
            <a:r>
              <a:rPr b="1" lang="zh-CN" sz="4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应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。夫不可陷之盾与无不陷之矛，不可同世而立。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-36360" y="0"/>
            <a:ext cx="208728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初识古文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理解字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2880" y="1989000"/>
            <a:ext cx="2636640" cy="6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鬻：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84360" y="2924280"/>
            <a:ext cx="2735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夸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82560" y="3860640"/>
            <a:ext cx="374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陷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刺透，穿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429080" y="1989000"/>
            <a:ext cx="4175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您，对人的尊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427640" y="2773440"/>
            <a:ext cx="3456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何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怎么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427640" y="3710160"/>
            <a:ext cx="2735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弗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427640" y="4789440"/>
            <a:ext cx="2735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应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应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799308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楚人有鬻盾与矛者，誉之曰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吾盾之坚，物莫能陷也。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9640" y="226368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楚国有个卖盾和矛的人，他夸耀自己的盾说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的盾很坚固，什么东西都穿不透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95280" y="3284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又誉其矛曰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吾矛之利，于物无不陷也。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11280" y="386064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又夸耀自己的矛说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我的矛很锋利，没有什么东西不能穿透的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60360" y="4869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或曰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以子之矛，攻子之盾，何如？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68360" y="566100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有人问他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用你的矛刺您的盾，结果会怎么样呢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042920" y="1197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弗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ú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能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应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。夫不可陷之盾与无不陷之矛，不可同世而立。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031760" y="3068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译文：这个人被问得无话可说了。所以说，不能被刺破的盾和没有刺不破盾的矛是不可能同时存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7:44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7:04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