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120C-2B1F-43B9-B741-2C88D9ECA8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90EE-D9FF-4A40-A924-AB0BF9C38B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59A8-1FAA-4ADB-BEB8-02434AF9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E35-CF94-48E5-885D-C4C305A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FC4-7060-4BA3-BAB8-782543EF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DCE-DA2C-4C0A-98A1-77200AA1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30E-EDE8-4372-8606-7FB66C6D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F4D-7462-4B81-B603-9F3C34A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D39-1774-46B9-BBF1-5333EBC9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6AB-4A6E-44A9-AAA7-72832D17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56C-1011-4B8C-8116-A3D78428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22E-862C-4CF9-953D-E4EB301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F73-646E-4217-8322-31930E70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4C96-C49A-4353-B3A6-BBFDFD2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A25C-568A-4879-B662-4BCDD0B741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65160" y="1503360"/>
            <a:ext cx="7416720" cy="13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002060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微软雅黑"/>
              </a:rPr>
              <a:t>只要翻过那座山</a:t>
            </a:r>
            <a:endParaRPr b="1" lang="en-US" sz="1800" spc="1" strike="noStrike">
              <a:ln w="12600">
                <a:solidFill>
                  <a:srgbClr val="ffff00"/>
                </a:solidFill>
                <a:round/>
              </a:ln>
              <a:solidFill>
                <a:srgbClr val="002060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508200" y="3429000"/>
            <a:ext cx="23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华文中宋"/>
                <a:ea typeface="华文中宋"/>
              </a:rPr>
              <a:t>杉美树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928520" y="52941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“只要翻过那座山，就能看见大海”这句话，你能想到哪些格言警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复件 拓展学习"/>
          <p:cNvPicPr/>
          <p:nvPr/>
        </p:nvPicPr>
        <p:blipFill>
          <a:blip r:embed="rId1"/>
          <a:stretch/>
        </p:blipFill>
        <p:spPr>
          <a:xfrm>
            <a:off x="395280" y="404640"/>
            <a:ext cx="2087640" cy="516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108000" y="2205000"/>
            <a:ext cx="885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　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下事有难易乎，为之，则难者亦易矣；不为，则易者亦难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世上无难事，只要肯登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理想是指路明灯。没有理想，就没有坚定的方向；没有方向，就失去前进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只有启程，才会到达理想的目的地；只有拼搏，才会获得辉煌的成功；只有播种，才能有收获；只有奋斗，才能品味幸福人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826920" y="198900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你心中的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大海是什么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，你为寻找心中的大海，翻过了哪些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山头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，还需要翻越什么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山头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，你是否有信心翻越？写出你独特的体验和感悟，不少于</a:t>
            </a:r>
            <a:r>
              <a:rPr b="1" lang="en-US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300</a:t>
            </a:r>
            <a:r>
              <a:rPr b="1" lang="zh-CN" sz="36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字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173400" y="76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作 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"/>
          <p:cNvSpPr/>
          <p:nvPr/>
        </p:nvSpPr>
        <p:spPr>
          <a:xfrm>
            <a:off x="2284560" y="5118120"/>
            <a:ext cx="61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8"/>
          <p:cNvPicPr/>
          <p:nvPr/>
        </p:nvPicPr>
        <p:blipFill>
          <a:blip r:embed="rId1"/>
          <a:stretch/>
        </p:blipFill>
        <p:spPr>
          <a:xfrm>
            <a:off x="2195640" y="2565360"/>
            <a:ext cx="511308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CADC-E1A4-433B-A474-08DC28BD22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在山的那一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小时候，我常伏在窗口痴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山那边是什么呢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妈妈给我说过：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哦，山那边是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于是，怀着一种隐秘的想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有一天我终于爬上了那个山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可是，我却几乎是哭着回来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在山的那边，依然是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山那边的山啊，铁青着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给我的幻想打了一个零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妈妈，那个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4067280" y="2265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66cc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66cc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69192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在山的那边，是海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用信念凝成的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今天啊，我竟没想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一颗从小飘来的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却在我的心中扎下了深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的，我曾一次又一次的失望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当我爬上那一座座诱惑着我的山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但我又一次次鼓起信心向前走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因为我听到海依然在远方为我喧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那雪白的海潮啊，夜夜奔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一次次漫湿了我枯干的心灵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90972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在山的那边，是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的！人们啊，请相信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在不停地翻过无数座山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在一次次地战胜失望之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你终会攀上这样一座山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而在这座山的那边，就是海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一个全新的世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在一瞬间照亮你的眼睛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476360" y="2708280"/>
            <a:ext cx="691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阅读课文，想象人物活动的画面、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节和人物的内心感受，你脑中出现了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  <a:ea typeface="楷体_GB2312"/>
              </a:rPr>
              <a:t>组怎样的画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复件 初读感知"/>
          <p:cNvPicPr/>
          <p:nvPr/>
        </p:nvPicPr>
        <p:blipFill>
          <a:blip r:embed="rId1"/>
          <a:stretch/>
        </p:blipFill>
        <p:spPr>
          <a:xfrm>
            <a:off x="1258920" y="177336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92360" y="206064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阅读课文，想想这些画面是如何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接起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58920" y="350028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只要翻过那座山，就能看见大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复件 细读感悟"/>
          <p:cNvPicPr/>
          <p:nvPr/>
        </p:nvPicPr>
        <p:blipFill>
          <a:blip r:embed="rId1"/>
          <a:stretch/>
        </p:blipFill>
        <p:spPr>
          <a:xfrm>
            <a:off x="971640" y="1197000"/>
            <a:ext cx="20890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042920" y="191628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只要翻过那座山，就能看见大海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9933"/>
                </a:solidFill>
                <a:latin typeface="楷体_GB2312"/>
                <a:ea typeface="楷体_GB2312"/>
              </a:rPr>
              <a:t>这是贯穿全文的线索，共出现了五次，每一句是在什么情况下说的？有什么作用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复件 细读感悟"/>
          <p:cNvPicPr/>
          <p:nvPr/>
        </p:nvPicPr>
        <p:blipFill>
          <a:blip r:embed="rId1"/>
          <a:stretch/>
        </p:blipFill>
        <p:spPr>
          <a:xfrm>
            <a:off x="900000" y="1125360"/>
            <a:ext cx="20894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777320" y="1843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象征意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332000" y="2637000"/>
            <a:ext cx="68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大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山峦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海鸥（羽毛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复件 细读感悟"/>
          <p:cNvPicPr/>
          <p:nvPr/>
        </p:nvPicPr>
        <p:blipFill>
          <a:blip r:embed="rId1"/>
          <a:stretch/>
        </p:blipFill>
        <p:spPr>
          <a:xfrm>
            <a:off x="826920" y="1052640"/>
            <a:ext cx="2089440" cy="558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262980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理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277080" y="3500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往理想道路上种种困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4717080" y="4365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希望的使者，幸福的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332000" y="213372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只要翻过那座山，就能看见大海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这句话表现了文章的主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403280" y="3500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9933"/>
                </a:solidFill>
                <a:latin typeface="Arial"/>
                <a:ea typeface="楷体_GB2312"/>
              </a:rPr>
              <a:t>只要满怀坚定不移的信念，战胜困难和自我，就能实现自己的人生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复件 细读感悟"/>
          <p:cNvPicPr/>
          <p:nvPr/>
        </p:nvPicPr>
        <p:blipFill>
          <a:blip r:embed="rId1"/>
          <a:stretch/>
        </p:blipFill>
        <p:spPr>
          <a:xfrm>
            <a:off x="1042920" y="1197000"/>
            <a:ext cx="20890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7:45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7:30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