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4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24.jpeg" ContentType="image/jpeg"/>
  <Override PartName="/ppt/media/image3.jpeg" ContentType="image/jpeg"/>
  <Override PartName="/ppt/media/image12.gif" ContentType="image/gif"/>
  <Override PartName="/ppt/media/image6.png" ContentType="image/png"/>
  <Override PartName="/ppt/media/image4.png" ContentType="image/png"/>
  <Override PartName="/ppt/media/image17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3.jpeg" ContentType="image/jpeg"/>
  <Override PartName="/ppt/media/image15.gif" ContentType="image/gif"/>
  <Override PartName="/ppt/media/type.wav" ContentType="audio/x-wav"/>
  <Override PartName="/ppt/media/image18.png" ContentType="image/png"/>
  <Override PartName="/ppt/media/image16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8A8C-A471-4342-914B-81D920A3DE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FA2-5416-4B6B-B4B1-ACB6BF8A1864}" type="slidenum">
              <a:rPr b="0" lang="zh-CN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EB8-CCCB-4CA8-B109-7AED2604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5ED-8D2C-43ED-8E67-47A5828F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1A5-55BE-444A-9C1D-557AB639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58D-094A-4B1B-9A58-04EFFDFA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A41E-8423-45F9-8E52-238CC492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3B6-14A8-429B-A04A-3C40BAC6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35B4-9F2A-4BDD-B20D-7753D615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5556-89A9-4417-BCC8-246DED9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4584-FBBC-458F-A72F-6AEBFC66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660F-E346-4728-A9EB-2F2B55F4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E41B-84BE-440D-B024-FDBB185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01A-1A13-4ED9-8618-5EBDD9D9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A65C-41E2-46FE-BFFC-C5681ACB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0281-E88F-4897-8DAC-871D26B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9722-EF51-42F1-8F53-92BBACDD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8A3B-FBA3-4B40-A5E6-E6AA83A8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A119-3785-48ED-A6D2-C4BFF2DA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EC9-A7C3-4DE6-92FD-B43EFD50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A27-B814-4085-921A-281B2B4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AA4-B308-449A-8082-B94F77C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9F1-8BAA-4C6B-8E59-2E7B1F0D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616-D6F7-4159-BFDB-A7D89DC6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FCD-8669-4ABD-A29C-8D20E7DA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D3B-BC26-44C4-9F02-391C46E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0D69-D7D6-4684-BBC9-B462FA7461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038C-78EC-49AD-A208-8EC43BB8D89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sjy.com/dy-upload/science/No5/teacher/wyxx/luoweibinxuhaisheng/gerenzuopin/luyuling/luyuling4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187280" y="34480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冯骥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1035000" y="1677960"/>
            <a:ext cx="4824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ff00"/>
                </a:solidFill>
                <a:latin typeface="华文新魏"/>
              </a:rPr>
              <a:t>珍珠鸟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ffff00"/>
              </a:solidFill>
              <a:latin typeface="华文新魏"/>
              <a:ea typeface="华文新魏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1827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187280" y="1773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鸟儿对“我”有什么反应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95280" y="278136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（由怕人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――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渐渐胆大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――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开始亲近我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――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完全相信我）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515600" y="5300640"/>
            <a:ext cx="60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（躲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——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伸出小嘴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——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伸出小脑袋瞅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55640" y="4437000"/>
            <a:ext cx="76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体现这一变化过程的动词有哪些呢？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9" descr="鸟3"/>
          <p:cNvPicPr/>
          <p:nvPr/>
        </p:nvPicPr>
        <p:blipFill>
          <a:blip r:embed="rId2"/>
          <a:stretch/>
        </p:blipFill>
        <p:spPr>
          <a:xfrm>
            <a:off x="7812000" y="62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鸟"/>
          <p:cNvPicPr/>
          <p:nvPr/>
        </p:nvPicPr>
        <p:blipFill>
          <a:blip r:embed="rId3"/>
          <a:stretch/>
        </p:blipFill>
        <p:spPr>
          <a:xfrm flipH="1">
            <a:off x="250920" y="5877000"/>
            <a:ext cx="72072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4" descr="20095260161745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124000" y="134136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幼圆"/>
              </a:rPr>
              <a:t>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因为对自然，对动物的爱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我细致入微的呵护小鸟，而小鸟在温馨和谐环境中的轻松自在的生活又恰是对我最好的回报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思考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幼圆"/>
              </a:rPr>
              <a:t>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幼圆"/>
              </a:rPr>
              <a:t>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在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我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的努力下，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幼圆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我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幼圆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和珍珠鸟之间的信赖是怎样逐步建立起来的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5" descr="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324000" y="47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042920" y="1484280"/>
            <a:ext cx="309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起先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随后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渐渐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先是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然后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后来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187280" y="2637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268360" y="515772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716360" y="1413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笼子四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716360" y="220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屋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716360" y="2852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桌子上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716360" y="429264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我的杯子上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4716360" y="5013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我的笔尖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50920" y="108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4716360" y="3573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Arial"/>
                <a:ea typeface="华文新魏"/>
              </a:rPr>
              <a:t>离我较远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8" name="Picture 16" descr="鸟3"/>
          <p:cNvPicPr/>
          <p:nvPr/>
        </p:nvPicPr>
        <p:blipFill>
          <a:blip r:embed="rId2"/>
          <a:stretch/>
        </p:blipFill>
        <p:spPr>
          <a:xfrm>
            <a:off x="8001000" y="220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7" descr="鸟"/>
          <p:cNvPicPr/>
          <p:nvPr/>
        </p:nvPicPr>
        <p:blipFill>
          <a:blip r:embed="rId3"/>
          <a:stretch/>
        </p:blipFill>
        <p:spPr>
          <a:xfrm flipH="1">
            <a:off x="324000" y="5877000"/>
            <a:ext cx="5760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YW00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bird"/>
          <p:cNvPicPr/>
          <p:nvPr/>
        </p:nvPicPr>
        <p:blipFill>
          <a:blip r:embed="rId2"/>
          <a:stretch/>
        </p:blipFill>
        <p:spPr>
          <a:xfrm>
            <a:off x="4211640" y="2565360"/>
            <a:ext cx="797040" cy="725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867960" y="905040"/>
            <a:ext cx="1156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  <a:ea typeface="幼圆"/>
              </a:rPr>
              <a:t>起先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pic_17069"/>
          <p:cNvPicPr/>
          <p:nvPr/>
        </p:nvPicPr>
        <p:blipFill>
          <a:blip r:embed="rId1"/>
          <a:srcRect l="11753" t="2599" r="5884" b="62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1021680" y="833400"/>
            <a:ext cx="1400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  <a:ea typeface="幼圆"/>
              </a:rPr>
              <a:t>渐渐地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看古书"/>
          <p:cNvPicPr/>
          <p:nvPr/>
        </p:nvPicPr>
        <p:blipFill>
          <a:blip r:embed="rId1"/>
          <a:srcRect l="13277" t="6305" r="5288" b="85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939600" y="905040"/>
            <a:ext cx="1156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  <a:ea typeface="幼圆"/>
              </a:rPr>
              <a:t>后来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816840" y="550800"/>
            <a:ext cx="14302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Times New Roman"/>
              </a:rPr>
              <a:t>选词填空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51040" y="1603440"/>
            <a:ext cx="69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、它们就像躲进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_____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的丛林一样安全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深幽     幽暗    幽雅    幽寂）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094120" y="2698920"/>
            <a:ext cx="454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、忽然一个更小的脑袋从里面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_____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出来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伸     探     钻     冒）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26920" y="3849840"/>
            <a:ext cx="756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、它好肥，整个身子好像一个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_____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的球儿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滚圆     光滑     蓬松    毛绒绒）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900000" y="507528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、见我不去伤害它，便一点点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_____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近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（靠     贴     挨     挤）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0133"/>
          <p:cNvPicPr/>
          <p:nvPr/>
        </p:nvPicPr>
        <p:blipFill>
          <a:blip r:embed="rId1"/>
          <a:stretch/>
        </p:blipFill>
        <p:spPr>
          <a:xfrm>
            <a:off x="2346480" y="3879720"/>
            <a:ext cx="755640" cy="6890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1800" y="141444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华文新魏"/>
              </a:rPr>
              <a:t>　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5" descr="00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0760" y="13413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　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　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有一天，我伏案写作时，它居然落到我的肩上。我手中的笔不觉停了，生怕惊跑它。不一会儿，这小家伙竟趴在我的肩上睡着了。它睡得好熟哇！不停地咂嘴，大概在做梦呢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9" name="Picture 3" descr="0133"/>
          <p:cNvPicPr/>
          <p:nvPr/>
        </p:nvPicPr>
        <p:blipFill>
          <a:blip r:embed="rId1"/>
          <a:stretch/>
        </p:blipFill>
        <p:spPr>
          <a:xfrm>
            <a:off x="217440" y="620640"/>
            <a:ext cx="8675640" cy="5904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50920" y="9079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　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　看着这可爱的小家伙，我不由自主地发出了一声呼唤：信赖，不就能创造出美好的境界吗？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68360" y="4292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谈谈你对“信赖，往往创造出美好的境界”这句话的理解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"/>
                            </p:stCondLst>
                            <p:childTnLst>
                              <p:par>
                                <p:cTn id="4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189000"/>
            <a:ext cx="9143640" cy="6487560"/>
            <a:chOff x="0" y="189000"/>
            <a:chExt cx="9143640" cy="6487560"/>
          </a:xfrm>
        </p:grpSpPr>
        <p:pic>
          <p:nvPicPr>
            <p:cNvPr id="107" name="Picture 3" descr="fengjicai"/>
            <p:cNvPicPr/>
            <p:nvPr/>
          </p:nvPicPr>
          <p:blipFill>
            <a:blip r:embed="rId1"/>
            <a:stretch/>
          </p:blipFill>
          <p:spPr>
            <a:xfrm>
              <a:off x="0" y="778680"/>
              <a:ext cx="3740400" cy="58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4"/>
            <p:cNvSpPr/>
            <p:nvPr/>
          </p:nvSpPr>
          <p:spPr>
            <a:xfrm>
              <a:off x="3740400" y="189000"/>
              <a:ext cx="5403240" cy="38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宋体"/>
                  <a:ea typeface="幼圆"/>
                </a:rPr>
                <a:t> 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宋体"/>
                  <a:ea typeface="幼圆"/>
                </a:rPr>
                <a:t>     </a:t>
              </a:r>
              <a:r>
                <a:rPr b="1" lang="zh-CN" sz="5400" spc="-1" strike="noStrike">
                  <a:solidFill>
                    <a:srgbClr val="0000ff"/>
                  </a:solidFill>
                  <a:latin typeface="宋体"/>
                  <a:ea typeface="幼圆"/>
                </a:rPr>
                <a:t>冯骥才</a:t>
              </a: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  <a:ea typeface="幼圆"/>
                </a:rPr>
                <a:t> 既是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  <a:ea typeface="幼圆"/>
                </a:rPr>
                <a:t>作家，又是画家，他的每一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  <a:ea typeface="幼圆"/>
                </a:rPr>
                <a:t>篇文章都好像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66ff"/>
                  </a:solidFill>
                  <a:latin typeface="Times New Roman"/>
                  <a:ea typeface="幼圆"/>
                </a:rPr>
                <a:t>是一副美丽的画。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6" descr="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971640" y="20937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3. 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我”从鸟儿的相处中得到了哪些感受？将相关的语句划下来。</a:t>
            </a:r>
            <a:r>
              <a:rPr b="1" lang="zh-CN" sz="3200" spc="-1" strike="noStrike">
                <a:solidFill>
                  <a:srgbClr val="777777"/>
                </a:solidFill>
                <a:latin typeface="Arial"/>
                <a:ea typeface="幼圆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00000" y="372420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（信赖，往往创造出美好的境界。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671400" y="1773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826920" y="1557360"/>
            <a:ext cx="74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信任是一种有生命的感觉，信任也是一种高尚的情感，信任更是一种连接人与人之间的纽带。你有义务去信任另一个人，除非你能证实那个人不值得你信任；你也有权受到另一个人的信任，除非你已被证实不值得那个人信任。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                  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华文新魏"/>
              </a:rPr>
              <a:t>——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[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美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]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戴维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威斯格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974880" y="1239840"/>
            <a:ext cx="79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3" descr="草原-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380880" y="2057400"/>
            <a:ext cx="839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不光是人和鸟，人与动物、人与人之间同样需要信任。尊重对方的生存空间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思想空间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真正做到不以强凌弱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不以大欺小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这是建立信赖关系的前提条件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而有了信赖无疑会使世界多一抹温柔的色彩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242080" y="8380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华文彩云"/>
              </a:rPr>
              <a:t>作者说的仅仅是人和鸟之间的信赖吗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图片1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图片４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图片２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图片５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0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3780360" y="17002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鸟语花香、惊弓之鸟 、鸟尽弓藏、百鸟争鸣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991080" y="2637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关于鸟的诗句例如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698920" y="3403440"/>
            <a:ext cx="345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春眠不觉晓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处处闻啼鸟。（孟浩然）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几处早莺争暖树，谁家新燕啄春泥。（白居易）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两个黄鹂鸣翠柳，一行白鹭上青天。（杜甫）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鸟向檐上飞，云从窗里出。（吴均）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064160" y="105264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关于鸟的成语例如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图片1的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图片1不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9079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自由读课文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3" descr="20030923092506292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476360" y="1700280"/>
            <a:ext cx="6335640" cy="44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珍珠鸟"/>
          <p:cNvPicPr/>
          <p:nvPr/>
        </p:nvPicPr>
        <p:blipFill>
          <a:blip r:embed="rId1"/>
          <a:srcRect l="0" t="0" r="0" b="168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z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1"/>
          <p:cNvSpPr/>
          <p:nvPr/>
        </p:nvSpPr>
        <p:spPr>
          <a:xfrm>
            <a:off x="568440" y="6072120"/>
            <a:ext cx="80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324000" y="476280"/>
            <a:ext cx="864072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楷体_GB2312"/>
              </a:rPr>
              <a:t>作业：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从以下题目中选择一个写一段话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0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字左右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温暖舒适的巢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可爱的小红嘴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淘气的小家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）人鸟相依图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2288-2BB6-40BF-851F-042F49B0FF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50801161247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858680" y="2917800"/>
            <a:ext cx="3902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蔓               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瞅             　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框               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79640" y="38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ǒ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050920" y="285264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276720" y="2852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垂蔓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292720" y="2852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ó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516720" y="2852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葱茏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346560" y="3860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瞅见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WordArt 20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1979640" y="501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ku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3564000" y="501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画框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5435640" y="5084640"/>
            <a:ext cx="17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ā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6516720" y="5084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嚓嚓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5364000" y="393372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h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6516720" y="39337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雏儿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8"/>
          <p:cNvSpPr/>
          <p:nvPr/>
        </p:nvSpPr>
        <p:spPr>
          <a:xfrm>
            <a:off x="1879560" y="1628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20050801161247274"/>
          <p:cNvPicPr/>
          <p:nvPr/>
        </p:nvPicPr>
        <p:blipFill>
          <a:blip r:embed="rId1"/>
          <a:stretch/>
        </p:blipFill>
        <p:spPr>
          <a:xfrm>
            <a:off x="-252360" y="-171360"/>
            <a:ext cx="9396360" cy="7029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790280" y="2584080"/>
            <a:ext cx="4038840" cy="32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蜡               嗒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腻               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眸               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泻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08000" y="2565360"/>
            <a:ext cx="13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à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989440" y="2565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蜡烛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292720" y="2492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dā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300720" y="24098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嗒嗒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908000" y="443700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mó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1979640" y="3500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989440" y="350028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细腻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203640" y="4437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明眸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050920" y="544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3203640" y="544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流泻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5294160" y="450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ā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300720" y="4508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咂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5148360" y="357336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i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6300720" y="3500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眼睑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UTS_235"/>
          <p:cNvPicPr/>
          <p:nvPr/>
        </p:nvPicPr>
        <p:blipFill>
          <a:blip r:embed="rId1"/>
          <a:stretch/>
        </p:blipFill>
        <p:spPr>
          <a:xfrm>
            <a:off x="7093080" y="4149720"/>
            <a:ext cx="1009440" cy="752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11280" y="97776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初读课文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完成下列填空：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987640" y="177012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鸟（         ）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987640" y="342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人（          ）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987640" y="50846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Arial"/>
                <a:ea typeface="楷体_GB2312"/>
              </a:rPr>
              <a:t>鸟（          ）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427640" y="2492280"/>
            <a:ext cx="0" cy="792360"/>
          </a:xfrm>
          <a:prstGeom prst="line">
            <a:avLst/>
          </a:prstGeom>
          <a:ln w="9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4427640" y="414972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4067280" y="16970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怕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140360" y="3425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4140360" y="5084640"/>
            <a:ext cx="5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12" descr="1149667350533347"/>
          <p:cNvPicPr/>
          <p:nvPr/>
        </p:nvPicPr>
        <p:blipFill>
          <a:blip r:embed="rId2"/>
          <a:stretch/>
        </p:blipFill>
        <p:spPr>
          <a:xfrm>
            <a:off x="611280" y="2492280"/>
            <a:ext cx="2303280" cy="2519280"/>
          </a:xfrm>
          <a:prstGeom prst="rect">
            <a:avLst/>
          </a:prstGeom>
          <a:ln w="0">
            <a:noFill/>
          </a:ln>
        </p:spPr>
      </p:pic>
      <p:pic>
        <p:nvPicPr>
          <p:cNvPr id="154" name="珍珠鸟.mp3" descr=""/>
          <p:cNvPicPr/>
          <p:nvPr/>
        </p:nvPicPr>
        <p:blipFill>
          <a:blip r:embed="rId3"/>
          <a:stretch/>
        </p:blipFill>
        <p:spPr>
          <a:xfrm>
            <a:off x="6588000" y="170028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326374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55640" y="342900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8360" y="177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</a:rPr>
              <a:t>你印象中的珍珠鸟是什么样子的</a:t>
            </a:r>
            <a:r>
              <a:rPr b="1" lang="en-US" sz="4800" spc="-1" strike="noStrike">
                <a:solidFill>
                  <a:srgbClr val="ff66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4" descr="20034158283488722"/>
          <p:cNvPicPr/>
          <p:nvPr/>
        </p:nvPicPr>
        <p:blipFill>
          <a:blip r:embed="rId1"/>
          <a:stretch/>
        </p:blipFill>
        <p:spPr>
          <a:xfrm>
            <a:off x="4932360" y="1557360"/>
            <a:ext cx="36622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1195560"/>
            <a:ext cx="3794040" cy="48974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468360" y="841320"/>
            <a:ext cx="53989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思考探究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分别画出“我对珍珠鸟的照料与呵护”和“珍珠鸟的变化”的语句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珍珠鸟在“我”的照料与呵护下发生了哪些变化？为什么会发生这样的变化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900000" y="2133720"/>
            <a:ext cx="60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1. “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我”为鸟儿做了哪些事？</a:t>
            </a:r>
            <a:r>
              <a:rPr b="1" lang="zh-CN" sz="3600" spc="-1" strike="noStrike">
                <a:solidFill>
                  <a:srgbClr val="7777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8360" y="321300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7777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（重新为它们加工鸟巢；按时添食加水；按捺自己的好奇心决不轻易打扰它们的生活。）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7" descr="鸟3"/>
          <p:cNvPicPr/>
          <p:nvPr/>
        </p:nvPicPr>
        <p:blipFill>
          <a:blip r:embed="rId2"/>
          <a:stretch/>
        </p:blipFill>
        <p:spPr>
          <a:xfrm>
            <a:off x="7812000" y="62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鸟"/>
          <p:cNvPicPr/>
          <p:nvPr/>
        </p:nvPicPr>
        <p:blipFill>
          <a:blip r:embed="rId3"/>
          <a:stretch/>
        </p:blipFill>
        <p:spPr>
          <a:xfrm flipH="1">
            <a:off x="250560" y="5805360"/>
            <a:ext cx="86364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45Z</dcterms:modified>
  <cp:revision>6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