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36D6-F990-4438-AE41-1D45EF2575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F17F-E407-400A-A341-D65AB57A496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6CB-5B93-49F0-88F6-5E13352A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6F0-EDB9-4BE0-A3C8-3E8E347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046-A8A4-4FC0-A49C-58788BB8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097-E8DE-43DD-88D9-8D269582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190-81FC-48FE-A210-61DA7462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A63-20CF-44C2-85CE-80C1E4D5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EA98-4ED5-407C-AF12-DBBADCC8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05A-6FD6-4F38-A544-13836C6B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7FC-54C3-44B7-9ADD-12E1CAD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F28-47D7-40F8-951D-A9E4A406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644-BAD1-4836-B6B0-4A9399D8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941-F9AE-476B-A143-1B19216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B0C-9934-42CA-A2C2-E548CC758C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789120" y="692280"/>
            <a:ext cx="381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2286000" y="2471760"/>
            <a:ext cx="457200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584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方正姚体"/>
              </a:rPr>
              <a:t>鹭鸶</a:t>
            </a:r>
            <a:endParaRPr b="1" lang="en-US" sz="9600" spc="1" strike="noStrike">
              <a:ln w="1584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方正姚体"/>
              <a:ea typeface="方正姚体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195372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非洲红鹤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苍鹭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3789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4500720" y="465300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175280" y="407664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即如粉红的朱鹭或灰色的苍鹭，也觉得大了一些，而且太不寻常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4788000" y="907920"/>
            <a:ext cx="4106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鹭鸶是一首精巧的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鹭鸶（树）"/>
          <p:cNvPicPr/>
          <p:nvPr/>
        </p:nvPicPr>
        <p:blipFill>
          <a:blip r:embed="rId1"/>
          <a:stretch/>
        </p:blipFill>
        <p:spPr>
          <a:xfrm>
            <a:off x="324000" y="836640"/>
            <a:ext cx="4140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611280" y="515772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鹭鸶实在是一首诗，一首韵在骨子里的散文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轻音乐 - 田园.mp3" descr=""/>
          <p:cNvPicPr/>
          <p:nvPr/>
        </p:nvPicPr>
        <p:blipFill>
          <a:blip r:embed="rId1"/>
          <a:stretch/>
        </p:blipFill>
        <p:spPr>
          <a:xfrm>
            <a:off x="7956720" y="6237360"/>
            <a:ext cx="792000" cy="620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鹭鸶6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4005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图片1"/>
          <p:cNvPicPr/>
          <p:nvPr/>
        </p:nvPicPr>
        <p:blipFill>
          <a:blip r:embed="rId3"/>
          <a:stretch/>
        </p:blipFill>
        <p:spPr>
          <a:xfrm>
            <a:off x="0" y="0"/>
            <a:ext cx="4356000" cy="400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3564000" y="450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钓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4000" y="40766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在清水田里时有一只两只站着钓鱼， 整个的田便成了一幅嵌在玻璃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框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里的画面。田的大小好像有心人为鹭鸶设计出的镜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匣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3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235268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611280" y="4724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晴天的清晨，每每看见它孤独地站立在小树的绝顶，看来像是不太安稳，而它却很悠然。这是别的鸟很难表现的一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嗜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好。人们说它是在望哨，可它真是在望哨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4360" y="33577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鹭鸶实在是一首诗，一首韵在骨子里的散文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轻音乐 - 田园.mp3" descr=""/>
          <p:cNvPicPr/>
          <p:nvPr/>
        </p:nvPicPr>
        <p:blipFill>
          <a:blip r:embed="rId2"/>
          <a:stretch/>
        </p:blipFill>
        <p:spPr>
          <a:xfrm>
            <a:off x="7956720" y="6137280"/>
            <a:ext cx="863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35268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望哨吗？"/>
          <p:cNvPicPr/>
          <p:nvPr/>
        </p:nvPicPr>
        <p:blipFill>
          <a:blip r:embed="rId1"/>
          <a:stretch/>
        </p:blipFill>
        <p:spPr>
          <a:xfrm>
            <a:off x="611280" y="0"/>
            <a:ext cx="7993080" cy="4032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539640" y="436572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许它在（                             ），或许它在（                                  ），或许它在（                                       ）或许它在（                                      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鹭鸶10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489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独自向天"/>
          <p:cNvPicPr/>
          <p:nvPr/>
        </p:nvPicPr>
        <p:blipFill>
          <a:blip r:embed="rId2"/>
          <a:stretch/>
        </p:blipFill>
        <p:spPr>
          <a:xfrm>
            <a:off x="0" y="0"/>
            <a:ext cx="4572000" cy="4941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5157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或许有人会感着美中的不足，鹭鸶不会唱歌。但是鹭鸶的本身不就是一首很优美的歌吗？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不，歌未免太铿锵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0" y="476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鹭鸶实在是一首诗，一首韵在骨子里的散文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5292720" y="549360"/>
            <a:ext cx="3527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鹭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唐   杜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雪衣雪发青玉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群捕鱼儿溪影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惊飞远映碧山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树梨花落晚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鹭鸶１１"/>
          <p:cNvPicPr/>
          <p:nvPr/>
        </p:nvPicPr>
        <p:blipFill>
          <a:blip r:embed="rId1"/>
          <a:stretch/>
        </p:blipFill>
        <p:spPr>
          <a:xfrm>
            <a:off x="468360" y="476280"/>
            <a:ext cx="4848120" cy="3876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68360" y="4632480"/>
            <a:ext cx="867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鹭鸶是一首精巧的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鹭鸶实在是一首诗，一首韵在骨子里的散文诗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孤独的白鹭"/>
          <p:cNvPicPr/>
          <p:nvPr/>
        </p:nvPicPr>
        <p:blipFill>
          <a:blip r:embed="rId1"/>
          <a:stretch/>
        </p:blipFill>
        <p:spPr>
          <a:xfrm>
            <a:off x="1403280" y="620640"/>
            <a:ext cx="6480360" cy="5761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会轻功的白鹭"/>
          <p:cNvPicPr/>
          <p:nvPr/>
        </p:nvPicPr>
        <p:blipFill>
          <a:blip r:embed="rId2"/>
          <a:stretch/>
        </p:blipFill>
        <p:spPr>
          <a:xfrm>
            <a:off x="1403280" y="549360"/>
            <a:ext cx="6624720" cy="580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悠然的白鹭"/>
          <p:cNvPicPr/>
          <p:nvPr/>
        </p:nvPicPr>
        <p:blipFill>
          <a:blip r:embed="rId3"/>
          <a:stretch/>
        </p:blipFill>
        <p:spPr>
          <a:xfrm>
            <a:off x="611280" y="549360"/>
            <a:ext cx="8136000" cy="575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收获的白鹭"/>
          <p:cNvPicPr/>
          <p:nvPr/>
        </p:nvPicPr>
        <p:blipFill>
          <a:blip r:embed="rId4"/>
          <a:stretch/>
        </p:blipFill>
        <p:spPr>
          <a:xfrm>
            <a:off x="684360" y="438120"/>
            <a:ext cx="8096040" cy="6419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钓鱼？"/>
          <p:cNvPicPr/>
          <p:nvPr/>
        </p:nvPicPr>
        <p:blipFill>
          <a:blip r:embed="rId5"/>
          <a:stretch/>
        </p:blipFill>
        <p:spPr>
          <a:xfrm>
            <a:off x="684360" y="476280"/>
            <a:ext cx="8459640" cy="61880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7"/>
          <p:cNvSpPr txBox="1"/>
          <p:nvPr/>
        </p:nvSpPr>
        <p:spPr>
          <a:xfrm>
            <a:off x="324000" y="907920"/>
            <a:ext cx="302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6600"/>
                </a:solidFill>
                <a:latin typeface="宋体"/>
              </a:rPr>
              <a:t>请您欣赏</a:t>
            </a:r>
            <a:endParaRPr b="0" lang="en-US" sz="1800" spc="-1" strike="noStrike">
              <a:ln w="0">
                <a:noFill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4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40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CB2B-2794-4C75-B36E-B3902BA673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591516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郭沫若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郭沫若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），原名郭开贞，字鼎堂，号尚武。笔名沫若是我国现代著名的无产阶级文学家、诗人、剧作家、考古学家、思想家、古文字学家、历史学家、书法家，学者和著名的革命家、社会活动家，他是我国新诗的奠基人，是继鲁迅之后革命文化界公认的领袖。他的代表作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星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女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郭沫若像"/>
          <p:cNvPicPr/>
          <p:nvPr/>
        </p:nvPicPr>
        <p:blipFill>
          <a:blip r:embed="rId2"/>
          <a:stretch/>
        </p:blipFill>
        <p:spPr>
          <a:xfrm>
            <a:off x="6443640" y="260280"/>
            <a:ext cx="2160720" cy="28083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"/>
          <p:cNvSpPr/>
          <p:nvPr/>
        </p:nvSpPr>
        <p:spPr>
          <a:xfrm>
            <a:off x="507960" y="6008760"/>
            <a:ext cx="61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2" descr="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066680" y="1828800"/>
            <a:ext cx="251964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438280" y="24382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l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800600" y="2514600"/>
            <a:ext cx="20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066680" y="3429000"/>
            <a:ext cx="16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724280" y="35053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066680" y="449568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648320" y="457200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6227640" y="2421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sī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2411280" y="3429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h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黑体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6300720" y="3500280"/>
            <a:ext cx="18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k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411280" y="443700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xi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黑体"/>
              </a:rPr>
              <a:t>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6227640" y="450864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黑体"/>
                <a:ea typeface="黑体"/>
              </a:rPr>
              <a:t>sh</a:t>
            </a:r>
            <a:r>
              <a:rPr b="1" lang="en-US" sz="4400" spc="-1" strike="noStrike">
                <a:solidFill>
                  <a:srgbClr val="ff33cc"/>
                </a:solidFill>
                <a:latin typeface="Arial"/>
                <a:ea typeface="黑体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250920" y="152388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8080"/>
                </a:solidFill>
                <a:latin typeface="华文行楷"/>
                <a:ea typeface="华文行楷"/>
              </a:rPr>
              <a:t> </a:t>
            </a:r>
            <a:r>
              <a:rPr b="1" i="1" lang="zh-CN" sz="4800" spc="-1" strike="noStrike">
                <a:solidFill>
                  <a:srgbClr val="008080"/>
                </a:solidFill>
                <a:latin typeface="华文行楷"/>
                <a:ea typeface="华文行楷"/>
              </a:rPr>
              <a:t>读准字音，看清字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20"/>
          <p:cNvSpPr txBox="1"/>
          <p:nvPr/>
        </p:nvSpPr>
        <p:spPr>
          <a:xfrm>
            <a:off x="1258920" y="333360"/>
            <a:ext cx="3124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800000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快速抢答</a:t>
            </a:r>
            <a:endParaRPr b="1" lang="en-US" sz="4400" spc="1" strike="noStrike">
              <a:ln w="19080">
                <a:solidFill>
                  <a:srgbClr val="800000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7"/>
          <p:cNvSpPr/>
          <p:nvPr/>
        </p:nvSpPr>
        <p:spPr>
          <a:xfrm>
            <a:off x="3564000" y="299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971640" y="1773360"/>
            <a:ext cx="6858000" cy="42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鹭鸶         精巧         适合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硬         孤独         安稳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悠然         嗜好         白鹤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铿锵         长喙         镶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镜匣         玻璃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6"/>
          <p:cNvSpPr txBox="1"/>
          <p:nvPr/>
        </p:nvSpPr>
        <p:spPr>
          <a:xfrm>
            <a:off x="1116000" y="907920"/>
            <a:ext cx="2448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读一读</a:t>
            </a:r>
            <a:endParaRPr b="0" lang="en-US" sz="4800" spc="1" strike="noStrike">
              <a:ln w="1908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图片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33336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认真听课文朗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788000" y="1413000"/>
            <a:ext cx="43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鹭鸶是一首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精巧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的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0" y="342900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鹭鸶实在是一首诗，一首韵在骨子里的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散文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鹭鸶（树）"/>
          <p:cNvPicPr/>
          <p:nvPr/>
        </p:nvPicPr>
        <p:blipFill>
          <a:blip r:embed="rId1"/>
          <a:stretch/>
        </p:blipFill>
        <p:spPr>
          <a:xfrm>
            <a:off x="250920" y="1628640"/>
            <a:ext cx="4140000" cy="48247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95280" y="26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方正卡通简体"/>
              </a:rPr>
              <a:t>想一想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在郭沫若眼中，鹭鸶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白鷺鷥的圖片"/>
          <p:cNvPicPr/>
          <p:nvPr/>
        </p:nvPicPr>
        <p:blipFill>
          <a:blip r:embed="rId1"/>
          <a:stretch/>
        </p:blipFill>
        <p:spPr>
          <a:xfrm>
            <a:off x="0" y="0"/>
            <a:ext cx="36939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4427640" y="263700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284720" y="1268280"/>
            <a:ext cx="43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95640" y="206064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色素的配合，身段的大小，一切都很适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564000" y="0"/>
            <a:ext cx="5580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课文内容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（       ）的 蓑毛  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那  全身  的流线型结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那（        ）的长喙  ，那（      ）的脚  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增一点儿则嫌长，减一点儿则嫌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（      ）一点儿则嫌（      ），（     ）一点儿则嫌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白鷺鷥的圖片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3095640" y="4508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色素的配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843280" y="615636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鹭鸶是一首精巧的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156280" y="692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雪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995640" y="17002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铁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96360" y="1700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青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948360" y="263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292720" y="3068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7093080" y="321300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076720" y="3645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9900ff"/>
                </a:solidFill>
                <a:latin typeface="Arial"/>
              </a:rPr>
              <a:t>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991560" y="45086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身段的大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3743280" y="5300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一切都很适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轻音乐 - 田园.mp3" descr=""/>
          <p:cNvPicPr/>
          <p:nvPr/>
        </p:nvPicPr>
        <p:blipFill>
          <a:blip r:embed="rId2"/>
          <a:stretch/>
        </p:blipFill>
        <p:spPr>
          <a:xfrm>
            <a:off x="8496360" y="6370560"/>
            <a:ext cx="6476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35268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白鹤图"/>
          <p:cNvPicPr/>
          <p:nvPr/>
        </p:nvPicPr>
        <p:blipFill>
          <a:blip r:embed="rId1"/>
          <a:stretch/>
        </p:blipFill>
        <p:spPr>
          <a:xfrm>
            <a:off x="1187280" y="404640"/>
            <a:ext cx="6767640" cy="4969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763640" y="566100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鹤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太大而嫌生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6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4:45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4:23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