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42E8-CE9C-47B5-8981-868DEF6ABD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8441-3C4C-46AA-887D-D47565C2AE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C9D-5006-4323-80E0-D0C63982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3E9-55FC-4392-8E9D-5D09CD66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107-126B-49DB-8144-7F477DCC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DC0-3257-4740-93DE-8198631C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29E-BC91-4660-94BA-0C17E252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AA2-3BEB-43E1-9F8B-C81D1E6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DBA-0CC9-4C37-B3F6-05D81306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7BF-E33E-47D1-9CFA-6E81FFB8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341-3136-453A-B2DC-F4CED5AA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D28-C637-4E0F-AC77-1EE24FA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142-FB8B-4B4E-8995-85C29A1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AB3-A11B-4DE7-BFDA-D542271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C3D-6863-46C0-9F66-F7CC8912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dzjdaily.com.cn/misc/2007-12/25/content_621884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ravel.sina.com.cn/hotel/p/2009-02-02/113458029.s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q666.cn/blog/post/22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1066680" y="2286000"/>
            <a:ext cx="695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爱斯基摩人的冰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0144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484360" y="1989000"/>
            <a:ext cx="3168720" cy="291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627280" y="191628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取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484360" y="3429000"/>
            <a:ext cx="316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067280" y="19890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09480" y="0"/>
            <a:ext cx="815364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爱斯基摩人的冰屋是怎样建成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建造时，先在避风的地方选好地基，挖一个坑，再在坑上垒成半球形的冰屋顶；然后，开一个小窗，使光线能够射进屋里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爱斯基摩人的冰屋有什么特点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爱斯基摩人的生活方式又有什么特点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如他们的床也是冰块和雪块垒成的，他们用海豹油照明、取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89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ren03"/>
          <p:cNvPicPr/>
          <p:nvPr/>
        </p:nvPicPr>
        <p:blipFill>
          <a:blip r:embed="rId1"/>
          <a:stretch/>
        </p:blipFill>
        <p:spPr>
          <a:xfrm>
            <a:off x="6705720" y="3689280"/>
            <a:ext cx="2111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边框1"/>
          <p:cNvPicPr/>
          <p:nvPr/>
        </p:nvPicPr>
        <p:blipFill>
          <a:blip r:embed="rId1"/>
          <a:stretch/>
        </p:blipFill>
        <p:spPr>
          <a:xfrm>
            <a:off x="228600" y="228600"/>
            <a:ext cx="3513240" cy="129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选择正确的读音打对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屋（              ）斯（              ）层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（             ） 取（              ）坑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比一比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屋            选          暖              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            远          爱              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世界奇观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知道世界上还有哪些奇观异景？想一想，然后和同学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704960" y="470520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 斯 基 摩 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极地区的土著民族，自称因纽特人，分布在从西伯利亚、阿拉斯加到格陵兰的北极圈内外。总人口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分别居住在格陵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美国的阿拉斯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加拿大北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.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俄罗斯白令海峡一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属蒙古人种北极类型。先后创制了用拉丁字母和斯拉夫字母拼写的文字。多信万物有灵和萨满教。社会以地域集团为单位。首领多为萨满，行一夫一妻制。一般养狗，用以拉雪橇。主要从事陆地或海上狩猎，辅以捕鱼和驯鹿。以猎物为主要生活来源：以肉为食，毛皮做衣物，油脂用于照明和烹饪，骨牙作工具和武器。男子狩猎和建屋，妇女制皮和缝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斯基摩是一个民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同地区的爱斯基摩人对自己有不同的称呼。美国阿拉斯加地区的爱斯基摩人称自己为“因纽皮特人”，加拿大的爱斯基摩人称自己为“因纽特人”，格陵兰岛的爱斯基摩人称自己为“卡拉特里特”，意思都是“人”。爱斯基摩人认为“人”是生命王国里至高无上的代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692360" y="2060640"/>
            <a:ext cx="6003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AFC9-237F-4428-B9F7-03F7D3DEF3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准确、流利地朗读课文。并会用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能够把学到的知识讲给别人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6"/>
          <p:cNvSpPr txBox="1"/>
          <p:nvPr/>
        </p:nvSpPr>
        <p:spPr>
          <a:xfrm rot="5400000">
            <a:off x="151920" y="2361960"/>
            <a:ext cx="3276720" cy="20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886200" y="171360"/>
            <a:ext cx="47721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228600" y="0"/>
            <a:ext cx="4905360" cy="655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WB21c25Cb0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28600"/>
            <a:ext cx="3467160" cy="2589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5334120" y="3124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仔细观察，看看图片上的房子和小朋友住的房子有哪些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U3404P704T2D58029F101DT20090202113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066680"/>
            <a:ext cx="6476760" cy="4318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3933720" y="403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爱斯基摩冰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563868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008060611320508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295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4080600" y="380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爱斯基摩雪橇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屋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429000" y="304920"/>
            <a:ext cx="2448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温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暖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1T06:42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56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