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45.jpeg" ContentType="image/jpeg"/>
  <Override PartName="/ppt/media/image46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47.jpeg" ContentType="image/jpeg"/>
  <Override PartName="/ppt/media/glass.wav" ContentType="audio/x-wav"/>
  <Override PartName="/ppt/media/image57.jpeg" ContentType="image/jpeg"/>
  <Override PartName="/ppt/media/image43.jpeg" ContentType="image/jpeg"/>
  <Override PartName="/ppt/media/image33.jpeg" ContentType="image/jpeg"/>
  <Override PartName="/ppt/media/drumroll.wav" ContentType="audio/x-wav"/>
  <Override PartName="/ppt/media/image30.jpeg" ContentType="image/jpeg"/>
  <Override PartName="/ppt/media/image32.jpeg" ContentType="image/jpeg"/>
  <Override PartName="/ppt/media/image31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A6B7-A175-4FD2-B5BD-54E618A209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8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8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r>
              <a:rPr b="0" lang="en-US" sz="8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581040"/>
                <a:tab algn="l" pos="1162080"/>
                <a:tab algn="l" pos="1743120"/>
                <a:tab algn="l" pos="2324160"/>
                <a:tab algn="l" pos="2905200"/>
                <a:tab algn="l" pos="3486240"/>
                <a:tab algn="l" pos="4067280"/>
                <a:tab algn="l" pos="4648320"/>
                <a:tab algn="l" pos="5229360"/>
                <a:tab algn="l" pos="5810400"/>
                <a:tab algn="l" pos="6391440"/>
                <a:tab algn="l" pos="6972480"/>
                <a:tab algn="l" pos="7553160"/>
                <a:tab algn="l" pos="8134200"/>
                <a:tab algn="l" pos="8715240"/>
                <a:tab algn="l" pos="9296280"/>
                <a:tab algn="l" pos="9877320"/>
                <a:tab algn="l" pos="1045836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B542C-2A97-42DE-A2C2-8D44C420393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30E-BD15-48D5-B249-E468E84A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5E6-5FDB-4C8D-A277-FEE3AA6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944DB-D9E6-4912-B35F-6857CC00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4B254-6AA0-4EC2-934F-5DEB5B6F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4ADB4-8FC7-4EAB-B244-B9EBF79F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FE358F-ACE8-4D6D-94B4-27E37138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F27DB-FCF0-4751-8EEB-BDF07DA7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82ABC5-F17A-4459-8F88-DDD15D5F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BBE8C1-59AE-4792-A17A-25F7FD94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504EF-E56C-456C-83A8-DB806BBA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8C699-CDC9-4D38-9DCA-6FCBF02B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AB54D-5A36-4190-B389-7422B1C6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35E-5E4F-4EFB-B8C5-A5C7F6B2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EF43A-EFBC-4DE9-A3A2-C624A2E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A79BD7-5903-4E96-B84C-ED597B4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69013E-42B2-42B7-8E1F-B6FEA84E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827B9-A03B-48E7-840E-8363D916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B1124-8B20-495E-AB2B-F27B9688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1DB3CB-6E5E-4623-BC73-4615A56D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11744-F6CE-44CC-BFF7-F81E73EF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57C3F6-7699-4029-B738-B7DABB61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45732-BBD4-4401-A84A-5FC31E8D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6223C0-EF8C-40C4-9259-4E5051C0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331-136C-44B2-80B1-73448A19A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2862B1-90F9-4FBD-983A-0006C01A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56E10-1250-4258-8AA8-088F5C6D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BDA07-73C0-4CC1-A3C1-18C8D345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AA92F-8ACD-4934-A8F2-FA9C7BD9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FDA9A-E9AF-43F0-A5EA-DD0B95B8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994C66-4043-49CF-83A0-4A195248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0EE2-F150-40E2-9F3D-2804EAB3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6C12B-92C3-4A90-AFCD-776D2A7F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26A39-F47D-409D-8F72-0F1BCA2E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EFD9C-462F-44B2-BB9B-D49A021B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C550-D20F-4E5D-9929-D5A7F4DC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E427D-F8FB-4EDA-8EAC-91879928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1BBA0-1094-4E26-9400-432953D7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32DFF6-4C59-4C22-B75E-D93DCCC3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2371-A1EF-4521-980A-8DA979B4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CBC2-0B82-4C59-A330-80B22061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BB44-C818-48B0-8BFB-28E19DCD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4885-063E-4189-BBE3-304D5A0E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2E7E0-2D3B-421A-A81C-44D6983B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09F6-6A71-4C3A-AEDB-B9346166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397-F378-4A2A-A69A-DE5F5E33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9601-DAD7-4537-9504-2EAC351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6515-39A0-405F-A1FF-8A4C0BA1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3D76-A443-4699-8FF2-05AD191D1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88B2-35B2-4062-8FA4-4478583E7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1D56-6A5D-495A-8405-D3698473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54B09-4806-40AA-90C5-34B29C095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0DC6-DFCD-4ADA-B952-3776C960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CB59-1A20-46C5-A811-3F877748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169F4-2C95-4C37-A033-C405A1A3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23370-E33E-4849-9F70-11758892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C099-95C8-4E3D-B4C7-C3DEAC90E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306F-3362-4F8F-ADB4-0DC12269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23B1-47FE-4C59-A656-07FEDF2E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FA871-A550-45BE-BDBD-C002F041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8976A-AE8F-4E0F-AF7B-995008AF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8818A-40EB-4707-AB43-134B5C26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8386-D931-4B4F-BA7F-8923B6CE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AAAE0-C0CE-4C13-87CE-FE2BB5F0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C1666-D23D-44CC-9B9B-96D8A0726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5FF46-2534-47A2-ACBE-717D0E3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AA1E-0C7A-4C34-A6C3-747F4545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96C-DB1F-4AA0-8B92-E9327C3C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B6094D-0C07-42F5-A4C2-27587CD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899C-3D70-4514-BBBC-83615F82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7F0D1-5143-49D0-A80D-D1F4C04A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8CA25-0704-40E9-8939-EB48DDFD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D2D0-5DE6-4F9F-B563-A603D36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91561-401B-45C1-B370-C0C947772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0B05-9318-46D3-8819-209DB5FB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2EC20-3115-40C4-B41E-04B030351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D2A1-6F47-465C-922A-C8C0BE38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1075-43FE-47D3-A2E1-2BBC74D3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A8B-9D2A-45B6-B335-200E9B2F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EFE53-925A-4910-95F7-355681EB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6163B-7BDC-4E59-9421-B7B94C0FE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6068-3ECF-49C8-A751-7790AF83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65CD6-66C8-40EA-8945-9231A959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E08B6-1FDB-40B6-AB48-841E6348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5685C-2A31-4423-ACA2-7DE64AE0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A2A11-7484-421A-902F-6AD12F6C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E9ED-1E2C-446D-9D5A-B97CE6F6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41C61-21FF-4910-B03A-8D30BD23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CB1AE-9165-4C44-AE2A-1ECFF2669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930-F1EF-4403-8972-3DB273A0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8B7F7-115A-42DB-8BE0-93D89B9E1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C8B50-7F57-4468-9859-45FC314D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3285-10CD-4A3A-8B5F-865534725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84DEBB-4F42-4489-8C12-4E622ABC1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DA7D4-4ECB-42F7-81E5-89106C27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1E8AE-05AC-47FB-9F6B-9C77D4F1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0344B-D1DB-4FEB-B26B-78E1EF87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6684C-59ED-476E-B85F-71D8DF72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AF80E9-7BB0-44A3-BABF-2800356C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D67F-41C7-42F4-AF88-196703D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4DB-F414-4248-80B1-16C9DF8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4D0E9-D95E-4216-8102-6E4B9223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F9A7-CBEE-4D02-BD02-67C8CDE2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F531A-CBDF-488E-9652-A31489F8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AC2D4A-3F39-4D92-9EF2-5A67E2FE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8A55-FD84-4B8A-BD43-7216EAC8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CC3F9-44D1-4217-8E5D-ED062D324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3C817-A1EA-4B57-AC9F-7F07A7C81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F455B-7B74-4102-8A00-007A373C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D0030-D6BA-4008-B830-27AACE97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08B2F-AFB4-4099-B6A6-E722A4ED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A5D3-0AA0-4D29-9001-FE234A93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378C3-901D-4405-A48C-A4D387D2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FFB84-71BA-431A-85C8-ACB95546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CD322-431E-4DE0-BE3F-DC8A2B11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5FCCBD-6AF9-4E04-A419-253B919D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BC640-C27A-4A2B-96BD-9A2745464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842B0-80B1-4EED-9ED8-54CCFFCC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1595-D95F-4345-9C36-790B333B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47B76-D603-4EB6-A416-5DFBB066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BC6BCB-C6EF-41C0-9301-00BD03B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B482D3-5EAA-45DA-A4B6-1D0649D5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75FE-953D-48A6-A313-E54C7A00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040A-6FC0-4F2F-8900-19F6982B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75E0B-499F-4401-871E-D466BFA9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413C3-AC46-47D1-844B-3F965B75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262E-4257-4357-99E1-67DDAF0C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2C829-092C-453D-B01D-98F95F06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CDBA6-ABC2-46B9-9ED4-2A0C93C2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3976-3867-46D2-8110-D589B74E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AE9265-1FB0-476D-8A69-EA8E993DD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8452-9D85-4EB1-BA86-11E88AA9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5768A-ACAD-4BF1-B98E-EA69FD7A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B48-4053-4624-AE91-4B2599F777C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FD3C46-7C5D-44A5-9D59-BF8CB25802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D582E7-0728-4DCD-AA87-1F6242DA46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F75D7E-5F8C-473D-A45E-98725C4B71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6410477-5308-449C-A6F5-0160B30EDF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5E9FFB-6142-4005-8BDB-9CF5F53B23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DF4C72-E844-4999-A7E6-8C3744694D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A08AAB-DD77-440E-B2D8-820A541636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3915BE-1B31-44E0-8B3E-FC974732E0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095C51-F342-4598-B031-A427897C6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E13228-A08A-47C9-9F3A-54B4F2BEEC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A0058BE-32B0-4E23-B8EC-4EE08A802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gif"/><Relationship Id="rId3" Type="http://schemas.openxmlformats.org/officeDocument/2006/relationships/audio" Target="../media/glas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../../PPT&#35838;&#20214;/&#23433;&#22622;&#33136;&#40723;&#35270;&#39057;.asx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99840" y="731520"/>
            <a:ext cx="5832360" cy="1800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cc00cc"/>
                </a:solidFill>
                <a:latin typeface="Arial"/>
                <a:ea typeface="华文行楷"/>
              </a:rPr>
              <a:t>安塞腰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382920" y="2422440"/>
            <a:ext cx="2301840" cy="1008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刘成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3"/>
          <p:cNvSpPr/>
          <p:nvPr/>
        </p:nvSpPr>
        <p:spPr>
          <a:xfrm>
            <a:off x="1951560" y="5838840"/>
            <a:ext cx="5359320" cy="4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960" rIns="57960" tIns="29160" bIns="29160" anchor="t">
            <a:spAutoFit/>
          </a:bodyPr>
          <a:p>
            <a:pPr marL="217440" indent="-21744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95080" y="1189080"/>
            <a:ext cx="8227800" cy="1719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ffff"/>
                </a:solidFill>
                <a:latin typeface="华文新魏"/>
                <a:ea typeface="华文新魏"/>
              </a:rPr>
              <a:t>看读课文   体味文势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77960" y="3976560"/>
            <a:ext cx="7632720" cy="1944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00"/>
                </a:solidFill>
                <a:latin typeface="Arial"/>
                <a:ea typeface="华文新魏"/>
              </a:rPr>
              <a:t>         </a:t>
            </a:r>
            <a:r>
              <a:rPr b="1" lang="zh-CN" sz="3700" spc="-1" strike="noStrike">
                <a:solidFill>
                  <a:srgbClr val="ffff00"/>
                </a:solidFill>
                <a:latin typeface="Arial"/>
                <a:ea typeface="华文新魏"/>
              </a:rPr>
              <a:t>课件上会展示很多安塞腰鼓表演时的图片，看的时候想想用那些词语来概括这些场面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一群茂腾腾的后生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sf_2006615164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的身后是一片高粱地。他们朴实得就像那片高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3" descr="p15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0" y="5632560"/>
            <a:ext cx="914400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咝溜溜的南风吹动了高粱叶子，也吹动了他们的衣衫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5294160" y="0"/>
            <a:ext cx="38498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他们的神情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沉稳而安静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4" descr="20070213092803483"/>
          <p:cNvPicPr/>
          <p:nvPr/>
        </p:nvPicPr>
        <p:blipFill>
          <a:blip r:embed="rId1"/>
          <a:stretch/>
        </p:blipFill>
        <p:spPr>
          <a:xfrm>
            <a:off x="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紧贴在他们身体一侧的腰鼓，呆呆的，似乎从来不曾响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4" descr="20081181600334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5" descr="407_s_121837535056_s"/>
          <p:cNvPicPr/>
          <p:nvPr/>
        </p:nvPicPr>
        <p:blipFill>
          <a:blip r:embed="rId1"/>
          <a:stretch/>
        </p:blipFill>
        <p:spPr>
          <a:xfrm>
            <a:off x="0" y="0"/>
            <a:ext cx="9325080" cy="69642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50560" y="-316080"/>
            <a:ext cx="5761080" cy="2997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90000"/>
              </a:lnSpc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100" spc="-1" strike="noStrike">
                <a:solidFill>
                  <a:srgbClr val="ff0000"/>
                </a:solidFill>
                <a:latin typeface="黑体"/>
                <a:ea typeface="黑体"/>
              </a:rPr>
              <a:t>但是：</a:t>
            </a:r>
            <a:r>
              <a:rPr b="0" lang="zh-CN" sz="95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br>
              <a:rPr sz="9500"/>
            </a:br>
            <a:r>
              <a:rPr b="0" lang="zh-CN" sz="9500" spc="-1" strike="noStrike">
                <a:solidFill>
                  <a:srgbClr val="ff0000"/>
                </a:solidFill>
                <a:latin typeface="黑体"/>
                <a:ea typeface="黑体"/>
              </a:rPr>
              <a:t>   看！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5080" y="0"/>
            <a:ext cx="807084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cc66ff"/>
                </a:solidFill>
                <a:latin typeface="黑体"/>
                <a:ea typeface="黑体"/>
              </a:rPr>
              <a:t>一捶起来就发狠了，忘情了，没命了！百十个斜背腰鼓的后生，如百十块被强震不断击起的石头，狂舞在你的面前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4" descr="28975025929cb97935a80f55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5a3118098973799bd0581b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357440" y="333360"/>
            <a:ext cx="5113080" cy="16574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骤雨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是急促的鼓点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2007931138128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5074920" y="836280"/>
            <a:ext cx="4249800" cy="1584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旋风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是飞扬的流苏；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腰鼓1"/>
          <p:cNvPicPr/>
          <p:nvPr/>
        </p:nvPicPr>
        <p:blipFill>
          <a:blip r:embed="rId2"/>
          <a:stretch/>
        </p:blipFill>
        <p:spPr>
          <a:xfrm>
            <a:off x="5722920" y="731880"/>
            <a:ext cx="3421080" cy="3551040"/>
          </a:xfrm>
          <a:prstGeom prst="rect">
            <a:avLst/>
          </a:prstGeom>
          <a:ln w="0">
            <a:noFill/>
          </a:ln>
        </p:spPr>
      </p:pic>
      <p:sp>
        <p:nvSpPr>
          <p:cNvPr id="462" name="Text Box 3"/>
          <p:cNvSpPr/>
          <p:nvPr/>
        </p:nvSpPr>
        <p:spPr>
          <a:xfrm>
            <a:off x="639720" y="731880"/>
            <a:ext cx="38512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4100" spc="-1" strike="noStrike">
                <a:solidFill>
                  <a:srgbClr val="cc0099"/>
                </a:solidFill>
                <a:latin typeface="Times New Roman"/>
                <a:ea typeface="隶书"/>
              </a:rPr>
              <a:t>你知道这是什么鼓吗？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325520" y="2239920"/>
            <a:ext cx="21351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隶书"/>
              </a:rPr>
              <a:t>腰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639720" y="3154320"/>
            <a:ext cx="5256360" cy="13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4100" spc="-1" strike="noStrike">
                <a:solidFill>
                  <a:srgbClr val="cc0099"/>
                </a:solidFill>
                <a:latin typeface="Times New Roman"/>
                <a:ea typeface="隶书"/>
              </a:rPr>
              <a:t>你知道中国的“腰鼓之乡”是哪里吗</a:t>
            </a:r>
            <a:r>
              <a:rPr b="1" lang="en-US" sz="4100" spc="-1" strike="noStrike">
                <a:solidFill>
                  <a:srgbClr val="cc0099"/>
                </a:solidFill>
                <a:latin typeface="Times New Roman"/>
                <a:ea typeface="隶书"/>
              </a:rPr>
              <a:t>?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006560" y="4846680"/>
            <a:ext cx="44179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隶书"/>
              </a:rPr>
              <a:t>陕北的安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4" descr="4f2d22f8fae0b416d8f9fd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-360" y="5489640"/>
            <a:ext cx="7669080" cy="892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ff00"/>
                </a:solidFill>
                <a:latin typeface="华文行楷"/>
                <a:ea typeface="华文行楷"/>
              </a:rPr>
              <a:t>乱蛙一样，是蹦跳的脚步；</a:t>
            </a:r>
            <a:r>
              <a:rPr b="1" lang="zh-CN" sz="4700" spc="-1" strike="noStrike">
                <a:solidFill>
                  <a:srgbClr val="ffff00"/>
                </a:solidFill>
                <a:latin typeface="方正舒体"/>
                <a:ea typeface="方正舒体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3" descr="71_1297_42b7bd755758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8028000" cy="9349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333399"/>
                </a:solidFill>
                <a:latin typeface="华文行楷"/>
                <a:ea typeface="华文行楷"/>
              </a:rPr>
              <a:t>火花一样，是闪射的瞳仁；</a:t>
            </a:r>
            <a:r>
              <a:rPr b="1" lang="zh-CN" sz="41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3" descr="20080507115922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259160" cy="2116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ff00"/>
                </a:solidFill>
                <a:latin typeface="华文新魏"/>
                <a:ea typeface="华文新魏"/>
              </a:rPr>
              <a:t>斗虎一样，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强健的风姿</a:t>
            </a:r>
            <a:r>
              <a:rPr b="1" lang="zh-CN" sz="4700" spc="-1" strike="noStrike">
                <a:solidFill>
                  <a:srgbClr val="ffff00"/>
                </a:solidFill>
                <a:latin typeface="方正舒体"/>
                <a:ea typeface="方正舒体"/>
              </a:rPr>
              <a:t>。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6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1684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黄土高原上，爆出一场多么壮阔、多么豪放、多么火烈的舞蹈哇</a:t>
            </a:r>
            <a:r>
              <a:rPr b="1" lang="en-US" sz="3700" spc="-1" strike="noStrike">
                <a:solidFill>
                  <a:srgbClr val="ff0000"/>
                </a:solidFill>
                <a:latin typeface="Arial"/>
                <a:ea typeface="华文新魏"/>
              </a:rPr>
              <a:t>——</a:t>
            </a:r>
            <a:r>
              <a:rPr b="1" lang="zh-CN" sz="37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安塞腰鼓！ 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4" descr="1a72c7f472794877dcc47454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300" spc="-1" strike="noStrike">
                <a:solidFill>
                  <a:srgbClr val="cc66ff"/>
                </a:solidFill>
                <a:latin typeface="华文新魏"/>
                <a:ea typeface="华文新魏"/>
              </a:rPr>
              <a:t>这腰鼓，使冰冷的空气立即变得燥热了，使恬静的阳光立即变得飞溅了，使困倦的世界立即变得亢奋了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92360" cy="6858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ccffff"/>
              </a:gs>
            </a:gsLst>
            <a:lin ang="18900000"/>
          </a:gra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9900cc"/>
                </a:solidFill>
                <a:latin typeface="Arial"/>
                <a:ea typeface="华文新魏"/>
              </a:rPr>
              <a:t>！</a:t>
            </a:r>
            <a:r>
              <a:rPr b="0" lang="zh-CN" sz="2400" spc="-1" strike="noStrike">
                <a:solidFill>
                  <a:srgbClr val="9900cc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10345_200706221651522"/>
          <p:cNvPicPr/>
          <p:nvPr/>
        </p:nvPicPr>
        <p:blipFill>
          <a:blip r:embed="rId1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5" descr="m11602945582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09080" y="4292640"/>
            <a:ext cx="8434440" cy="21607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700" spc="-1" strike="noStrike">
                <a:solidFill>
                  <a:srgbClr val="ffffff"/>
                </a:solidFill>
                <a:latin typeface="黑体"/>
                <a:ea typeface="黑体"/>
              </a:rPr>
              <a:t>百十个腰鼓发出的沉重响声，碰撞在四野长着酸枣树的山崖上，山崖蓦然变成牛皮鼓面了，只听见隆隆，隆隆，隆隆。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4" descr="a830ec2d3286cd2d359bf7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-181080" y="0"/>
            <a:ext cx="8856720" cy="23335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3700" spc="-1" strike="noStrike">
                <a:solidFill>
                  <a:srgbClr val="ffffff"/>
                </a:solidFill>
                <a:latin typeface="黑体"/>
                <a:ea typeface="黑体"/>
              </a:rPr>
              <a:t>百十个腰鼓发出的沉重响声，碰撞在观众的心上，观众的心也蓦然变成牛皮鼓面了，也是隆隆，隆隆，隆隆。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4" descr="10345_200706221651523"/>
          <p:cNvPicPr/>
          <p:nvPr/>
        </p:nvPicPr>
        <p:blipFill>
          <a:blip r:embed="rId1"/>
          <a:stretch/>
        </p:blipFill>
        <p:spPr>
          <a:xfrm>
            <a:off x="352728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7"/>
          <p:cNvSpPr/>
          <p:nvPr/>
        </p:nvSpPr>
        <p:spPr>
          <a:xfrm>
            <a:off x="0" y="0"/>
            <a:ext cx="3492360" cy="6858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ccff99"/>
              </a:gs>
              <a:gs pos="100000">
                <a:srgbClr val="cce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好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一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个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安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塞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1026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鼓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17520" indent="-317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         </a:t>
            </a:r>
            <a:r>
              <a:rPr b="0" lang="zh-CN" sz="4100" spc="-1" strike="noStrike">
                <a:solidFill>
                  <a:srgbClr val="9900cc"/>
                </a:solidFill>
                <a:latin typeface="Arial"/>
                <a:ea typeface="华文新魏"/>
              </a:rPr>
              <a:t>！</a:t>
            </a:r>
            <a:r>
              <a:rPr b="0" lang="zh-CN" sz="2200" spc="-1" strike="noStrike">
                <a:solidFill>
                  <a:srgbClr val="9900cc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4" descr="d9b660ec34bf863e63d09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生们的胳膊、腿、全身，有力地搏击着，急速地搏击着，大起大落地搏击着。它震撼着你，烧灼着你，威逼着你。它使你从来没有如此鲜明地感受到生命的存在、活跃、和强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914400" y="1967040"/>
            <a:ext cx="47545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325520" y="2149560"/>
            <a:ext cx="329256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3703680" y="2149560"/>
            <a:ext cx="4662360" cy="91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9900cc"/>
                </a:solidFill>
                <a:latin typeface="Arial"/>
              </a:rPr>
              <a:t>一  了解背景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"/>
          <p:cNvSpPr/>
          <p:nvPr/>
        </p:nvSpPr>
        <p:spPr>
          <a:xfrm>
            <a:off x="1757520" y="804960"/>
            <a:ext cx="492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70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ff"/>
                </a:solidFill>
                <a:latin typeface="Arial"/>
              </a:rPr>
              <a:t>它使你惊异于那农民衣着包裹着的躯体，那消化着红豆角、老南瓜的躯体，居然可以释放出那么奇伟磅礴的能量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eye872010310192120920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240" y="4846320"/>
            <a:ext cx="8915400" cy="201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cc66ff"/>
                </a:solidFill>
                <a:latin typeface="Arial"/>
                <a:ea typeface="黑体"/>
              </a:rPr>
              <a:t>黄土高原哪，你生养了这些元气淋漓的后生；也只有你，才能承受如此惊心动魄的搏击！</a:t>
            </a:r>
            <a:r>
              <a:rPr b="0" lang="zh-CN" sz="3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0" y="0"/>
            <a:ext cx="3276720" cy="68580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84960" rIns="84960" tIns="42480" bIns="42480"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4700" spc="-1" strike="noStrike">
                <a:solidFill>
                  <a:srgbClr val="9900cc"/>
                </a:solidFill>
                <a:latin typeface="华文新魏"/>
                <a:ea typeface="华文新魏"/>
              </a:rPr>
              <a:t>好一个黄土高原！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9900cc"/>
                </a:solidFill>
                <a:latin typeface="华文新魏"/>
                <a:ea typeface="华文新魏"/>
              </a:rPr>
              <a:t>  </a:t>
            </a:r>
            <a:r>
              <a:rPr b="0" lang="zh-CN" sz="4700" spc="-1" strike="noStrike">
                <a:solidFill>
                  <a:srgbClr val="9900cc"/>
                </a:solidFill>
                <a:latin typeface="华文新魏"/>
                <a:ea typeface="华文新魏"/>
              </a:rPr>
              <a:t>好一个安塞腰鼓！</a:t>
            </a:r>
            <a:r>
              <a:rPr b="0" lang="zh-CN" sz="47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10345_200706221651524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4" descr="11Z9605c330345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345440" cy="1727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1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7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充满了力量。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3" descr="11Z9605c6103514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2867040" y="259920"/>
            <a:ext cx="6276960" cy="1181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呼呼作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4" descr="11Z9605cT03EN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是光和影的匆匆变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4" descr="11Z9605493Z3336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8716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每一个舞姿都使人战栗在浓烈的艺术享受之中，使人叹为观止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6ba5b5d983bde4f038012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79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黑体"/>
                <a:ea typeface="黑体"/>
              </a:rPr>
              <a:t>好一个痛快了山河、蓬勃了想象力的安塞腰鼓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4" descr="d9b660ec34bf863e63d09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愈捶愈烈！痛苦和欢乐，现实和梦幻，摆脱和追求，都在舞姿和鼓点中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4" descr="655d9082b11a35bb0df4d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932360" y="333000"/>
            <a:ext cx="2843280" cy="1438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交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" descr="7ab514d1938eed90572c84b8"/>
          <p:cNvPicPr/>
          <p:nvPr/>
        </p:nvPicPr>
        <p:blipFill>
          <a:blip r:embed="rId2"/>
          <a:stretch/>
        </p:blipFill>
        <p:spPr>
          <a:xfrm>
            <a:off x="411120" y="1828800"/>
            <a:ext cx="3294000" cy="4699080"/>
          </a:xfrm>
          <a:prstGeom prst="rect">
            <a:avLst/>
          </a:prstGeom>
          <a:ln w="0">
            <a:noFill/>
          </a:ln>
        </p:spPr>
      </p:pic>
      <p:sp>
        <p:nvSpPr>
          <p:cNvPr id="471" name="Rectangle 5"/>
          <p:cNvSpPr/>
          <p:nvPr/>
        </p:nvSpPr>
        <p:spPr>
          <a:xfrm>
            <a:off x="4479840" y="1380960"/>
            <a:ext cx="3886200" cy="15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刘成章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   当代诗人、散文家、共产党员，陕西省延安市人。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年出生，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96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年毕业于陕西师大中文系。曾任该系助教、延安歌舞剧团编剧、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文学家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主编，陕西人民出版社文艺部副主任、陕西省出版总社副社长。现任陕西省作家协会副主席，中国作家协会会员，中国散文学会常务理事，一级作家。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617400" y="301680"/>
            <a:ext cx="2948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4" descr="200711811561944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5365800" y="404280"/>
            <a:ext cx="2085840" cy="12956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1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华文行楷"/>
                <a:ea typeface="华文行楷"/>
              </a:rPr>
              <a:t>旋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5" descr="2007122010220010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5867280" y="404640"/>
            <a:ext cx="3276720" cy="1872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500" spc="-1" strike="noStrike">
                <a:solidFill>
                  <a:srgbClr val="ff0066"/>
                </a:solidFill>
                <a:latin typeface="华文行楷"/>
                <a:ea typeface="华文行楷"/>
              </a:rPr>
              <a:t>凝聚</a:t>
            </a:r>
            <a:r>
              <a:rPr b="1" lang="zh-CN" sz="65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4" descr="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5866920" y="620280"/>
            <a:ext cx="3024360" cy="13683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 fontScale="88000"/>
          </a:bodyPr>
          <a:p>
            <a:pPr marL="301680" indent="0">
              <a:spcBef>
                <a:spcPts val="2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500" spc="-1" strike="noStrike">
                <a:solidFill>
                  <a:srgbClr val="ff0000"/>
                </a:solidFill>
                <a:latin typeface="Arial"/>
                <a:ea typeface="华文行楷"/>
              </a:rPr>
              <a:t>升华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4" descr="017eb63e36a52c2471cf6c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1907640" y="1125360"/>
            <a:ext cx="5691240" cy="1943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Arial"/>
                <a:ea typeface="黑体"/>
              </a:rPr>
              <a:t>人，成了茫茫一片；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Arial"/>
                <a:ea typeface="黑体"/>
              </a:rPr>
              <a:t>声，成了茫茫一片</a:t>
            </a:r>
            <a:r>
              <a:rPr b="1" lang="en-US" sz="41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582d839ba422caa8c9eaf435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-73080" y="333360"/>
            <a:ext cx="8677440" cy="15415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700" spc="-1" strike="noStrike">
                <a:solidFill>
                  <a:srgbClr val="ffffff"/>
                </a:solidFill>
                <a:latin typeface="黑体"/>
                <a:ea typeface="黑体"/>
              </a:rPr>
              <a:t>当它戛然而止的时候，世界出奇的寂静，以致使人感到对她十分陌生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6" descr="0f5f2b723952ac058601b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-109800" y="4652640"/>
            <a:ext cx="6661080" cy="18716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1" lang="zh-CN" sz="4100" spc="-1" strike="noStrike">
                <a:solidFill>
                  <a:srgbClr val="ffffff"/>
                </a:solidFill>
                <a:latin typeface="黑体"/>
                <a:ea typeface="黑体"/>
              </a:rPr>
              <a:t>简直像来到另一个星球。 </a:t>
            </a:r>
            <a:br>
              <a:rPr sz="4100"/>
            </a:br>
            <a:r>
              <a:rPr b="1" lang="zh-CN" sz="4100" spc="-1" strike="noStrike">
                <a:solidFill>
                  <a:srgbClr val="ffffff"/>
                </a:solidFill>
                <a:latin typeface="黑体"/>
                <a:ea typeface="黑体"/>
              </a:rPr>
              <a:t>耳畔是一声渺远的鸡啼。 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6"/>
          <p:cNvSpPr/>
          <p:nvPr/>
        </p:nvSpPr>
        <p:spPr>
          <a:xfrm>
            <a:off x="5119560" y="2925720"/>
            <a:ext cx="3659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安塞腰鼓视频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5" descr="d9b660ec34bf863e63d09f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181080" y="404280"/>
            <a:ext cx="7920000" cy="17290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件上展示的图片中有很多安塞腰鼓的场面，你会用那些词语来概括你看到的这些场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复件 6063941342e536e2c3fd78de"/>
          <p:cNvPicPr/>
          <p:nvPr/>
        </p:nvPicPr>
        <p:blipFill>
          <a:blip r:embed="rId1"/>
          <a:stretch/>
        </p:blipFill>
        <p:spPr>
          <a:xfrm>
            <a:off x="363528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3635280" cy="5445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壮阔 豪放 火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狂舞 闪射 飞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亢奋 搏击 烧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微软雅黑"/>
                <a:ea typeface="微软雅黑"/>
              </a:rPr>
              <a:t>奔突 翻飞 威逼</a:t>
            </a: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</a:t>
            </a:r>
            <a:r>
              <a:rPr b="1" lang="zh-CN" sz="3200" spc="-1" strike="noStrike">
                <a:solidFill>
                  <a:srgbClr val="000066"/>
                </a:solidFill>
                <a:latin typeface="微软雅黑"/>
                <a:ea typeface="微软雅黑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250920" y="1314000"/>
            <a:ext cx="8540640" cy="37702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捶起来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发狠了，忘情了，没命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百十个斜背响鼓的后生，如百十块被强震不断击起的石头，狂舞在你的面前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骤雨一样，是急促的鼓点；旋风一样，是飞扬的流苏；乱蛙一样，是蹦跳的脚步；火花一样，是闪射的瞳仁；斗虎一样，是强健的风姿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土高原上，爆出一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多么壮阔、多么豪放、多么火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舞蹈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539640" y="333360"/>
            <a:ext cx="252108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spcBef>
                <a:spcPts val="256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品读</a:t>
            </a: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4" descr="b2927"/>
          <p:cNvPicPr/>
          <p:nvPr/>
        </p:nvPicPr>
        <p:blipFill>
          <a:blip r:embed="rId2"/>
          <a:stretch/>
        </p:blipFill>
        <p:spPr>
          <a:xfrm>
            <a:off x="7308720" y="260280"/>
            <a:ext cx="1096920" cy="11430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5"/>
          <p:cNvSpPr/>
          <p:nvPr/>
        </p:nvSpPr>
        <p:spPr>
          <a:xfrm>
            <a:off x="468360" y="5013360"/>
            <a:ext cx="82090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这一段，综合运用排比、比喻，形象具体地写出了舞蹈场面的壮美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800080"/>
                </a:solidFill>
                <a:latin typeface="Arial"/>
              </a:rPr>
              <a:t>突出了安塞腰鼓壮阔、豪放、火烈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矩形 4"/>
          <p:cNvSpPr/>
          <p:nvPr/>
        </p:nvSpPr>
        <p:spPr>
          <a:xfrm>
            <a:off x="5724360" y="515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2149560" y="274680"/>
            <a:ext cx="6424560" cy="4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cc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安塞腰鼓是一种非常独特的民间大型舞蹈艺术形式，具有</a:t>
            </a:r>
            <a:r>
              <a:rPr b="0" lang="en-US" sz="2800" spc="-1" strike="noStrike">
                <a:solidFill>
                  <a:srgbClr val="cc00cc"/>
                </a:solidFill>
                <a:latin typeface="Arial"/>
              </a:rPr>
              <a:t>2000</a:t>
            </a:r>
            <a:r>
              <a:rPr b="0" lang="zh-CN" sz="2800" spc="-1" strike="noStrike">
                <a:solidFill>
                  <a:srgbClr val="cc00cc"/>
                </a:solidFill>
                <a:latin typeface="Arial"/>
              </a:rPr>
              <a:t>年以上的历史。独具魅力的安塞腰鼓像掀起在黄土地上的狂飚，展示出西北黄土高原农民朴素而豪放的性格，张扬出独特的艺术个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5" descr="u=2266596008,4293088058&amp;fm=21&amp;gp=0"/>
          <p:cNvPicPr/>
          <p:nvPr/>
        </p:nvPicPr>
        <p:blipFill>
          <a:blip r:embed="rId1"/>
          <a:stretch/>
        </p:blipFill>
        <p:spPr>
          <a:xfrm>
            <a:off x="2378160" y="2925720"/>
            <a:ext cx="6218280" cy="3556080"/>
          </a:xfrm>
          <a:prstGeom prst="rect">
            <a:avLst/>
          </a:prstGeom>
          <a:ln w="0">
            <a:noFill/>
          </a:ln>
        </p:spPr>
      </p:pic>
      <p:sp>
        <p:nvSpPr>
          <p:cNvPr id="476" name="WordArt 6"/>
          <p:cNvSpPr txBox="1"/>
          <p:nvPr/>
        </p:nvSpPr>
        <p:spPr>
          <a:xfrm rot="5400000">
            <a:off x="-1320840" y="2425680"/>
            <a:ext cx="4680000" cy="1622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2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宋体"/>
              </a:rPr>
              <a:t>安塞腰鼓</a:t>
            </a:r>
            <a:endParaRPr b="0" lang="en-US" sz="23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502920"/>
            <a:ext cx="2975040" cy="1143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品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47560" y="1646280"/>
            <a:ext cx="8390160" cy="2597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百十个腰鼓发出的沉重响声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只听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隆隆，隆隆，隆隆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百十个腰鼓发出的沉重响声，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隆隆，隆隆，隆隆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457200" y="4618080"/>
            <a:ext cx="8209080" cy="5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叠词的运用，反复和排比的综合运用，表现出“安塞腰鼓”气吞河山的场面和震撼人心的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0520" cy="2448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找出全文中感情最炽烈、音调最高亢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3079800" y="2637000"/>
            <a:ext cx="2104560" cy="25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明确：</a:t>
            </a:r>
            <a:br>
              <a:rPr sz="4100"/>
            </a:br>
            <a:r>
              <a:rPr b="1" lang="zh-CN" sz="41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4100" spc="-1" strike="noStrike">
                <a:solidFill>
                  <a:srgbClr val="ff9966"/>
                </a:solidFill>
                <a:latin typeface="Arial"/>
              </a:rPr>
              <a:t>“好一个安塞腰鼓！”</a:t>
            </a:r>
            <a:br>
              <a:rPr sz="4100"/>
            </a:br>
            <a:r>
              <a:rPr b="1" lang="zh-CN" sz="4100" spc="-1" strike="noStrike">
                <a:solidFill>
                  <a:srgbClr val="ff9966"/>
                </a:solidFill>
                <a:latin typeface="Arial"/>
              </a:rPr>
              <a:t>         间隔反复四次。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xt Box 2"/>
          <p:cNvSpPr/>
          <p:nvPr/>
        </p:nvSpPr>
        <p:spPr>
          <a:xfrm>
            <a:off x="184320" y="777960"/>
            <a:ext cx="8673840" cy="70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en-US" sz="4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本文运用得最多的修辞方法是什么</a:t>
            </a:r>
            <a:r>
              <a:rPr b="1" lang="en-US" sz="4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r>
              <a:rPr b="1" lang="zh-CN" sz="41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试举例说明这样的写法对表现文章的思想感情所起的作用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"/>
          <p:cNvSpPr/>
          <p:nvPr/>
        </p:nvSpPr>
        <p:spPr>
          <a:xfrm>
            <a:off x="731880" y="3429000"/>
            <a:ext cx="763416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</a:t>
            </a:r>
            <a:r>
              <a:rPr b="1" lang="zh-CN" sz="34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排比句使文章气势恢宏，语气连贯，节奏明快，每个词语都简洁有力，每个句子都激起豪壮，增强了文章的感染力，能表达出强烈的思想感情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274680" y="3886200"/>
            <a:ext cx="8674200" cy="649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en-US" sz="37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狂舞在你的面前，骤雨一样，是急促的鼓点；旋风一样，是飞扬的流苏；乱蛙一样，是蹦跳的脚步；火花一样，是闪射的瞳仁；斗虎一样，是强健的风姿。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365040" y="2103480"/>
            <a:ext cx="8508960" cy="60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锤起来就发狠了，忘情了，没命了！</a:t>
            </a:r>
            <a:r>
              <a:rPr b="1" lang="zh-CN" sz="3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"/>
          <p:cNvSpPr/>
          <p:nvPr/>
        </p:nvSpPr>
        <p:spPr>
          <a:xfrm>
            <a:off x="1034280" y="1050840"/>
            <a:ext cx="28206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内部的排比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5"/>
          <p:cNvSpPr/>
          <p:nvPr/>
        </p:nvSpPr>
        <p:spPr>
          <a:xfrm>
            <a:off x="1273680" y="2881440"/>
            <a:ext cx="3384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与句之间的排比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503280" y="320760"/>
            <a:ext cx="2373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zh-CN" sz="4100" spc="-1" strike="noStrike">
                <a:solidFill>
                  <a:srgbClr val="000000"/>
                </a:solidFill>
                <a:latin typeface="Arial"/>
              </a:rPr>
              <a:t>形式美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600200" y="59508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中心思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47560" y="2560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本文通过对安塞腰鼓强健的舞姿、沉重的响声、震撼人心的力量的描写，赞美了黄土高原人粗犷、豪迈、开放的性格，同时也印证了安塞腰鼓这一独特的民间艺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  <a:ea typeface="黑体"/>
              </a:rPr>
              <a:t>小   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39720" y="1600200"/>
            <a:ext cx="8091360" cy="398952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         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这是一篇描写抒情性散文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黑体"/>
              </a:rPr>
              <a:t>,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通过对安塞腰鼓的场面描写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黑体"/>
              </a:rPr>
              <a:t>,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黑体"/>
              </a:rPr>
              <a:t>歌颂了激荡的生命和磅礴的力量，这是生命和力量的渲泄，这是人情和自由的挥洒，这是中华民族和黄土高原特有的一种文明、一种文化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B233-CFC9-4742-85AC-059C6269A93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5"/>
          <p:cNvSpPr/>
          <p:nvPr/>
        </p:nvSpPr>
        <p:spPr>
          <a:xfrm>
            <a:off x="868320" y="595440"/>
            <a:ext cx="754380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陕西省的安塞县素有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鼓之乡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”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美称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安塞腰鼓场面宏大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作奔放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 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节奏铿锵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人鼓合一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气势磅礴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陕北高原特有的地域文化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是陕北人精神风貌的象征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在古代既是激励边关将士冲锋陷阵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浴血奋战的号角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也是将士凯旋的欢迎曲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如今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,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安塞腰鼓已成为中华民族坚毅不屈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意气风发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蓬勃向上</a:t>
            </a:r>
            <a:r>
              <a:rPr b="1" lang="en-US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.</a:t>
            </a:r>
            <a:r>
              <a:rPr b="1" lang="zh-CN" sz="2300" spc="-1" strike="noStrike">
                <a:solidFill>
                  <a:srgbClr val="000000"/>
                </a:solidFill>
                <a:latin typeface="华文行楷"/>
                <a:ea typeface="华文行楷"/>
              </a:rPr>
              <a:t>积极进取的精神象征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4189320" y="2438280"/>
            <a:ext cx="3826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>
            <a:hlinkClick r:id="" action="ppaction://hlinkshowjump?jump=nextslide"/>
          </p:cNvPr>
          <p:cNvSpPr/>
          <p:nvPr/>
        </p:nvSpPr>
        <p:spPr>
          <a:xfrm>
            <a:off x="6629400" y="6583320"/>
            <a:ext cx="1523880" cy="71640"/>
          </a:xfrm>
          <a:prstGeom prst="rightArrow">
            <a:avLst>
              <a:gd name="adj1" fmla="val 50000"/>
              <a:gd name="adj2" fmla="val 531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0" lang="en-US" sz="17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0" descr="u=3150300952,3648169934&amp;fm=21&amp;gp=0"/>
          <p:cNvPicPr/>
          <p:nvPr/>
        </p:nvPicPr>
        <p:blipFill>
          <a:blip r:embed="rId3"/>
          <a:stretch/>
        </p:blipFill>
        <p:spPr>
          <a:xfrm>
            <a:off x="1006560" y="3246480"/>
            <a:ext cx="3473280" cy="31082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u=3134675626,4023434898&amp;fm=21&amp;gp=0"/>
          <p:cNvPicPr/>
          <p:nvPr/>
        </p:nvPicPr>
        <p:blipFill>
          <a:blip r:embed="rId4"/>
          <a:stretch/>
        </p:blipFill>
        <p:spPr>
          <a:xfrm>
            <a:off x="4892760" y="3292560"/>
            <a:ext cx="3382920" cy="3017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320760" y="685800"/>
            <a:ext cx="8497800" cy="20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zh-CN" sz="3700" spc="-1" strike="noStrike">
                <a:solidFill>
                  <a:srgbClr val="9900cc"/>
                </a:solidFill>
                <a:latin typeface="Times New Roman"/>
                <a:ea typeface="华文中宋"/>
              </a:rPr>
              <a:t>安塞腰鼓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产生于距延安四十公里处的安塞县，是</a:t>
            </a:r>
            <a:r>
              <a:rPr b="1" lang="zh-CN" sz="3000" spc="-1" strike="noStrike">
                <a:solidFill>
                  <a:srgbClr val="9900cc"/>
                </a:solidFill>
                <a:latin typeface="Times New Roman"/>
              </a:rPr>
              <a:t>产生于北方黄土高原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一种民间艺术，充满原始和浓郁的乡土气息。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它是黄土高原的产物，其粗犷、雄浑的风格与当地的自然环境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47800"/>
                <a:tab algn="l" pos="1695600"/>
                <a:tab algn="l" pos="2543040"/>
                <a:tab algn="l" pos="3390840"/>
                <a:tab algn="l" pos="4238640"/>
                <a:tab algn="l" pos="5086440"/>
                <a:tab algn="l" pos="5934240"/>
                <a:tab algn="l" pos="6781680"/>
                <a:tab algn="l" pos="7629480"/>
                <a:tab algn="l" pos="8477280"/>
                <a:tab algn="l" pos="9325080"/>
                <a:tab algn="l" pos="1017288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地理风貌、民风民情浑然一体 。</a:t>
            </a:r>
            <a:br>
              <a:rPr sz="3000"/>
            </a:b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安塞腰鼓表演可由几人或上千人一同进行，磅礴的气势，精湛的表现力令人陶醉，被称为“</a:t>
            </a:r>
            <a:r>
              <a:rPr b="1" lang="zh-CN" sz="3000" spc="-1" strike="noStrike">
                <a:solidFill>
                  <a:srgbClr val="9900cc"/>
                </a:solidFill>
                <a:latin typeface="Arial"/>
              </a:rPr>
              <a:t>天下第一鼓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源远流长，风格独特，融舞蹈、音乐、武术于一体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具有队行多变、刚劲、豪放的特点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１９９６年，安塞县被国家文化部命名为“</a:t>
            </a:r>
            <a:r>
              <a:rPr b="1" lang="zh-CN" sz="3000" spc="-1" strike="noStrike">
                <a:solidFill>
                  <a:srgbClr val="9900cc"/>
                </a:solidFill>
                <a:latin typeface="Arial"/>
              </a:rPr>
              <a:t>中国腰鼓之乡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”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2"/>
          <p:cNvSpPr/>
          <p:nvPr/>
        </p:nvSpPr>
        <p:spPr>
          <a:xfrm>
            <a:off x="777960" y="685800"/>
            <a:ext cx="54007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spAutoFit/>
          </a:bodyPr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打腰鼓时要求鼓手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挥腿有股</a:t>
            </a: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狠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劲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踢腿有股</a:t>
            </a: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蛮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劲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转身有股</a:t>
            </a: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猛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劲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跳跃有股</a:t>
            </a: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虎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劲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看了叫人</a:t>
            </a: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带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劲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313"/>
              </a:spcBef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听了给人</a:t>
            </a:r>
            <a:r>
              <a:rPr b="1" lang="zh-CN" sz="3700" spc="-1" strike="noStrike">
                <a:solidFill>
                  <a:srgbClr val="0000ff"/>
                </a:solidFill>
                <a:latin typeface="Times New Roman"/>
              </a:rPr>
              <a:t>鼓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劲。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4:10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4:17Z</dcterms:modified>
  <cp:revision>6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