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1688-2964-4A99-A1D5-3A72B10804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882C-DC67-4D27-8DF7-A27272A940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14E5-1C63-4429-BFD3-B9432220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148-FCBA-433F-859B-393D03EF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A4C-284F-4214-BEF8-E9B584FE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3CC-9A1B-4040-A094-8B692AC3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C3F-40A3-4D5D-88E0-20CEF5F3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B21-AE4B-4C46-AD35-4BCC1F30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0E8-FD11-438C-BA95-F3D6F338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F31D-BAA9-4B37-BF82-465B94C6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3F1-EC30-40CE-8639-81A5FEC3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AE14-D359-44F0-B13F-C56D7B7B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2B3-22DD-4CCB-8CA9-9F1767F9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1C9-6B8D-483D-8A0C-AA9EE3EF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47C4-E271-4E9D-B778-750025198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图片1"/>
          <p:cNvPicPr/>
          <p:nvPr/>
        </p:nvPicPr>
        <p:blipFill>
          <a:blip r:embed="rId2"/>
          <a:srcRect l="2656" t="2104" r="2194" b="2569"/>
          <a:stretch/>
        </p:blipFill>
        <p:spPr>
          <a:xfrm>
            <a:off x="525600" y="1295280"/>
            <a:ext cx="2957400" cy="395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483000" y="1709640"/>
            <a:ext cx="533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安徒生公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1982520" y="571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990720" y="762120"/>
            <a:ext cx="8153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清悠的小河，从城市当中穿流而过，河水流得很慢，几乎看不出它在流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岸长着许多树木，有红色的丹枫，有疏疏落落的白桦，有长条拂水的垂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洁白的天鹅在水上浮游，后面往往跟随着一群它们的儿女。小天鹅是毛茸茸的灰色，正像安徒生童话里所描绘的“丑小鸭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河里还有一个马头鱼身的铜雕，两股雾气似的清泉，从它的鼻子里喷向天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914400" y="685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公园的很多事物，都和安徒生有着联系。一个丹麦人告诉我：安徒生很小的时候，常常跟随他的母亲，到这条小河里来洗衣服，野天鹅、丑小鸭，都曾唤起他美丽的幻想；树木、河水，都曾成为他的童话描述的对象。他曾有过这样一个美丽的想象：从这条小河挖下去，挖下去，挖得那样深，挖到地球的另一面，哪里有一个美丽的过度，就是中国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2CFA586F6723F62B984159502A6613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20070816174032359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2063541_0026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"/>
          <p:cNvSpPr/>
          <p:nvPr/>
        </p:nvSpPr>
        <p:spPr>
          <a:xfrm>
            <a:off x="547560" y="537516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20121212181151669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4A511EEB500586AEFC506F640413A549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F631-E3B1-426D-9589-E33F56CE96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03087bf40ad162d909b77d3f11dfa9ec8a13cdb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1300000254155125794084767600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dsjey6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219320" y="16765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69343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209680"/>
            <a:ext cx="7391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识本课的生字、新词，积累优美词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能正确、流利、有感情的朗读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整体感知课文，了解安徒生公园的景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学习建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自由读课文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遍，遇到不懂的字词用自己喜欢的方式解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同桌互认生字词语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遍，分段读课文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想一想，安徒生公园里有哪些美丽的景色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371600" y="380880"/>
            <a:ext cx="678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砖墙    结构    漂浮 描绘    享受    幻想  竖立    铜像    根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04920" y="38088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美丽的城市       清悠的小河  美丽的幻想       古老的房屋  洁白的天鹅       美丽的国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39280" y="3200040"/>
            <a:ext cx="669924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安徒生公园里有哪些美丽的景物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611280" y="1295280"/>
            <a:ext cx="4176720" cy="99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读一读想一想说一说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23:54:22Z</dcterms:modified>
  <cp:revision>1</cp:revision>
  <dc:subject/>
  <dc:title>幻灯片 1</dc:title>
</cp:coreProperties>
</file>