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81B-CF62-4A20-8043-6E4277A32F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823-D05B-49A8-8573-DFFC562B98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1E4-DFA2-4107-819B-149E10CA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F21-0653-4D38-851D-C328153C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AAC-5CCE-4042-910F-01F3B6C9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2B8-20BD-4769-B39A-EBF24F39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18D-B5D7-4192-88B8-1ABD80C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9A4-371A-45FD-A6E8-E5D9E048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4CE-BC1D-461B-A21A-BCF591EE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5E6-51D5-4679-BABB-21F1B23C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BC4-EAEA-4CE4-BED5-0D504C7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309-E9B0-481C-8CFF-37A02F3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D26-0E7A-4AAA-8BF0-E1CEFF7E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2B8-1991-4B28-BAA0-6D16E32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829-D965-4146-83EC-F567467BE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别踩了这朵花-01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403280" y="2276640"/>
            <a:ext cx="6337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别踩了这朵花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4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10" descr=""/>
          <p:cNvPicPr/>
          <p:nvPr/>
        </p:nvPicPr>
        <p:blipFill>
          <a:blip r:embed="rId5"/>
          <a:stretch/>
        </p:blipFill>
        <p:spPr>
          <a:xfrm>
            <a:off x="1428840" y="3879720"/>
            <a:ext cx="640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258920" y="26370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340000" y="2492280"/>
            <a:ext cx="6019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1332000" y="476280"/>
            <a:ext cx="22860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练笔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692360" y="1916280"/>
            <a:ext cx="727380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楷体_GB2312"/>
              </a:rPr>
              <a:t>冰心奶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楷体_GB2312"/>
              </a:rPr>
              <a:t>您的心思我们已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9999"/>
                </a:solidFill>
                <a:latin typeface="Arial"/>
              </a:rPr>
              <a:t>———————————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9999"/>
                </a:solidFill>
                <a:latin typeface="Arial"/>
              </a:rPr>
              <a:t>———————————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9999"/>
                </a:solidFill>
                <a:latin typeface="Arial"/>
              </a:rPr>
              <a:t>———————————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图片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258920" y="26370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40000" y="2492280"/>
            <a:ext cx="6019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332000" y="476280"/>
            <a:ext cx="22860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练笔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692360" y="1916280"/>
            <a:ext cx="727380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楷体_GB2312"/>
              </a:rPr>
              <a:t>冰心奶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楷体_GB2312"/>
              </a:rPr>
              <a:t>您的心思我们已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小小的花儿就是孩子们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老师会用爱做土壤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让孩子们茁壮成长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812880" y="6224760"/>
            <a:ext cx="55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312440" y="620640"/>
            <a:ext cx="40838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别踩了这朵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----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冰心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致爱丽丝.mp3" descr=""/>
          <p:cNvPicPr/>
          <p:nvPr/>
        </p:nvPicPr>
        <p:blipFill>
          <a:blip r:embed="rId2"/>
          <a:stretch/>
        </p:blipFill>
        <p:spPr>
          <a:xfrm>
            <a:off x="752472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950760" y="539280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5874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"/>
          <p:cNvSpPr txBox="1"/>
          <p:nvPr/>
        </p:nvSpPr>
        <p:spPr>
          <a:xfrm>
            <a:off x="468360" y="476280"/>
            <a:ext cx="228600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外作业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11280" y="2492280"/>
            <a:ext cx="8101080" cy="22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背诵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一读冰心的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星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2262-01D4-4CBA-A3E6-CA48D4840B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C201106161335442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高山流水 优美音乐 古筝曲.mp3" descr=""/>
          <p:cNvPicPr/>
          <p:nvPr/>
        </p:nvPicPr>
        <p:blipFill>
          <a:blip r:embed="rId2"/>
          <a:stretch/>
        </p:blipFill>
        <p:spPr>
          <a:xfrm>
            <a:off x="7812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17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50179"/>
                            </p:stCondLst>
                            <p:childTnLst>
                              <p:par>
                                <p:cTn id="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111111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427280" y="259920"/>
            <a:ext cx="4335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新宋体"/>
                <a:ea typeface="新宋体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新宋体"/>
                <a:ea typeface="新宋体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冰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原名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谢婉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笔名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冰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取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片冰心在玉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为意。现代著名作家、儿童文学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主要作品：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繁星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春水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寄小读者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1" lang="zh-CN" sz="14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2712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bb"/>
          <p:cNvPicPr/>
          <p:nvPr/>
        </p:nvPicPr>
        <p:blipFill>
          <a:blip r:embed="rId2"/>
          <a:stretch/>
        </p:blipFill>
        <p:spPr>
          <a:xfrm>
            <a:off x="179280" y="189000"/>
            <a:ext cx="3961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图片111111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851280" y="0"/>
            <a:ext cx="4911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新宋体"/>
                <a:ea typeface="新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新宋体"/>
                <a:ea typeface="新宋体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冰心奶奶是一位充满爱心的伟大作家。她一生和孩子们有着不解之缘，始终保持着善良而纯洁的童心。她以纯朴的感情、丰富的知识、清丽的语言，同我们谈友谊，谈母爱，谈生命，谈如何处世与做人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52712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bb"/>
          <p:cNvPicPr/>
          <p:nvPr/>
        </p:nvPicPr>
        <p:blipFill>
          <a:blip r:embed="rId2"/>
          <a:stretch/>
        </p:blipFill>
        <p:spPr>
          <a:xfrm>
            <a:off x="179280" y="189000"/>
            <a:ext cx="3961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图片111111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3520" y="1676160"/>
            <a:ext cx="822960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新宋体"/>
                <a:ea typeface="新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新宋体"/>
                <a:ea typeface="新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冰心奶奶在对我们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提示：这首诗歌的主要内容是什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致爱丽丝.mp3" descr=""/>
          <p:cNvPicPr/>
          <p:nvPr/>
        </p:nvPicPr>
        <p:blipFill>
          <a:blip r:embed="rId2"/>
          <a:stretch/>
        </p:blipFill>
        <p:spPr>
          <a:xfrm>
            <a:off x="6732720" y="522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52712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1187280" y="620640"/>
            <a:ext cx="22860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聆听感知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图片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258920" y="2637000"/>
            <a:ext cx="70102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朗读，读准字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氅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新  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裙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340000" y="2492280"/>
            <a:ext cx="6019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hǎng        q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332000" y="476280"/>
            <a:ext cx="22860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初读正音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图片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258920" y="26370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340000" y="2492280"/>
            <a:ext cx="6019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1332000" y="476280"/>
            <a:ext cx="22860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读感悟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619280" y="2492280"/>
            <a:ext cx="619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默读课文，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宋体"/>
                <a:ea typeface="楷体_GB2312"/>
              </a:rPr>
              <a:t>这是一朵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怎样</a:t>
            </a:r>
            <a:r>
              <a:rPr b="1" lang="zh-CN" sz="4400" spc="-1" strike="noStrike">
                <a:solidFill>
                  <a:srgbClr val="990033"/>
                </a:solidFill>
                <a:latin typeface="宋体"/>
                <a:ea typeface="楷体_GB2312"/>
              </a:rPr>
              <a:t>的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宋体"/>
                <a:ea typeface="楷体_GB2312"/>
              </a:rPr>
              <a:t>你从哪里看出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宋体"/>
                <a:ea typeface="楷体_GB2312"/>
              </a:rPr>
              <a:t>并批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别踩了这朵花-01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3280" y="2492280"/>
            <a:ext cx="410544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小朋友，你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你的脚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一朵小小的黄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我们大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绕着它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别踩了这朵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125360" y="378936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>
            <a:hlinkClick r:id="rId3" action="ppaction://hlinksldjump"/>
          </p:cNvPr>
          <p:cNvSpPr/>
          <p:nvPr/>
        </p:nvSpPr>
        <p:spPr>
          <a:xfrm>
            <a:off x="2110680" y="378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1042920" y="4508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2062440" y="450864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080360" y="515772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2050920" y="51577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>
            <a:hlinkClick r:id="rId9" action="ppaction://hlinksldjump"/>
          </p:cNvPr>
          <p:cNvSpPr/>
          <p:nvPr/>
        </p:nvSpPr>
        <p:spPr>
          <a:xfrm>
            <a:off x="8317080" y="333360"/>
            <a:ext cx="430200" cy="431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别踩了这朵花-01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39640" y="3357720"/>
            <a:ext cx="47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游的小朋友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么欢欣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风里飘扬着新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们头抬得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下得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356000" y="2781360"/>
            <a:ext cx="5040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心在你不知不觉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小黄花的生机断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Arial"/>
              </a:rPr>
              <a:t>我的心思你们也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春天无边的快乐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快乐也有它的一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10080" y="623736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>
            <a:hlinkClick r:id="rId3" action="ppaction://hlinksldjump"/>
          </p:cNvPr>
          <p:cNvSpPr/>
          <p:nvPr/>
        </p:nvSpPr>
        <p:spPr>
          <a:xfrm>
            <a:off x="5063400" y="6237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5651640" y="623736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239160" y="6237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6841440" y="623736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462440" y="6237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5">
            <a:hlinkClick r:id="rId9" action="ppaction://hlinksldjump"/>
          </p:cNvPr>
          <p:cNvSpPr/>
          <p:nvPr/>
        </p:nvSpPr>
        <p:spPr>
          <a:xfrm>
            <a:off x="8317080" y="333360"/>
            <a:ext cx="430200" cy="431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9:39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19Z</dcterms:modified>
  <cp:revision>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