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228C-C441-435F-9E0D-BD9226F6A7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32C3-62F6-40CB-9B65-7042C97FBA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847-BD9A-4DA5-A776-836F1A45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8E1-258B-426A-BFC1-D7741B8D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FDC-85A4-4D24-B6B8-A2E7E7E3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3C2-4256-4D07-A354-104A197A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A9B-7808-490C-A7D3-EBD1429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B34-5AAB-46ED-9397-0F1854B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879-8D5E-4F93-94F8-9187549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807-5C4E-47CB-908B-05EE9339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8C8-0E3B-4F47-9C04-0EAE784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F61-9F40-4731-B099-BF48EE5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87A-4008-4B0D-8D20-BD538EE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2E2-D188-4D20-BB33-B333400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6BE7-5FA8-401A-9C25-5FBEA82EAA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</a:rPr>
              <a:t>白鳍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4267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60200" y="594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320" y="838080"/>
            <a:ext cx="88390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说话练习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　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白鳍豚虽然生活在水里，却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不是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鱼，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而是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哺乳动物，是一种小型的鲸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320" y="838080"/>
            <a:ext cx="883908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合作探究，细读感悟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　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请以“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我叫白鳍豚，大约在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6000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万年前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</a:rPr>
              <a:t>我生活在……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”为开始，介绍一下白鳍豚的进化过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远方的寂静.mp3" descr="远方的寂静"/>
          <p:cNvPicPr/>
          <p:nvPr/>
        </p:nvPicPr>
        <p:blipFill>
          <a:blip r:embed="rId1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352440" y="5502240"/>
            <a:ext cx="82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802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152280"/>
            <a:ext cx="8321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展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鳍豚的确很大，身长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体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左右。（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白鳍豚的肺量很大，它头顶露出水面，通过鼻孔吸足一口气，就能在水面潜行半个小时左右。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在冬季，白鳍豚的脂肪层厚达五六厘米，占体重的三分之一以上。（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鱼的脑子很小，白鳍豚的脑子却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毫升左右，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非常多的沟回，发达程度甚至超过许多陆地上的动物。（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刚生下来的幼豚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长，雌豚有一对乳头，幼豚是靠吃奶长大的。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大约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年以前，鲸的祖先各其他的哺乳动物的祖先一样，也生活在陆地上。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466880" y="51814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914800" y="19051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85600" y="11430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85600" y="37339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333520" y="2666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57200" y="44197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676520" y="3733920"/>
            <a:ext cx="150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、作比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038840" y="685800"/>
            <a:ext cx="421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7238880" y="121932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4114800" y="121932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4724280" y="228600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5029200" y="228600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6934320" y="121932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526760" y="5867280"/>
            <a:ext cx="3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7"/>
          <p:cNvSpPr/>
          <p:nvPr/>
        </p:nvSpPr>
        <p:spPr>
          <a:xfrm>
            <a:off x="7086600" y="342900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6781680" y="342900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3276720" y="449568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1371600" y="518148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1066680" y="518148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371600" y="304812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1066680" y="3048120"/>
            <a:ext cx="22068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0951748_480083"/>
          <p:cNvPicPr/>
          <p:nvPr/>
        </p:nvPicPr>
        <p:blipFill>
          <a:blip r:embed="rId2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441360" y="69696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0090429101616_81072"/>
          <p:cNvPicPr/>
          <p:nvPr/>
        </p:nvPicPr>
        <p:blipFill>
          <a:blip r:embed="rId3"/>
          <a:stretch/>
        </p:blipFill>
        <p:spPr>
          <a:xfrm>
            <a:off x="3859200" y="0"/>
            <a:ext cx="52484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写给海洋.mp3" descr="写给海洋"/>
          <p:cNvPicPr/>
          <p:nvPr/>
        </p:nvPicPr>
        <p:blipFill>
          <a:blip r:embed="rId4"/>
          <a:stretch/>
        </p:blipFill>
        <p:spPr>
          <a:xfrm>
            <a:off x="8381880" y="6477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518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676520"/>
            <a:ext cx="85345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拓展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为保护白鳍豚写一条宣传标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以白鳍豚自述的口气，为白鳍豚作个自我介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30F-33CF-42ED-A1BB-C9C2902246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304920"/>
            <a:ext cx="8918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、大鱼吃小鱼，小鱼吃虾米，虾米吃浮游生物，游生物吃绿藻……（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1400" spc="-1" strike="noStrike">
                <a:solidFill>
                  <a:srgbClr val="cc00cc"/>
                </a:solidFill>
                <a:latin typeface="楷体_GB2312"/>
              </a:rPr>
              <a:t>   </a:t>
            </a:r>
            <a:r>
              <a:rPr b="1" lang="zh-CN" sz="1600" spc="-1" strike="noStrike">
                <a:solidFill>
                  <a:srgbClr val="cc00cc"/>
                </a:solidFill>
                <a:latin typeface="楷体_GB2312"/>
              </a:rPr>
              <a:t>   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、蝗虫、尺蠖、菜蚜、甲虫等昆虫，田鼠、兔子、羚羊、鹿等生物都靠它生存（ </a:t>
            </a:r>
            <a:r>
              <a:rPr b="1" lang="zh-CN" sz="2600" spc="-1" strike="noStrike">
                <a:solidFill>
                  <a:srgbClr val="cc00cc"/>
                </a:solidFill>
                <a:latin typeface="楷体_GB2312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、甲虫吃草，蜘蛛吃甲虫，山雀吃蜘蛛，鹰又捕食山雀。（  </a:t>
            </a:r>
            <a:r>
              <a:rPr b="1" lang="zh-CN" sz="2600" spc="-1" strike="noStrike">
                <a:solidFill>
                  <a:srgbClr val="cc00cc"/>
                </a:solidFill>
                <a:latin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、一只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甲虫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，地上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一平方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的采食空间便可满足他的营养需要，而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鹰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则需要在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几十平方公里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的范围内觅食，才能得到足够的食物。这些生物中，甲虫比草少，蜘蛛比甲虫小，而山雀又比蜘蛛少，鹰比山雀少。（  </a:t>
            </a:r>
            <a:r>
              <a:rPr b="1" lang="zh-CN" sz="2600" spc="-1" strike="noStrike">
                <a:solidFill>
                  <a:srgbClr val="cc00cc"/>
                </a:solidFill>
                <a:latin typeface="楷体_GB2312"/>
              </a:rPr>
              <a:t>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、科学家考察了生物世界的食物链，发现它恰似一座金字塔，便把这叫做生态金字塔。（ </a:t>
            </a:r>
            <a:r>
              <a:rPr b="1" lang="zh-CN" sz="2600" spc="-1" strike="noStrike">
                <a:solidFill>
                  <a:srgbClr val="cc00cc"/>
                </a:solidFill>
                <a:latin typeface="楷体_GB2312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133720" y="68580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Arial"/>
                <a:ea typeface="宋体"/>
              </a:rPr>
              <a:t>举例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085280" y="1523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Arial"/>
                <a:ea typeface="宋体"/>
              </a:rPr>
              <a:t>举例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13480" y="23623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Arial"/>
                <a:ea typeface="宋体"/>
              </a:rPr>
              <a:t>举例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460240" y="4267080"/>
            <a:ext cx="52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Arial"/>
                <a:ea typeface="宋体"/>
              </a:rPr>
              <a:t>作比较、列数字</a:t>
            </a:r>
            <a:r>
              <a:rPr b="1" lang="zh-CN" sz="3000" spc="-1" strike="noStrike">
                <a:solidFill>
                  <a:srgbClr val="cc00cc"/>
                </a:solidFill>
                <a:latin typeface="Arial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31880" y="5105520"/>
            <a:ext cx="87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Arial"/>
                <a:ea typeface="宋体"/>
              </a:rPr>
              <a:t>打比方</a:t>
            </a:r>
            <a:r>
              <a:rPr b="1" lang="zh-CN" sz="3000" spc="-1" strike="noStrike">
                <a:solidFill>
                  <a:srgbClr val="cc00cc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9040" y="594360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Arial"/>
              </a:rPr>
              <a:t>作者在介绍生态金字塔时，主要运用了举例子的说明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41360" y="69696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609480"/>
            <a:ext cx="883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楷体_GB2312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作者主要运用什么说明方法来介绍白鳍豚的？是从哪几个方面来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用“～～”画出有关句子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0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41360" y="228600"/>
            <a:ext cx="83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-74520" y="0"/>
          <a:ext cx="9219960" cy="6858000"/>
        </p:xfrm>
        <a:graphic>
          <a:graphicData uri="http://schemas.openxmlformats.org/drawingml/2006/table">
            <a:tbl>
              <a:tblPr/>
              <a:tblGrid>
                <a:gridCol w="3180960"/>
                <a:gridCol w="3016440"/>
                <a:gridCol w="3022560"/>
              </a:tblGrid>
              <a:tr h="1689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异同      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白鳍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1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宋体"/>
                          <a:hlinkClick r:id="rId2" action="ppaction://hlinksldjump"/>
                        </a:rPr>
                        <a:t>体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5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宋体"/>
                          <a:hlinkClick r:id="rId3" action="ppaction://hlinksldjump"/>
                        </a:rPr>
                        <a:t>呼吸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82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宋体"/>
                          <a:hlinkClick r:id="rId4" action="ppaction://hlinksldjump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2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宋体"/>
                          <a:hlinkClick r:id="rId5" action="ppaction://hlinksldjump"/>
                        </a:rPr>
                        <a:t>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1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宋体"/>
                          <a:hlinkClick r:id="rId6" action="ppaction://hlinksldjump"/>
                        </a:rPr>
                        <a:t>生殖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67"/>
          <p:cNvSpPr/>
          <p:nvPr/>
        </p:nvSpPr>
        <p:spPr>
          <a:xfrm>
            <a:off x="3888000" y="1981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像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8"/>
          <p:cNvSpPr/>
          <p:nvPr/>
        </p:nvSpPr>
        <p:spPr>
          <a:xfrm>
            <a:off x="7012080" y="19810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纺锤形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4115520" y="30481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肺呼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6662160" y="304812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腮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352680" y="4038480"/>
          <a:ext cx="5538960" cy="819000"/>
        </p:xfrm>
        <a:graphic>
          <a:graphicData uri="http://schemas.openxmlformats.org/drawingml/2006/table">
            <a:tbl>
              <a:tblPr/>
              <a:tblGrid>
                <a:gridCol w="2770200"/>
                <a:gridCol w="2768760"/>
              </a:tblGrid>
              <a:tr h="81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体温恒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没有固定的体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52680" y="5029200"/>
          <a:ext cx="5538960" cy="816120"/>
        </p:xfrm>
        <a:graphic>
          <a:graphicData uri="http://schemas.openxmlformats.org/drawingml/2006/table">
            <a:tbl>
              <a:tblPr/>
              <a:tblGrid>
                <a:gridCol w="2770200"/>
                <a:gridCol w="2768760"/>
              </a:tblGrid>
              <a:tr h="81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脑子发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脑子很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352680" y="5943600"/>
          <a:ext cx="5562720" cy="838080"/>
        </p:xfrm>
        <a:graphic>
          <a:graphicData uri="http://schemas.openxmlformats.org/drawingml/2006/table">
            <a:tbl>
              <a:tblPr/>
              <a:tblGrid>
                <a:gridCol w="2779560"/>
                <a:gridCol w="2783160"/>
              </a:tblGrid>
              <a:tr h="838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胎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卵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0" name="Text Box 101">
            <a:hlinkClick r:id="rId7" action="ppaction://hlinksldjump"/>
          </p:cNvPr>
          <p:cNvSpPr/>
          <p:nvPr/>
        </p:nvSpPr>
        <p:spPr>
          <a:xfrm>
            <a:off x="6935040" y="533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0"/>
          <p:cNvSpPr/>
          <p:nvPr/>
        </p:nvSpPr>
        <p:spPr>
          <a:xfrm>
            <a:off x="3508200" y="492444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380880" y="1219320"/>
            <a:ext cx="8688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白鳍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确大，                           。    它的身体是纺锤形，皮肤光滑，嘴巴尖长，上腭和下腭都长着一排又尖又细的牙齿。它也有胸鳍、背鳍和尾鳍，乍一看，确实像条大鱼。但是仔细分析，就会发现它与鱼类有着本质的区别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94040" y="22860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71160" y="43941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010400" y="1600200"/>
            <a:ext cx="397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身长近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米，体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25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千克左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73120" y="480060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说明方法：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57200" y="1828800"/>
            <a:ext cx="8013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白鳍豚的肺容量很大，它头顶露出水面，通过鼻孔吸足一口气，就能在水中潜行半小时左右。所以它可以像鱼一样自由自在地生活在长江之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33520" y="1371600"/>
            <a:ext cx="76197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鱼类有鳃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可以在水中呼吸。白鳍豚没有鳃，有肺，靠一个朝天的鼻孔在水面呼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95080" y="498636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说明方法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作比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718800" y="1066680"/>
            <a:ext cx="2423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鱼类没有固定的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体温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，而白鳍豚体温是恒定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320" y="160020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白鳍豚皮下有很厚的一层脂肪，可以防寒。在冬季，脂肪层厚达    厘米，占体重的        以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5400" y="2282760"/>
            <a:ext cx="30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35160" y="20574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五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983200" y="2057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三分之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178000" y="3714840"/>
            <a:ext cx="32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说明方法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作比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3000" spc="-1" strike="noStrike">
                <a:solidFill>
                  <a:srgbClr val="cc00cc"/>
                </a:solidFill>
                <a:latin typeface="楷体_GB2312"/>
              </a:rPr>
              <a:t>列数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752480"/>
            <a:ext cx="883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脑上有非常多的沟回，发达程度甚至超过许多陆地上的哺乳动物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5800" y="1219320"/>
            <a:ext cx="8305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鱼的脑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很小，白鳍豚的脑子却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50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毫升左右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079160" y="4038480"/>
            <a:ext cx="132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明方法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作比较、列数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41360" y="1689120"/>
            <a:ext cx="83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236232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刚生下来的幼豚近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米长。雌豚有一对乳头，幼豚是靠吃奶长大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2362320"/>
            <a:ext cx="8763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鱼是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卵生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，白鳍豚却跟马牛羊一样，是胎生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061440" y="2819520"/>
            <a:ext cx="7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055680" y="4608360"/>
            <a:ext cx="32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说明方法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作比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3000" spc="-1" strike="noStrike">
                <a:solidFill>
                  <a:srgbClr val="cc00cc"/>
                </a:solidFill>
                <a:latin typeface="楷体_GB2312"/>
              </a:rPr>
              <a:t>列数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13:32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57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