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png" ContentType="image/png"/>
  <Override PartName="/ppt/media/click.wav" ContentType="audio/x-wav"/>
  <Override PartName="/ppt/media/image4.jpeg" ContentType="image/jpeg"/>
  <Override PartName="/ppt/media/image5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1589-10BC-4D94-AF73-0E5585B80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6A49-8556-4B4F-9459-C6373B0C9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DA2-8E1A-49C3-B860-FF7BEA37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69B1-AEF7-4033-BBAD-9B889280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449-7DD7-4E65-87FD-E71CF0FF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5C1A-BC16-4CB5-9BD9-15699122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A3CF-0E54-4578-AB3A-ECA009AC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106D-F638-4431-AB54-E54168B2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5432-899A-4C31-845A-A831E32E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0E64-4C9D-4FAD-996F-C47951B1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14F7-B7D1-4DF5-9D45-53F52A13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A8F6-50A4-48A3-A2F3-610047C1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1DE4-ADBB-4406-95FE-F7F9D982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D2D6-4651-4954-A048-0F2EA63D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E00D-DEE2-475E-8349-6A87FE49E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&#25568;&#33495;&#21161;&#38271;&#29983;&#23383;.ex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2920" y="1700280"/>
            <a:ext cx="6551640" cy="180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揠苗助长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763884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54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揠苗助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896840" y="544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1198440" y="2492280"/>
            <a:ext cx="7766280" cy="102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4b1b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54b1b"/>
                </a:solidFill>
                <a:latin typeface="楷体_GB2312"/>
                <a:ea typeface="楷体_GB2312"/>
              </a:rPr>
              <a:t>他想出办法了吗？ 他想的是什么办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763884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54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揠苗助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拔苗助长_读文_4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694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小学语文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763884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54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揠苗助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378080" y="5832360"/>
            <a:ext cx="7765920" cy="102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图上这个种地的人在干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3" name="chimes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1270080" y="3068640"/>
            <a:ext cx="7765920" cy="102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种地的人回家对家里人说的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763884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54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揠苗助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拔苗助长_读文_6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694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小学语文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763884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54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揠苗助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1187280" y="1125360"/>
            <a:ext cx="4608720" cy="2516400"/>
          </a:xfrm>
          <a:prstGeom prst="cloudCallout">
            <a:avLst>
              <a:gd name="adj1" fmla="val -30847"/>
              <a:gd name="adj2" fmla="val 67162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1619280" y="1557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4b1b"/>
                </a:solidFill>
                <a:latin typeface="楷体_GB2312"/>
                <a:ea typeface="楷体_GB2312"/>
              </a:rPr>
              <a:t>今天可把我累坏了！力气总算没白费，禾苗都长高了一大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  <p:sndAc>
      <p:stSnd>
        <p:snd r:embed="rId3" name="chimes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1619280" y="2916360"/>
            <a:ext cx="7200720" cy="102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结果怎么样？禾苗真得长高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763884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54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揠苗助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拔苗助长_读文_7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694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小学语文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763884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54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揠苗助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404600" y="6021360"/>
            <a:ext cx="1826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禾苗都枯死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  <p:sndAc>
      <p:stSnd>
        <p:snd r:embed="rId3" name="chimes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7"/>
          <p:cNvSpPr/>
          <p:nvPr/>
        </p:nvSpPr>
        <p:spPr>
          <a:xfrm>
            <a:off x="763884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54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揠苗助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4258800" y="1557360"/>
            <a:ext cx="11408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讨  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042920" y="2997360"/>
            <a:ext cx="77058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4b1b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54b1b"/>
                </a:solidFill>
                <a:latin typeface="楷体_GB2312"/>
                <a:ea typeface="楷体_GB2312"/>
              </a:rPr>
              <a:t>为什么这个人费了那么多力气，但结果禾苗全枯死了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476360" y="2403360"/>
            <a:ext cx="7201080" cy="102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这个故事告诉我们一个什么道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486680" y="1268280"/>
            <a:ext cx="7401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763884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54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揠苗助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467000" y="3933720"/>
            <a:ext cx="667692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4b1b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54b1b"/>
                </a:solidFill>
                <a:latin typeface="黑体"/>
                <a:ea typeface="黑体"/>
              </a:rPr>
              <a:t>违反了事物的发展规律、急于求成，反而会误了大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3419640" y="907560"/>
            <a:ext cx="2734920" cy="104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4b1b"/>
                </a:solidFill>
                <a:latin typeface="Arial"/>
              </a:rPr>
              <a:t>读读想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63884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54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揠苗助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605680" y="2616120"/>
            <a:ext cx="34070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１、禾苗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好象</a:t>
            </a:r>
            <a:r>
              <a:rPr b="1" lang="zh-CN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一点儿也没有长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２、他在田边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焦急地</a:t>
            </a:r>
            <a:r>
              <a:rPr b="1" lang="zh-CN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转来转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4366800" y="5281560"/>
            <a:ext cx="535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4b1b"/>
                </a:solidFill>
                <a:latin typeface="Arial"/>
                <a:ea typeface="黑体"/>
              </a:rPr>
              <a:t>去掉句中红色部分，句子的意思和原来一样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8"/>
          <p:cNvGrpSpPr/>
          <p:nvPr/>
        </p:nvGrpSpPr>
        <p:grpSpPr>
          <a:xfrm>
            <a:off x="3460680" y="2997360"/>
            <a:ext cx="1224000" cy="1223640"/>
            <a:chOff x="3460680" y="2997360"/>
            <a:chExt cx="1224000" cy="1223640"/>
          </a:xfrm>
        </p:grpSpPr>
        <p:sp>
          <p:nvSpPr>
            <p:cNvPr id="121" name="Rectangle 9"/>
            <p:cNvSpPr/>
            <p:nvPr/>
          </p:nvSpPr>
          <p:spPr>
            <a:xfrm>
              <a:off x="3460680" y="2997360"/>
              <a:ext cx="1224000" cy="122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 flipH="1">
              <a:off x="3460680" y="360900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4073040" y="302760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2"/>
          <p:cNvGrpSpPr/>
          <p:nvPr/>
        </p:nvGrpSpPr>
        <p:grpSpPr>
          <a:xfrm>
            <a:off x="2236680" y="2997360"/>
            <a:ext cx="1224000" cy="1223640"/>
            <a:chOff x="2236680" y="2997360"/>
            <a:chExt cx="1224000" cy="1223640"/>
          </a:xfrm>
        </p:grpSpPr>
        <p:sp>
          <p:nvSpPr>
            <p:cNvPr id="125" name="Rectangle 13"/>
            <p:cNvSpPr/>
            <p:nvPr/>
          </p:nvSpPr>
          <p:spPr>
            <a:xfrm>
              <a:off x="2236680" y="2997360"/>
              <a:ext cx="1224000" cy="122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4"/>
            <p:cNvSpPr/>
            <p:nvPr/>
          </p:nvSpPr>
          <p:spPr>
            <a:xfrm flipH="1">
              <a:off x="2236680" y="360900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2849040" y="302760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6"/>
          <p:cNvGrpSpPr/>
          <p:nvPr/>
        </p:nvGrpSpPr>
        <p:grpSpPr>
          <a:xfrm>
            <a:off x="4684680" y="2997360"/>
            <a:ext cx="1224000" cy="1223640"/>
            <a:chOff x="4684680" y="2997360"/>
            <a:chExt cx="1224000" cy="1223640"/>
          </a:xfrm>
        </p:grpSpPr>
        <p:sp>
          <p:nvSpPr>
            <p:cNvPr id="129" name="Rectangle 17"/>
            <p:cNvSpPr/>
            <p:nvPr/>
          </p:nvSpPr>
          <p:spPr>
            <a:xfrm>
              <a:off x="4684680" y="2997360"/>
              <a:ext cx="1224000" cy="122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 flipH="1">
              <a:off x="4684680" y="360900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5297040" y="302760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0"/>
          <p:cNvGrpSpPr/>
          <p:nvPr/>
        </p:nvGrpSpPr>
        <p:grpSpPr>
          <a:xfrm>
            <a:off x="5908680" y="2997360"/>
            <a:ext cx="1224000" cy="1223640"/>
            <a:chOff x="5908680" y="2997360"/>
            <a:chExt cx="1224000" cy="1223640"/>
          </a:xfrm>
        </p:grpSpPr>
        <p:sp>
          <p:nvSpPr>
            <p:cNvPr id="133" name="Rectangle 21"/>
            <p:cNvSpPr/>
            <p:nvPr/>
          </p:nvSpPr>
          <p:spPr>
            <a:xfrm>
              <a:off x="5908680" y="2997360"/>
              <a:ext cx="1224000" cy="122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2"/>
            <p:cNvSpPr/>
            <p:nvPr/>
          </p:nvSpPr>
          <p:spPr>
            <a:xfrm flipH="1">
              <a:off x="5908680" y="360900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6521040" y="302760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32"/>
          <p:cNvSpPr/>
          <p:nvPr/>
        </p:nvSpPr>
        <p:spPr>
          <a:xfrm>
            <a:off x="2308320" y="2997360"/>
            <a:ext cx="47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焦费望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8">
            <a:hlinkClick r:id="rId1"/>
          </p:cNvPr>
          <p:cNvSpPr/>
          <p:nvPr/>
        </p:nvSpPr>
        <p:spPr>
          <a:xfrm>
            <a:off x="4164120" y="4869000"/>
            <a:ext cx="1295280" cy="647640"/>
          </a:xfrm>
          <a:custGeom>
            <a:avLst/>
            <a:gdLst>
              <a:gd name="textAreaLeft" fmla="*/ 41760 w 1295280"/>
              <a:gd name="textAreaRight" fmla="*/ 1253520 w 129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788" y="1400"/>
                </a:lnTo>
                <a:lnTo>
                  <a:pt x="1400" y="140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788" y="20200"/>
                </a:lnTo>
                <a:lnTo>
                  <a:pt x="41788" y="140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8" y="2020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8" h="21600">
                <a:moveTo>
                  <a:pt x="14588" y="7301"/>
                </a:moveTo>
                <a:lnTo>
                  <a:pt x="15501" y="7301"/>
                </a:lnTo>
                <a:lnTo>
                  <a:pt x="15884" y="7667"/>
                </a:lnTo>
                <a:lnTo>
                  <a:pt x="25093" y="7667"/>
                </a:lnTo>
                <a:lnTo>
                  <a:pt x="25650" y="8224"/>
                </a:lnTo>
                <a:lnTo>
                  <a:pt x="25650" y="8772"/>
                </a:lnTo>
                <a:lnTo>
                  <a:pt x="27495" y="8772"/>
                </a:lnTo>
                <a:lnTo>
                  <a:pt x="27861" y="8224"/>
                </a:lnTo>
                <a:lnTo>
                  <a:pt x="28600" y="8224"/>
                </a:lnTo>
                <a:lnTo>
                  <a:pt x="28600" y="13376"/>
                </a:lnTo>
                <a:lnTo>
                  <a:pt x="27861" y="13376"/>
                </a:lnTo>
                <a:lnTo>
                  <a:pt x="27495" y="12828"/>
                </a:lnTo>
                <a:lnTo>
                  <a:pt x="25650" y="12828"/>
                </a:lnTo>
                <a:lnTo>
                  <a:pt x="25650" y="14107"/>
                </a:lnTo>
                <a:lnTo>
                  <a:pt x="16067" y="14107"/>
                </a:lnTo>
                <a:lnTo>
                  <a:pt x="16067" y="9877"/>
                </a:lnTo>
                <a:lnTo>
                  <a:pt x="15884" y="9877"/>
                </a:lnTo>
                <a:lnTo>
                  <a:pt x="15501" y="10243"/>
                </a:lnTo>
                <a:lnTo>
                  <a:pt x="14588" y="10243"/>
                </a:lnTo>
                <a:close/>
              </a:path>
            </a:pathLst>
          </a:custGeom>
          <a:solidFill>
            <a:srgbClr val="bbe0e3">
              <a:alpha val="46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9"/>
          <p:cNvSpPr/>
          <p:nvPr/>
        </p:nvSpPr>
        <p:spPr>
          <a:xfrm>
            <a:off x="4362840" y="5646600"/>
            <a:ext cx="1034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7229"/>
                </a:solidFill>
                <a:latin typeface="Arial"/>
                <a:ea typeface="黑体"/>
              </a:rPr>
              <a:t>生字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0"/>
          <p:cNvSpPr/>
          <p:nvPr/>
        </p:nvSpPr>
        <p:spPr>
          <a:xfrm>
            <a:off x="3667680" y="1197000"/>
            <a:ext cx="16437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4b1b"/>
                </a:solidFill>
                <a:latin typeface="Arial"/>
              </a:rPr>
              <a:t>会写的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3"/>
          <p:cNvSpPr/>
          <p:nvPr/>
        </p:nvSpPr>
        <p:spPr>
          <a:xfrm>
            <a:off x="763884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54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揠苗助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763884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54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揠苗助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366800" y="1267920"/>
            <a:ext cx="912240" cy="183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y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寓</a:t>
            </a:r>
            <a:r>
              <a:rPr b="1" lang="zh-CN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289880" y="3429000"/>
            <a:ext cx="6581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54b1b"/>
                </a:solidFill>
                <a:latin typeface="Arial"/>
                <a:ea typeface="楷体_GB2312"/>
              </a:rPr>
              <a:t>寓言                 寓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614840" y="4921200"/>
            <a:ext cx="985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4b1b"/>
                </a:solidFill>
                <a:latin typeface="Arial"/>
                <a:ea typeface="楷体_GB2312"/>
              </a:rPr>
              <a:t>寓言是借故事来说明道理的一种文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6"/>
          <p:cNvSpPr/>
          <p:nvPr/>
        </p:nvSpPr>
        <p:spPr>
          <a:xfrm>
            <a:off x="763884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54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揠苗助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446720" y="2792520"/>
            <a:ext cx="677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把课文中的故事讲给别人听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"/>
          <p:cNvSpPr/>
          <p:nvPr/>
        </p:nvSpPr>
        <p:spPr>
          <a:xfrm>
            <a:off x="574560" y="5715000"/>
            <a:ext cx="620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3681-5BE6-4F38-A111-FB1B0551571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55640" y="2349360"/>
            <a:ext cx="72010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本课的两则寓言，讲的是什么故事？要说明什么道理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763884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54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揠苗助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3094200" y="417348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258920" y="3940560"/>
            <a:ext cx="7561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寓揠焦喘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763884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54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揠苗助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871800" y="126828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54b1b"/>
                </a:solidFill>
                <a:latin typeface="Arial"/>
              </a:rPr>
              <a:t>会读的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337320" y="3212640"/>
            <a:ext cx="9423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yù</a:t>
            </a:r>
            <a:r>
              <a:rPr b="1" lang="zh-CN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　　  </a:t>
            </a:r>
            <a:r>
              <a:rPr b="1" lang="en-US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y</a:t>
            </a:r>
            <a:r>
              <a:rPr b="1" lang="en-US" sz="3600" spc="-1" strike="noStrike">
                <a:solidFill>
                  <a:srgbClr val="054b1b"/>
                </a:solidFill>
                <a:latin typeface="宋体"/>
              </a:rPr>
              <a:t>à</a:t>
            </a:r>
            <a:r>
              <a:rPr b="1" lang="zh-CN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　 　</a:t>
            </a:r>
            <a:r>
              <a:rPr b="1" lang="en-US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ji</a:t>
            </a:r>
            <a:r>
              <a:rPr b="1" lang="en-US" sz="3600" spc="-1" strike="noStrike">
                <a:solidFill>
                  <a:srgbClr val="054b1b"/>
                </a:solidFill>
                <a:latin typeface="Arial"/>
              </a:rPr>
              <a:t>ā</a:t>
            </a:r>
            <a:r>
              <a:rPr b="1" lang="en-US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o</a:t>
            </a:r>
            <a:r>
              <a:rPr b="1" lang="zh-CN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　  </a:t>
            </a:r>
            <a:r>
              <a:rPr b="1" lang="en-US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chu</a:t>
            </a:r>
            <a:r>
              <a:rPr b="1" lang="en-US" sz="3600" spc="-1" strike="noStrike">
                <a:solidFill>
                  <a:srgbClr val="054b1b"/>
                </a:solidFill>
                <a:latin typeface="Arial"/>
              </a:rPr>
              <a:t>ǎ</a:t>
            </a:r>
            <a:r>
              <a:rPr b="1" lang="en-US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n</a:t>
            </a:r>
            <a:r>
              <a:rPr b="1" lang="zh-CN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　  </a:t>
            </a:r>
            <a:r>
              <a:rPr b="1" lang="en-US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ji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1190520" y="2924280"/>
            <a:ext cx="7201080" cy="21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54b1b"/>
                </a:solidFill>
                <a:latin typeface="Arial"/>
                <a:ea typeface="楷体_GB2312"/>
              </a:rPr>
              <a:t>揠苗助长    总是    终于    累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54b1b"/>
                </a:solidFill>
                <a:latin typeface="Arial"/>
                <a:ea typeface="楷体_GB2312"/>
              </a:rPr>
              <a:t>筋疲力尽    非常    枯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395960" y="1341360"/>
            <a:ext cx="790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763884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54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揠苗助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187280" y="2349360"/>
            <a:ext cx="66978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4b1b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54b1b"/>
                </a:solidFill>
                <a:latin typeface="楷体_GB2312"/>
                <a:ea typeface="楷体_GB2312"/>
              </a:rPr>
              <a:t>读课文，说说这则寓言向我们讲述了一个怎样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763884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54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揠苗助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拔苗助长_读文_1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694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小学语文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8"/>
          <p:cNvGrpSpPr/>
          <p:nvPr/>
        </p:nvGrpSpPr>
        <p:grpSpPr>
          <a:xfrm>
            <a:off x="1357200" y="644040"/>
            <a:ext cx="3405240" cy="1608840"/>
            <a:chOff x="1357200" y="644040"/>
            <a:chExt cx="3405240" cy="1608840"/>
          </a:xfrm>
        </p:grpSpPr>
        <p:sp>
          <p:nvSpPr>
            <p:cNvPr id="70" name="AutoShape 5"/>
            <p:cNvSpPr/>
            <p:nvPr/>
          </p:nvSpPr>
          <p:spPr>
            <a:xfrm rot="255000">
              <a:off x="1402920" y="764640"/>
              <a:ext cx="3313080" cy="1366920"/>
            </a:xfrm>
            <a:prstGeom prst="cloudCallout">
              <a:avLst>
                <a:gd name="adj1" fmla="val 69574"/>
                <a:gd name="adj2" fmla="val -1059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6"/>
            <p:cNvSpPr/>
            <p:nvPr/>
          </p:nvSpPr>
          <p:spPr>
            <a:xfrm>
              <a:off x="3078360" y="1052640"/>
              <a:ext cx="3787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54b1b"/>
                  </a:solidFill>
                  <a:latin typeface="Arial"/>
                  <a:ea typeface="楷体_GB2312"/>
                </a:rPr>
                <a:t>秧苗长得太慢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10"/>
          <p:cNvSpPr/>
          <p:nvPr/>
        </p:nvSpPr>
        <p:spPr>
          <a:xfrm>
            <a:off x="763884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54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揠苗助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908000" y="5373720"/>
            <a:ext cx="6769440" cy="69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图上画的是个什么人？他在干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3" name="chimes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9"/>
          <p:cNvSpPr/>
          <p:nvPr/>
        </p:nvSpPr>
        <p:spPr>
          <a:xfrm>
            <a:off x="763884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54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揠苗助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903240" y="1689120"/>
            <a:ext cx="6912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4b1b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54b1b"/>
                </a:solidFill>
                <a:latin typeface="楷体_GB2312"/>
                <a:ea typeface="楷体_GB2312"/>
              </a:rPr>
              <a:t>从课文哪些地方可以看出那个人觉得禾苗长得太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5374440" y="5442120"/>
            <a:ext cx="1278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自言自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2094120" y="4268880"/>
            <a:ext cx="72936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巴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4061880" y="4275000"/>
            <a:ext cx="182664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天天到田边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7134480" y="4309920"/>
            <a:ext cx="72936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焦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2710440" y="5421240"/>
            <a:ext cx="1278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转来转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2"/>
          <p:cNvGrpSpPr/>
          <p:nvPr/>
        </p:nvGrpSpPr>
        <p:grpSpPr>
          <a:xfrm>
            <a:off x="0" y="163440"/>
            <a:ext cx="9144000" cy="6694560"/>
            <a:chOff x="0" y="163440"/>
            <a:chExt cx="9144000" cy="6694560"/>
          </a:xfrm>
        </p:grpSpPr>
        <p:pic>
          <p:nvPicPr>
            <p:cNvPr id="82" name="Picture 7" descr="拔苗助长_读文_2"/>
            <p:cNvPicPr/>
            <p:nvPr/>
          </p:nvPicPr>
          <p:blipFill>
            <a:blip r:embed="rId1"/>
            <a:stretch/>
          </p:blipFill>
          <p:spPr>
            <a:xfrm>
              <a:off x="0" y="163440"/>
              <a:ext cx="9144000" cy="669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9"/>
            <p:cNvSpPr/>
            <p:nvPr/>
          </p:nvSpPr>
          <p:spPr>
            <a:xfrm>
              <a:off x="539640" y="549360"/>
              <a:ext cx="4680000" cy="25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13" descr="小学语文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8"/>
          <p:cNvSpPr/>
          <p:nvPr/>
        </p:nvSpPr>
        <p:spPr>
          <a:xfrm>
            <a:off x="395280" y="620640"/>
            <a:ext cx="4824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4"/>
          <p:cNvGrpSpPr/>
          <p:nvPr/>
        </p:nvGrpSpPr>
        <p:grpSpPr>
          <a:xfrm>
            <a:off x="1042920" y="1197000"/>
            <a:ext cx="3754440" cy="1584360"/>
            <a:chOff x="1042920" y="1197000"/>
            <a:chExt cx="3754440" cy="1584360"/>
          </a:xfrm>
        </p:grpSpPr>
        <p:sp>
          <p:nvSpPr>
            <p:cNvPr id="87" name="AutoShape 10"/>
            <p:cNvSpPr/>
            <p:nvPr/>
          </p:nvSpPr>
          <p:spPr>
            <a:xfrm>
              <a:off x="1042920" y="1197000"/>
              <a:ext cx="3754440" cy="1584360"/>
            </a:xfrm>
            <a:prstGeom prst="cloudCallout">
              <a:avLst>
                <a:gd name="adj1" fmla="val 63398"/>
                <a:gd name="adj2" fmla="val 7566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1"/>
            <p:cNvSpPr/>
            <p:nvPr/>
          </p:nvSpPr>
          <p:spPr>
            <a:xfrm>
              <a:off x="1547640" y="1413000"/>
              <a:ext cx="31845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54b1b"/>
                  </a:solidFill>
                  <a:latin typeface="Arial"/>
                  <a:ea typeface="楷体_GB2312"/>
                </a:rPr>
                <a:t>我得想个办法帮它们长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16"/>
          <p:cNvSpPr/>
          <p:nvPr/>
        </p:nvSpPr>
        <p:spPr>
          <a:xfrm>
            <a:off x="763884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54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揠苗助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3" name="chimes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3:13Z</dcterms:modified>
  <cp:revision>6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