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E9B6-887C-413A-98F7-77EE4B3838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916-10C9-4648-9CEE-D70E733C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C37-C6DD-4906-A5E9-25C71BC4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70A-AE4F-48B0-84EF-6D34A760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69D-9F97-4A91-8124-15C5F06A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1A6-4B8E-4AF6-89CF-BDD9DDB6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EB9-A4CC-4BF7-B149-9CBD7D68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12D-EA86-4D8C-A267-4673E544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A90-9544-4068-B318-64541B7F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AF5-2332-4615-B092-00E924D7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F91-131E-4891-B733-1200A644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3F1-B49A-4924-A274-9C3C2E4D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37D-043D-415F-9413-C12DFDCF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2E87-43DE-4F62-94AD-13CD057AEF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979640" y="1844640"/>
            <a:ext cx="5040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黑体"/>
              </a:rPr>
              <a:t>不用搀扶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827000" y="5084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763640" y="237960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功源于自己，世上没有什么事是不能做的，只要你想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042920" y="220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乐队的百双眼睛，大会堂的万双眼睛，电视机前的亿双眼睛，都注视着帕尔曼站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84360" y="17733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帕尔曼走了，他留下的不仅仅是那冬日里的琴声。为这个，让我这不懂音乐的人对音乐大师说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谢谢您！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感受领悟"/>
          <p:cNvPicPr/>
          <p:nvPr/>
        </p:nvPicPr>
        <p:blipFill>
          <a:blip r:embed="rId1"/>
          <a:stretch/>
        </p:blipFill>
        <p:spPr>
          <a:xfrm>
            <a:off x="684360" y="907920"/>
            <a:ext cx="1890720" cy="513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116000" y="3645000"/>
            <a:ext cx="60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作者为什么要谢谢音乐大师？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从中体会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3808014700778075305"/>
          <p:cNvPicPr/>
          <p:nvPr/>
        </p:nvPicPr>
        <p:blipFill>
          <a:blip r:embed="rId1"/>
          <a:stretch/>
        </p:blipFill>
        <p:spPr>
          <a:xfrm>
            <a:off x="684360" y="981000"/>
            <a:ext cx="3749400" cy="5112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356000" y="1814400"/>
            <a:ext cx="439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身残志坚、不用搀扶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意志顽强、不怕失败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靠自己的力量赢得尊严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117440" y="2550960"/>
            <a:ext cx="69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顽强的毅力可以征服世界上的任何一座高峰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爱迪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1494000" y="5154480"/>
            <a:ext cx="55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zhang"/>
          <p:cNvPicPr/>
          <p:nvPr/>
        </p:nvPicPr>
        <p:blipFill>
          <a:blip r:embed="rId1"/>
          <a:stretch/>
        </p:blipFill>
        <p:spPr>
          <a:xfrm>
            <a:off x="468360" y="333360"/>
            <a:ext cx="2924280" cy="374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shi"/>
          <p:cNvPicPr/>
          <p:nvPr/>
        </p:nvPicPr>
        <p:blipFill>
          <a:blip r:embed="rId2"/>
          <a:stretch/>
        </p:blipFill>
        <p:spPr>
          <a:xfrm>
            <a:off x="5003640" y="189000"/>
            <a:ext cx="2988000" cy="41497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5187960" y="5433120"/>
            <a:ext cx="3487680" cy="51588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文学思考人生的作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史铁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71280" y="4771080"/>
            <a:ext cx="42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轮椅上的“中国保尔”张海迪：胸部以下全部瘫痪，她却以顽强的毅力和恒心与疾病做斗争，成为著名的作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ai"/>
          <p:cNvPicPr/>
          <p:nvPr/>
        </p:nvPicPr>
        <p:blipFill>
          <a:blip r:embed="rId1"/>
          <a:stretch/>
        </p:blipFill>
        <p:spPr>
          <a:xfrm>
            <a:off x="468360" y="620640"/>
            <a:ext cx="3035160" cy="403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huo"/>
          <p:cNvPicPr/>
          <p:nvPr/>
        </p:nvPicPr>
        <p:blipFill>
          <a:blip r:embed="rId2"/>
          <a:stretch/>
        </p:blipFill>
        <p:spPr>
          <a:xfrm>
            <a:off x="4211640" y="836640"/>
            <a:ext cx="4718160" cy="38480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4356000" y="5292000"/>
            <a:ext cx="4253040" cy="51588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伟大的理论物理学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霍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24000" y="5085000"/>
            <a:ext cx="3095640" cy="94248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享誉世界的作家和演说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凯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619280" y="1268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这个，让我们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真诚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这位音乐大师说一声：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谢谢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692360" y="28670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这个，让我们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大声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这位音乐大师说一声：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谢谢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692360" y="44496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这个，让我们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自豪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这位音乐大师说一声：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谢谢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’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E9D4-F1EB-4B68-9764-9B39D9CDD4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9640" y="177336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黑体"/>
                <a:ea typeface="黑体"/>
              </a:rPr>
              <a:t>帕尔曼  联袂  怦然心动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549800" y="328464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黑体"/>
                <a:ea typeface="黑体"/>
              </a:rPr>
              <a:t>拄着  磁铁  魅力  搀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生字学习"/>
          <p:cNvPicPr/>
          <p:nvPr/>
        </p:nvPicPr>
        <p:blipFill>
          <a:blip r:embed="rId1"/>
          <a:stretch/>
        </p:blipFill>
        <p:spPr>
          <a:xfrm>
            <a:off x="395280" y="0"/>
            <a:ext cx="2028960" cy="17398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/>
          <p:cNvSpPr/>
          <p:nvPr/>
        </p:nvSpPr>
        <p:spPr>
          <a:xfrm>
            <a:off x="1260360" y="4654440"/>
            <a:ext cx="6194520" cy="14432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能用上这里一些新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说课文的主要内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808014700778075305"/>
          <p:cNvPicPr/>
          <p:nvPr/>
        </p:nvPicPr>
        <p:blipFill>
          <a:blip r:embed="rId1"/>
          <a:stretch/>
        </p:blipFill>
        <p:spPr>
          <a:xfrm>
            <a:off x="684360" y="333360"/>
            <a:ext cx="4335480" cy="5910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089400" y="1125360"/>
            <a:ext cx="9115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帕尔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55640" y="765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快速浏览课文，找出些帕尔曼出场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小蜜蜂"/>
          <p:cNvPicPr/>
          <p:nvPr/>
        </p:nvPicPr>
        <p:blipFill>
          <a:blip r:embed="rId1"/>
          <a:stretch/>
        </p:blipFill>
        <p:spPr>
          <a:xfrm>
            <a:off x="7872480" y="4873680"/>
            <a:ext cx="1523880" cy="1595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755640" y="213372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当帕尔曼出现时，我怦然心动。他拄着双拐，艰难而又  走上了台。拐杖加上小提琴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就是帕尔曼独特的形象吗？从他出现的那一刻起，我的视线就像磁铁吸引，再也没有离开过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081200" y="285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5"/>
          <p:cNvSpPr/>
          <p:nvPr/>
        </p:nvSpPr>
        <p:spPr>
          <a:xfrm>
            <a:off x="3492360" y="307800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1403280" y="2421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——”画出令你感动的句子，并在文中作好批注，再与前后同学一起读一读你们所画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00000" y="2060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位音乐家的杰出之处，动人之处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仅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他的琴声里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他的人格魅力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细读感悟"/>
          <p:cNvPicPr/>
          <p:nvPr/>
        </p:nvPicPr>
        <p:blipFill>
          <a:blip r:embed="rId1"/>
          <a:stretch/>
        </p:blipFill>
        <p:spPr>
          <a:xfrm>
            <a:off x="684360" y="907920"/>
            <a:ext cx="2104920" cy="56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小蜜蜂"/>
          <p:cNvPicPr/>
          <p:nvPr/>
        </p:nvPicPr>
        <p:blipFill>
          <a:blip r:embed="rId2"/>
          <a:stretch/>
        </p:blipFill>
        <p:spPr>
          <a:xfrm>
            <a:off x="6084720" y="3429000"/>
            <a:ext cx="2219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47640" y="28684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最让我意外而感动的是帕尔曼站起来的那一刻。一曲终了，他用拐杖支撑着自己试图站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4360" y="1413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，哪件事体现了他的人格魅力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精读入情"/>
          <p:cNvPicPr/>
          <p:nvPr/>
        </p:nvPicPr>
        <p:blipFill>
          <a:blip r:embed="rId1"/>
          <a:stretch/>
        </p:blipFill>
        <p:spPr>
          <a:xfrm>
            <a:off x="539640" y="836640"/>
            <a:ext cx="2079720" cy="606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332000" y="692280"/>
            <a:ext cx="8064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起来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跌坐在椅子上； 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再起来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又没成功； 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又试了一次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又失败了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5640" y="242100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帕尔曼笑了笑，平静谦和，甚至带一点儿歉意。他又试了第四次，这一次他终于站了起来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精读入情"/>
          <p:cNvPicPr/>
          <p:nvPr/>
        </p:nvPicPr>
        <p:blipFill>
          <a:blip r:embed="rId1"/>
          <a:stretch/>
        </p:blipFill>
        <p:spPr>
          <a:xfrm>
            <a:off x="539640" y="836640"/>
            <a:ext cx="2079720" cy="6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5:56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3:09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