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a77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3882960" y="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2960" y="8686800"/>
            <a:ext cx="2975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DDAE-2F1D-4373-B44C-03F621003B4A}" type="slidenum">
              <a:rPr b="0" lang="zh-CN" sz="12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4360" y="434196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dc59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CEAD-DD71-4701-B967-DADD3D3F6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965B-0717-41FB-A34E-3855F2A6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136-D79C-42A5-BABD-8653F188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9A6C-3752-40FB-BCB6-57BE2D4E9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43D0-ADF1-4609-9B7D-DB4546B3C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0F93-36CD-46E5-A188-562BA0D4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CB66-27E0-48C3-97CE-85E51FA26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C59C8-FF60-4855-84D5-BDA187F3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953A-2889-4002-93B3-63C4219A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BF97-89C7-4E8E-AB3E-D92B11B04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D9AA-DBF4-4331-8369-82C880E7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1BB0-C2EC-46F2-BFC5-2620F491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DAAF0-A0FD-4897-87CF-523D5F76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1DBD-AA26-403E-AC79-AEF2050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D159-2FE4-4201-B6D8-856404A9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F368-FD18-4861-8329-1B6FB0AF6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E1F90-0B4B-46EA-8975-68EEF209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56F01-67C4-4C68-9EF8-6C0FB135A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C3C32-B3EE-429B-9E85-5D6D5818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F4BD1-EBAB-46CB-ABB9-C8A8DF15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9A8E3-268E-46BF-86DD-CB971541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D81F6-2538-4970-B2AE-3F54D34D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75DD-5517-41E5-B30C-99C6F8AC2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70154-96AE-41C3-9763-DDA269E6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FACBE-77C6-4523-8F64-87A31D34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88F3F-D2C4-4727-8DC7-D584AB1D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50689-3867-4A6E-855F-62A9B6BF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E6938-00C6-4655-8B15-0B3A78B4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728C5-F422-4CBD-ABDD-AFFD67CA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3FECF-ECFC-4591-8792-545EBAD3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BE4-801D-4183-804B-2AAFF4A7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315-5DB1-4293-9EB9-728BE3192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6C6-2F2C-4B41-94D0-ACDEE3B6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E9B-4DC0-429F-9028-3CEF34E3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3AEC-0808-459C-8856-56085331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6B4-8E63-4BAC-9C76-0AFAB7355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5CED-136D-4F50-9405-1C997CE40C0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CE48-053F-47A5-A05E-3E1A81B7BE4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3AD6-63FB-493D-8E48-9CB0B09BE2B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5" descr=""/>
          <p:cNvPicPr/>
          <p:nvPr/>
        </p:nvPicPr>
        <p:blipFill>
          <a:blip r:embed="rId1"/>
          <a:stretch/>
        </p:blipFill>
        <p:spPr>
          <a:xfrm>
            <a:off x="1370160" y="1844640"/>
            <a:ext cx="6257880" cy="4168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41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8  </a:t>
            </a:r>
            <a:r>
              <a:rPr b="1" lang="zh-CN" sz="6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城堡上的大炮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1722240" y="60958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城堡上的大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03360" y="1844640"/>
            <a:ext cx="854064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战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灾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39640" y="3645000"/>
            <a:ext cx="1225800" cy="26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33"/>
                </a:solidFill>
                <a:latin typeface="Arial"/>
              </a:rPr>
              <a:t>新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908000" y="3933720"/>
            <a:ext cx="1800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开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狂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3132000" y="3284640"/>
            <a:ext cx="5545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欢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喜气洋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发放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692360" y="206064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1692360" y="4221000"/>
            <a:ext cx="142920" cy="1079640"/>
          </a:xfrm>
          <a:custGeom>
            <a:avLst/>
            <a:gdLst>
              <a:gd name="textAreaLeft" fmla="*/ 91440 w 142920"/>
              <a:gd name="textAreaRight" fmla="*/ 143280 w 1429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>
            <a:off x="2843280" y="3500280"/>
            <a:ext cx="360360" cy="2521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940360" y="4365720"/>
            <a:ext cx="24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</a:rPr>
              <a:t>难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>
            <a:off x="5292720" y="3500280"/>
            <a:ext cx="647640" cy="2808360"/>
          </a:xfrm>
          <a:custGeom>
            <a:avLst/>
            <a:gdLst>
              <a:gd name="textAreaLeft" fmla="*/ 0 w 647640"/>
              <a:gd name="textAreaRight" fmla="*/ 234000 w 64764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611280" y="2349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Arial"/>
              </a:rPr>
              <a:t>曾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360036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e81c06"/>
                </a:solidFill>
                <a:latin typeface="Arial"/>
                <a:ea typeface="隶书"/>
              </a:rPr>
              <a:t>谈一谈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47560" y="1924200"/>
            <a:ext cx="7632720" cy="287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你学了这篇文章有什么感想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111"/>
          <p:cNvPicPr/>
          <p:nvPr/>
        </p:nvPicPr>
        <p:blipFill>
          <a:blip r:embed="rId1"/>
          <a:stretch/>
        </p:blipFill>
        <p:spPr>
          <a:xfrm>
            <a:off x="6659640" y="458136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"/>
          <p:cNvSpPr/>
          <p:nvPr/>
        </p:nvSpPr>
        <p:spPr>
          <a:xfrm>
            <a:off x="950760" y="5518080"/>
            <a:ext cx="53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F500-2864-49A7-848F-0B5F70266FC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3983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81c06"/>
                </a:solidFill>
                <a:latin typeface="Arial"/>
                <a:ea typeface="隶书"/>
              </a:rPr>
              <a:t>我会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3360" y="162828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城堡     轰隆隆     地震      聋哑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召来     大臣       面授      糖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降落伞   铅笔       橡皮      凡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9640" y="1773360"/>
            <a:ext cx="860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bǎo                  lōng lōng            zhèn           ló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zhào                chén                 shòu            tá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33"/>
                </a:solidFill>
                <a:latin typeface="Arial"/>
              </a:rPr>
              <a:t>Jiàng            qiān                  xiàng                f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1700280"/>
            <a:ext cx="8459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自读课文，在书上作标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大炮以前是用来干什么的？有怎样的威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卡卡国王将大炮掉头面向广场时，人们有什么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情？想些什么？人们是怎样的心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王用大炮做什么？当时的情况是怎样的？你是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哪些地方感受到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28440" y="105264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精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7"/>
          <p:cNvSpPr/>
          <p:nvPr/>
        </p:nvSpPr>
        <p:spPr>
          <a:xfrm>
            <a:off x="1476360" y="4292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it"/>
          <p:cNvPicPr/>
          <p:nvPr/>
        </p:nvPicPr>
        <p:blipFill>
          <a:blip r:embed="rId1"/>
          <a:stretch/>
        </p:blipFill>
        <p:spPr>
          <a:xfrm>
            <a:off x="539640" y="549360"/>
            <a:ext cx="8280360" cy="4895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u=57373819,1663351637&amp;fm=0&amp;gp=-8"/>
          <p:cNvPicPr/>
          <p:nvPr/>
        </p:nvPicPr>
        <p:blipFill>
          <a:blip r:embed="rId2"/>
          <a:stretch/>
        </p:blipFill>
        <p:spPr>
          <a:xfrm>
            <a:off x="324000" y="404640"/>
            <a:ext cx="8496000" cy="5486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1908000" y="5877000"/>
            <a:ext cx="64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81c06"/>
                </a:solidFill>
                <a:latin typeface="Arial"/>
              </a:rPr>
              <a:t>这大炮曾经用来进行战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1700280"/>
            <a:ext cx="84596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卡卡国王将大炮掉头面向广场时，人们有什么表情？想些什么？人们是怎样的心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0" y="907920"/>
            <a:ext cx="165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精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s_98615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395280" y="476280"/>
            <a:ext cx="345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过年了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79280" y="1701720"/>
            <a:ext cx="846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国王用大炮做什么？当时的情况是怎样的？你是从哪些地方感受到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907920"/>
            <a:ext cx="165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黑体"/>
              </a:rPr>
              <a:t>精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0" y="404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81c06"/>
                </a:solidFill>
                <a:latin typeface="Arial"/>
              </a:rPr>
              <a:t>糖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-33480" y="1413000"/>
            <a:ext cx="25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铅笔、橡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-33480" y="2276640"/>
            <a:ext cx="11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20091129111847338"/>
          <p:cNvPicPr/>
          <p:nvPr/>
        </p:nvPicPr>
        <p:blipFill>
          <a:blip r:embed="rId1"/>
          <a:stretch/>
        </p:blipFill>
        <p:spPr>
          <a:xfrm>
            <a:off x="2268360" y="0"/>
            <a:ext cx="69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020960" y="3143160"/>
            <a:ext cx="1552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城堡上的大炮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4052880" y="17524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撒放糖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129200" y="3154320"/>
            <a:ext cx="132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撒放降落伞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052880" y="46483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撒放鲜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3168720" y="1981080"/>
            <a:ext cx="228600" cy="3048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5T03:56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5:00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