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1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D30F-AB87-4AFE-9B0F-88967A6D2A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FA10-3181-4B7D-916B-651FA8057F7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2EE7-5CEC-49E2-BAEB-1046C614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B500-57C9-4E29-AA89-51002117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1B8C-320D-4807-B34A-04823390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95D-C334-43BD-A0CB-BF0E0971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1DD8-0B3E-4E38-B1B0-43E2BDDD0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DAC5-C3FE-4BD7-9A25-C3419DA0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20B0-46A0-4545-A5B5-312107D0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C770-4437-440A-B0FD-57272DBD7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E3E2-92CE-4194-86EE-F5C47D0C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9119-8BC1-457C-8810-9F8EC8DF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D718-CD5C-4017-BA45-8C7D1C23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55D9-0036-40A7-A59A-777BFB2A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EF2-FDBA-4EC8-BAB0-4877FAB2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6ECE-3843-4EB7-8E52-0C2733CDF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4D9C-1E91-4962-8F20-6C796C7DC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6626-B9A0-4486-8FCB-0E1EFFF4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A960-DB69-4A32-9EEE-7CF1021D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0FFB-03F1-4072-A6A1-E521E8058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C25-C0B1-410E-9157-F24B195E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31D-DD32-483C-8CBC-1392F8E25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F2DC-A078-4E85-A039-D55A7FA6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85CE-5DA4-46FE-A782-167E6DBC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B3C8-5333-4183-A835-D90FD7B6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9FD4-7CF0-4D1B-98FD-2B21E38E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未知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72F9-1959-492C-AB0B-6D2AB532452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未知"/>
          <p:cNvSpPr/>
          <p:nvPr/>
        </p:nvSpPr>
        <p:spPr>
          <a:xfrm rot="18427200">
            <a:off x="7864560" y="25200"/>
            <a:ext cx="1164960" cy="20955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未知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未知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未知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未知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未知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未知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未知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未知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未知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未知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未知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未知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未知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未知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未知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未知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未知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未知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未知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未知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未知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未知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未知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未知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未知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未知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40" name="未知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42" name="未知"/>
                <p:cNvSpPr/>
                <p:nvPr/>
              </p:nvSpPr>
              <p:spPr>
                <a:xfrm rot="18427200">
                  <a:off x="787968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未知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未知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未知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未知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未知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未知"/>
                <p:cNvSpPr/>
                <p:nvPr/>
              </p:nvSpPr>
              <p:spPr>
                <a:xfrm rot="18427200">
                  <a:off x="7909560" y="33120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未知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未知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未知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未知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未知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未知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5440" y="4317480"/>
            <a:ext cx="983160" cy="1161720"/>
            <a:chOff x="7795440" y="4317480"/>
            <a:chExt cx="983160" cy="1161720"/>
          </a:xfrm>
        </p:grpSpPr>
        <p:sp>
          <p:nvSpPr>
            <p:cNvPr id="99" name="未知"/>
            <p:cNvSpPr/>
            <p:nvPr/>
          </p:nvSpPr>
          <p:spPr>
            <a:xfrm rot="7320000">
              <a:off x="7789320" y="4657320"/>
              <a:ext cx="998280" cy="46548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 rot="7320000">
              <a:off x="7930080" y="4617360"/>
              <a:ext cx="660600" cy="4204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5440" y="4317480"/>
              <a:ext cx="983160" cy="1161720"/>
              <a:chOff x="7795440" y="4317480"/>
              <a:chExt cx="983160" cy="1161720"/>
            </a:xfrm>
          </p:grpSpPr>
          <p:sp>
            <p:nvSpPr>
              <p:cNvPr id="103" name="未知"/>
              <p:cNvSpPr/>
              <p:nvPr/>
            </p:nvSpPr>
            <p:spPr>
              <a:xfrm rot="7320000">
                <a:off x="7916760" y="5060160"/>
                <a:ext cx="93600" cy="97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 rot="7320000">
                <a:off x="7757280" y="4649400"/>
                <a:ext cx="1058760" cy="49788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 rot="7320000">
                <a:off x="8039880" y="4756680"/>
                <a:ext cx="749160" cy="281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 rot="7320000">
                <a:off x="8513640" y="45547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 rot="7320000">
                <a:off x="8150400" y="4754520"/>
                <a:ext cx="306360" cy="1666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未知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未知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8846-007E-4E85-993E-AFA9D75FD14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WordArt 3" descr=""/>
          <p:cNvPicPr/>
          <p:nvPr/>
        </p:nvPicPr>
        <p:blipFill>
          <a:blip r:embed="rId2"/>
          <a:stretch/>
        </p:blipFill>
        <p:spPr>
          <a:xfrm>
            <a:off x="331920" y="1628640"/>
            <a:ext cx="8478720" cy="2232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19040" y="5153040"/>
            <a:ext cx="1994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矩形 7"/>
          <p:cNvSpPr/>
          <p:nvPr/>
        </p:nvSpPr>
        <p:spPr>
          <a:xfrm>
            <a:off x="1477440" y="567360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2009042317594454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1042920" y="2584440"/>
            <a:ext cx="720108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卡卡国王将大炮掉头面向广场时，人们有什么表情？想些什么？人们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的心情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是怎样？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95280" y="90792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2009042317594454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3"/>
          <p:cNvSpPr/>
          <p:nvPr/>
        </p:nvSpPr>
        <p:spPr>
          <a:xfrm>
            <a:off x="1619280" y="2765520"/>
            <a:ext cx="550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国王用大炮做什么？当时的情况是怎样的？你是从哪些地方感受到的？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395280" y="90792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280" y="-456120"/>
            <a:ext cx="6870600" cy="15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理解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0920" y="1125360"/>
            <a:ext cx="770580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作者为什么没有直接把国王的意图说出来呢？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Comic Sans MS"/>
              </a:rPr>
              <a:t>（设置悬念，激发读者的阅读兴趣。）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u=1665423680,4132609922&amp;fm=0&amp;gp=0"/>
          <p:cNvPicPr/>
          <p:nvPr/>
        </p:nvPicPr>
        <p:blipFill>
          <a:blip r:embed="rId2"/>
          <a:stretch/>
        </p:blipFill>
        <p:spPr>
          <a:xfrm>
            <a:off x="7556400" y="189000"/>
            <a:ext cx="119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2009042317594454"/>
          <p:cNvPicPr/>
          <p:nvPr/>
        </p:nvPicPr>
        <p:blipFill>
          <a:blip r:embed="rId2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4920" y="-797400"/>
            <a:ext cx="6870600" cy="159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城堡上的三尊大炮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440" y="907560"/>
            <a:ext cx="75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轰隆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一尊大炮向空中撒放了一万颗糖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轰隆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二尊大炮向空中撒放了一万个降落伞，降落伞上挂着铅笔和橡皮等小礼物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轰隆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第三尊大炮向空中撒放了一万朵鲜花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轰隆隆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大炮向空中撒放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-528480"/>
            <a:ext cx="831708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我想对大炮先生说</a:t>
            </a:r>
            <a:r>
              <a:rPr b="1" i="1" lang="zh-CN" sz="6600" spc="-1" strike="noStrike">
                <a:solidFill>
                  <a:srgbClr val="ff0000"/>
                </a:solidFill>
                <a:latin typeface="Comic Sans MS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3" descr="u=1665423680,4132609922&amp;fm=0&amp;gp=0"/>
          <p:cNvPicPr/>
          <p:nvPr/>
        </p:nvPicPr>
        <p:blipFill>
          <a:blip r:embed="rId2"/>
          <a:stretch/>
        </p:blipFill>
        <p:spPr>
          <a:xfrm>
            <a:off x="7556400" y="189000"/>
            <a:ext cx="119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280" y="-239760"/>
            <a:ext cx="68706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理解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755640" y="1557360"/>
            <a:ext cx="77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①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难忘的狂欢之夜，难忘的大炮！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②</a:t>
            </a:r>
            <a:r>
              <a:rPr b="1" lang="zh-CN" sz="4800" spc="-1" strike="noStrike">
                <a:solidFill>
                  <a:srgbClr val="000000"/>
                </a:solidFill>
                <a:latin typeface="Comic Sans MS"/>
              </a:rPr>
              <a:t>难忘的狂欢之夜和大炮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（第二个难忘起到了强调突出的作用）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4" descr="200891701947495"/>
          <p:cNvPicPr/>
          <p:nvPr/>
        </p:nvPicPr>
        <p:blipFill>
          <a:blip r:embed="rId2"/>
          <a:stretch/>
        </p:blipFill>
        <p:spPr>
          <a:xfrm>
            <a:off x="1332000" y="40464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8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2009042317594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3"/>
          <p:cNvSpPr/>
          <p:nvPr/>
        </p:nvSpPr>
        <p:spPr>
          <a:xfrm>
            <a:off x="1055880" y="31161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城堡上的大炮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116960" y="1673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撒放糖果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209480" y="3075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撒放降落伞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4116960" y="456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撒放鲜花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AutoShape 7"/>
          <p:cNvSpPr/>
          <p:nvPr/>
        </p:nvSpPr>
        <p:spPr>
          <a:xfrm>
            <a:off x="3168720" y="19810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文本框 1"/>
          <p:cNvSpPr/>
          <p:nvPr/>
        </p:nvSpPr>
        <p:spPr>
          <a:xfrm>
            <a:off x="185760" y="5581800"/>
            <a:ext cx="931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更多免费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PPT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模板尽在：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我会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9640" y="692280"/>
            <a:ext cx="331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539640" y="40464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e81c06"/>
                </a:solidFill>
                <a:latin typeface="Arial"/>
                <a:ea typeface="隶书"/>
              </a:rPr>
              <a:t>卡卡王国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Picture 6" descr="2a28199bf6ed9e0afd7dc37a91_560"/>
          <p:cNvPicPr/>
          <p:nvPr/>
        </p:nvPicPr>
        <p:blipFill>
          <a:blip r:embed="rId1"/>
          <a:stretch/>
        </p:blipFill>
        <p:spPr>
          <a:xfrm>
            <a:off x="-104760" y="0"/>
            <a:ext cx="924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练   习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55640" y="2060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这篇课文主要讲述了卡卡国王用（    ）的事情。通过对课文的阅读，我们懂得了要（   ）和平、（   ）战争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u=1665423680,4132609922&amp;fm=0&amp;gp=0"/>
          <p:cNvPicPr/>
          <p:nvPr/>
        </p:nvPicPr>
        <p:blipFill>
          <a:blip r:embed="rId2"/>
          <a:stretch/>
        </p:blipFill>
        <p:spPr>
          <a:xfrm>
            <a:off x="7556400" y="189000"/>
            <a:ext cx="11923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omic Sans MS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b200"/>
                </a:solidFill>
                <a:uFillTx/>
                <a:latin typeface="Comic Sans MS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omic Sans MS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019E-1196-45FD-8F4C-8ED93EEC5CD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4" descr="162544_1313207635AH17"/>
          <p:cNvPicPr/>
          <p:nvPr/>
        </p:nvPicPr>
        <p:blipFill>
          <a:blip r:embed="rId1"/>
          <a:stretch/>
        </p:blipFill>
        <p:spPr>
          <a:xfrm>
            <a:off x="0" y="0"/>
            <a:ext cx="946800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2457331_090141967000_2"/>
          <p:cNvPicPr/>
          <p:nvPr/>
        </p:nvPicPr>
        <p:blipFill>
          <a:blip r:embed="rId1"/>
          <a:stretch/>
        </p:blipFill>
        <p:spPr>
          <a:xfrm>
            <a:off x="-249120" y="0"/>
            <a:ext cx="9574200" cy="710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cartoon_digital_art_drawings_wallpapers_24131_12"/>
          <p:cNvPicPr/>
          <p:nvPr/>
        </p:nvPicPr>
        <p:blipFill>
          <a:blip r:embed="rId2"/>
          <a:stretch/>
        </p:blipFill>
        <p:spPr>
          <a:xfrm>
            <a:off x="-465120" y="0"/>
            <a:ext cx="10077480" cy="73166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78240" y="189000"/>
            <a:ext cx="3792960" cy="12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自读要求</a:t>
            </a:r>
            <a:endParaRPr b="1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206280" y="1628640"/>
            <a:ext cx="87346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课文读通、读顺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圈出生字词语，多读几遍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讲了一个什么故事？请你用自己的话说说。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4211640" y="15080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Picture 2" descr="cartoon_digital_art_drawings_wallpapers_24131_12"/>
          <p:cNvPicPr/>
          <p:nvPr/>
        </p:nvPicPr>
        <p:blipFill>
          <a:blip r:embed="rId1"/>
          <a:stretch/>
        </p:blipFill>
        <p:spPr>
          <a:xfrm>
            <a:off x="-465120" y="-888840"/>
            <a:ext cx="10366200" cy="82054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81c06"/>
                </a:solidFill>
                <a:latin typeface="Comic Sans MS"/>
                <a:ea typeface="隶书"/>
              </a:rPr>
              <a:t>我会读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03360" y="1628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城堡     轰隆隆     地震      聋哑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召来     大臣       面授      糖果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降落伞   铅笔       橡皮      凡是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1773360"/>
            <a:ext cx="86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ǎo                  lōng lōng            zhèn           ló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zhào                chén                 shòu            tá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Jiàng            qiān                  xiàng                fá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10920" y="-168120"/>
            <a:ext cx="687060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主要内容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Comic Sans MS"/>
              </a:rPr>
              <a:t>讲述了卡卡国王在狂欢活动时使用大炮给人们撒放礼物的事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trips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2012011819335464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3"/>
          <p:cNvSpPr/>
          <p:nvPr/>
        </p:nvSpPr>
        <p:spPr>
          <a:xfrm>
            <a:off x="684360" y="1700280"/>
            <a:ext cx="845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课文，在书上作标记。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炮以前是用来干什么的？有怎样的威力？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卡国王将大炮掉头面向广场时，人们有什么表情？想些什么？人们是怎样的心情？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国王用大炮做什么？当时的情况是怎样的？你是从哪些地方感受到的？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95280" y="620640"/>
            <a:ext cx="3240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u=206381572,3938213331&amp;fm=21&amp;gp=0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it"/>
          <p:cNvPicPr/>
          <p:nvPr/>
        </p:nvPicPr>
        <p:blipFill>
          <a:blip r:embed="rId2"/>
          <a:stretch/>
        </p:blipFill>
        <p:spPr>
          <a:xfrm>
            <a:off x="539640" y="549360"/>
            <a:ext cx="8280360" cy="4895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u=57373819,1663351637&amp;fm=0&amp;gp=-8"/>
          <p:cNvPicPr/>
          <p:nvPr/>
        </p:nvPicPr>
        <p:blipFill>
          <a:blip r:embed="rId3"/>
          <a:stretch/>
        </p:blipFill>
        <p:spPr>
          <a:xfrm>
            <a:off x="324000" y="404640"/>
            <a:ext cx="8496000" cy="54864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1908000" y="5877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1c06"/>
                </a:solidFill>
                <a:latin typeface="Arial"/>
              </a:rPr>
              <a:t>这大炮曾经用来进行战争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239760"/>
            <a:ext cx="6870960" cy="1596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0000"/>
                </a:solidFill>
                <a:latin typeface="Comic Sans MS"/>
                <a:ea typeface="楷体_GB2312"/>
              </a:rPr>
              <a:t>理解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4360" y="1844280"/>
            <a:ext cx="769608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omic Sans MS"/>
              </a:rPr>
              <a:t>现在不打仗了，让大炮变成哑巴，该有多好！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7T04:52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55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