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ECF1-96D9-4774-B32B-4E4D9B26082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64C9-E9B3-4821-9AB1-BCD8275DEE28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D0B-2AD8-451B-BF4D-1CA7EE27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140-01EE-44F6-8C41-B8721A09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8CE-499C-470D-A5CD-EED8D179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760-A80F-43E6-8AA4-554513AB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8F8F-DD3D-4918-BD1C-9FBC55BB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804F-A734-4B70-994C-CFAFF22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B1A0-AB9A-477C-8EEA-CF63E65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C507-28A4-40B7-A9F8-21A485D7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FEB-F1E0-4ED5-B8EA-32AB85F0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E89-6E1C-4712-8895-7BF84762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56B8-D079-47F1-A0AD-E1F3C108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DD3-6D55-4615-A99F-EF9F9FC7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41C-9120-44EF-A77D-E376D01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E1F3-42A6-42E8-87D9-CD63AE20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104-585C-4FB1-A732-9CE6907D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C613-8FC8-4D90-A0C7-4411509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B977-B855-455D-922B-E7B3B805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5FD-C92A-443D-952F-48835B08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A49-C09E-43B3-8189-C07B41C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FF5-E612-41CE-AF6A-D95CB1F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948-9EF4-4366-B58E-24DBF1DE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027-7507-4A4B-BF10-A1683D0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379-EFAD-4309-9115-B2470EAC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3D2-9440-438F-93D6-3A83BAF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03C4-221B-42BD-A245-AADBCE4AFA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5C8-A30E-4340-A1F9-C026EA45DC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39640" y="62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湘教版 二年级 下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835280" y="2717640"/>
            <a:ext cx="53355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15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猜猜它是谁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7" name="Picture 6" descr="MCj04127660000[1]"/>
          <p:cNvPicPr/>
          <p:nvPr/>
        </p:nvPicPr>
        <p:blipFill>
          <a:blip r:embed="rId4"/>
          <a:stretch/>
        </p:blipFill>
        <p:spPr>
          <a:xfrm>
            <a:off x="7380360" y="4508640"/>
            <a:ext cx="944640" cy="1212840"/>
          </a:xfrm>
          <a:prstGeom prst="rect">
            <a:avLst/>
          </a:prstGeom>
          <a:ln w="0">
            <a:noFill/>
          </a:ln>
        </p:spPr>
      </p:pic>
      <p:sp>
        <p:nvSpPr>
          <p:cNvPr id="98" name="矩形 6"/>
          <p:cNvSpPr/>
          <p:nvPr/>
        </p:nvSpPr>
        <p:spPr>
          <a:xfrm>
            <a:off x="18968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987640" y="3500280"/>
            <a:ext cx="30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宋体"/>
              </a:rPr>
              <a:t>‘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宋体"/>
              </a:rPr>
              <a:t>’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84360" y="3500280"/>
            <a:ext cx="370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认识单引号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24000" y="2492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爸爸谁也不怕，就怕一个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小偷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’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啊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19280" y="4581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当我们在双引号里面还需要用引号时，就要用单引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539640" y="177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小明和爸爸的第二次对话</a:t>
            </a: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9640" y="270828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认为该怎样读呢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先自己心里想一想，自由读一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谁愿意读读小明说的话？注意要读得很神气，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小明帮爸爸想了个抓小偷的办法哦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611280" y="278136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警察叔叔能抓走小偷吗？谁来读爸爸说的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既然小偷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总是悄悄地来，悄悄地去，看不见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子，也听不到脚步声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么这句话要怎样读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呢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9640" y="177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小明和爸爸的第二次对话</a:t>
            </a: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177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小明和爸爸的第三次对话</a:t>
            </a: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84360" y="2708280"/>
            <a:ext cx="73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明听了爸爸的话，简直不敢相信，你从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词可以看出来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奇地睁大眼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请大家学着小明的样子看着老师好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00000" y="285264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爸爸告诉小明答案了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请齐读最后一段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9640" y="177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小明和爸爸的第三次对话</a:t>
            </a: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MCj0292252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779480" cy="17334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1"/>
          <p:cNvSpPr/>
          <p:nvPr/>
        </p:nvSpPr>
        <p:spPr>
          <a:xfrm>
            <a:off x="419040" y="387360"/>
            <a:ext cx="55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755640" y="19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小组讨论，解决问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4360" y="292428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这厉害的“小偷”偷走了我们什么“东西”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这厉害的“小偷”是谁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9" descr="MCj04205420000[1]"/>
          <p:cNvPicPr/>
          <p:nvPr/>
        </p:nvPicPr>
        <p:blipFill>
          <a:blip r:embed="rId1"/>
          <a:stretch/>
        </p:blipFill>
        <p:spPr>
          <a:xfrm>
            <a:off x="6659640" y="4292640"/>
            <a:ext cx="1633320" cy="127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1"/>
          <p:cNvSpPr txBox="1"/>
          <p:nvPr/>
        </p:nvSpPr>
        <p:spPr>
          <a:xfrm>
            <a:off x="1116000" y="5013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偷”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WordArt 12"/>
          <p:cNvSpPr txBox="1"/>
          <p:nvPr/>
        </p:nvSpPr>
        <p:spPr>
          <a:xfrm>
            <a:off x="3708360" y="4724280"/>
            <a:ext cx="2333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珍惜时间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684360" y="3284640"/>
            <a:ext cx="7467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一寸光阴一寸金，寸金难买寸光阴。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4" name="Picture 5" descr="MCj04295510000[1]"/>
          <p:cNvPicPr/>
          <p:nvPr/>
        </p:nvPicPr>
        <p:blipFill>
          <a:blip r:embed="rId1"/>
          <a:stretch/>
        </p:blipFill>
        <p:spPr>
          <a:xfrm>
            <a:off x="6659640" y="4076640"/>
            <a:ext cx="1824120" cy="1817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MCj04315330000[1]"/>
          <p:cNvPicPr/>
          <p:nvPr/>
        </p:nvPicPr>
        <p:blipFill>
          <a:blip r:embed="rId2"/>
          <a:stretch/>
        </p:blipFill>
        <p:spPr>
          <a:xfrm>
            <a:off x="468360" y="907920"/>
            <a:ext cx="158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拓展学习"/>
          <p:cNvPicPr/>
          <p:nvPr/>
        </p:nvPicPr>
        <p:blipFill>
          <a:blip r:embed="rId1"/>
          <a:stretch/>
        </p:blipFill>
        <p:spPr>
          <a:xfrm>
            <a:off x="684360" y="1125360"/>
            <a:ext cx="2303280" cy="568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900000" y="2492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后到课外书上、网上去找找有关时间的格言，抄下来背一背。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6" descr="MCj04190360000[1]"/>
          <p:cNvPicPr/>
          <p:nvPr/>
        </p:nvPicPr>
        <p:blipFill>
          <a:blip r:embed="rId2"/>
          <a:stretch/>
        </p:blipFill>
        <p:spPr>
          <a:xfrm>
            <a:off x="6948360" y="4365720"/>
            <a:ext cx="15433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A49C-940B-4F2E-A54A-C57DE1B8FB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11280" y="191628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认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一字，其中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伏、摇、舍、厉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识、绩、奇、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字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正确、流利地朗读课文，理解课文内容；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还是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写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领悟珍惜时间的道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981000"/>
            <a:ext cx="23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539640" y="907920"/>
            <a:ext cx="86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重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掌握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的音、形、义；正确、流利地朗读课文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难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明白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偷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谁，体会时间的宝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6845400" y="45705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116000" y="1700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1" descr="MCj04273570000[1]"/>
          <p:cNvPicPr/>
          <p:nvPr/>
        </p:nvPicPr>
        <p:blipFill>
          <a:blip r:embed="rId1"/>
          <a:stretch/>
        </p:blipFill>
        <p:spPr>
          <a:xfrm>
            <a:off x="5867280" y="3645000"/>
            <a:ext cx="2689200" cy="23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MCj04337970000[1]"/>
          <p:cNvPicPr/>
          <p:nvPr/>
        </p:nvPicPr>
        <p:blipFill>
          <a:blip r:embed="rId2"/>
          <a:stretch/>
        </p:blipFill>
        <p:spPr>
          <a:xfrm>
            <a:off x="4716360" y="1916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3"/>
          <p:cNvSpPr txBox="1"/>
          <p:nvPr/>
        </p:nvSpPr>
        <p:spPr>
          <a:xfrm>
            <a:off x="971640" y="2060640"/>
            <a:ext cx="37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猜猜它是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68360" y="1052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初读课文，整体感知</a:t>
            </a:r>
            <a:r>
              <a:rPr b="0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9640" y="27813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自己喜欢的方式读课文，读准字音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通句子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找出小明和爸爸说的话，并做上记号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170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自读提示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9" descr="MCj04212100000[1]"/>
          <p:cNvPicPr/>
          <p:nvPr/>
        </p:nvPicPr>
        <p:blipFill>
          <a:blip r:embed="rId1"/>
          <a:stretch/>
        </p:blipFill>
        <p:spPr>
          <a:xfrm>
            <a:off x="7780320" y="4581360"/>
            <a:ext cx="833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332000" y="292428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伏    摇   舍    厉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识    绩   奇    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76360" y="2565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132000" y="25653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á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71636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732720" y="25653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403280" y="4076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348000" y="4005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859280" y="39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44364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ē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9640" y="105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332000" y="2421000"/>
            <a:ext cx="6696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猜　 费　 懒 　拧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偷　 警　 察　 贪　 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105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32000" y="2060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ā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00360" y="20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è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92436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ǎ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332000" y="39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ō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556000" y="3933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ǐ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924360" y="39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219640" y="393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ā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372360" y="39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ǐ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148360" y="20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755640" y="2276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现在，请你和你的同桌合作分角色读小明和爸爸说的话，一个读小明说的话，一个读爸爸说的话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MCj00890000000[1]"/>
          <p:cNvPicPr/>
          <p:nvPr/>
        </p:nvPicPr>
        <p:blipFill>
          <a:blip r:embed="rId1"/>
          <a:stretch/>
        </p:blipFill>
        <p:spPr>
          <a:xfrm>
            <a:off x="5435640" y="3860640"/>
            <a:ext cx="3025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34936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怕妈妈说您懒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是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怕爷爷拧耳朵呢？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9640" y="10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360" y="414972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你们能用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还是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说一句话吗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5:46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56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