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9.gif" ContentType="image/gif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7ECD-9673-4F4D-B622-CC0E1E49A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EA51-717F-44A9-BFFE-1C96CCC5F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EFF-7050-475F-97B1-1A4AB1F6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FD1A-E1FE-46E9-B926-6ED486E9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A61-6EBF-4B8E-ACBC-3E494FF1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662-6623-433B-921D-7983E71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ADB-24C9-4120-BED0-7AAA7F49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547-DDB4-4E17-9EC4-F516F807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457C-CC2E-402A-858C-30637349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7A0-7A69-43E6-A0D4-3932EAE2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E34E-41C1-4AB9-95FA-4B079D3C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8DEE-5E5A-4850-8857-9F98E9DA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596A-B6E4-4EFC-A27D-F3F169C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4438-0BF6-4D14-B103-ED10A8BB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5A91-9CE2-48B5-BB74-7A3CBE4C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F88-0ABE-4242-A5AC-E93A9A9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C010-5176-492B-8090-6B0D8CD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468-2B53-4A78-A976-B631A251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D0E3-6D11-4704-9DB8-7B2DF79B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05EE-9123-4B5D-A9FD-DF3A98F3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3378-0071-4FB0-90F6-48796915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C6F02-C8BA-43EC-89C8-BC26C832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EBF7-8AB2-4478-BEBD-272C27E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ABB1-E128-4D2D-A0A6-C498C43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C18D-89B0-4F81-93C0-C632CFB2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E7D9-0468-4146-8936-8F8F7A47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7B4-25D2-43E5-878C-838A694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7B83A-E2EF-4893-94AA-3CAE2DAA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E735-31A9-4A2C-BD9B-DAAAA6B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9271-F76A-4520-B8AE-54D010EE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D6610-AF33-41F7-A12F-C6F50A4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C3091-E9D9-40F8-92B8-4727865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4C50-1A00-4835-9FA9-5AF13C5E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29F8-A02E-437A-B81D-50278ED3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85B0-12C8-45A7-8501-AEB12858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B401A-3BE1-42AA-B21C-784E8A7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17FF-2EFF-4F71-8464-FC44A8B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345-5D4C-4BF9-918F-E4B358B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56F6-4973-4807-A7E0-B7D3B367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0215-085D-44E8-A497-B0752FB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29E6-9F91-4165-8119-2FAFDFDE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A960-8176-4E54-A82C-EBDD547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D654-695B-4711-A39E-9AF19E3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2C7A-1561-41C9-8A8C-CEE7A9B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6AD1-E784-4870-8EE1-9232820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5B6C1-D385-4548-A0E2-AAAECA7D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50152-3DE4-431F-BDBE-61F25A2E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D64-C6D4-426E-80D4-F9AB320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CB7-6F4D-40D0-A9CA-75D671F4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6C7-C0FF-44CC-99D6-AAFEDCA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2FF-E60A-4EEF-A4DE-C970573D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F7B-AB7C-494A-BF9F-023EC77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7F1A-5C6A-404A-8640-0C253E479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EE42-FB3C-4A24-BE66-411C0DDDE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CA75-D914-476A-94B1-D6E6D916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D041-E424-4599-9A6D-348C1F6B4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0.jpeg"/><Relationship Id="rId3" Type="http://schemas.openxmlformats.org/officeDocument/2006/relationships/slide" Target="slide15.xml"/><Relationship Id="rId4" Type="http://schemas.openxmlformats.org/officeDocument/2006/relationships/image" Target="../media/image11.jpeg"/><Relationship Id="rId5" Type="http://schemas.openxmlformats.org/officeDocument/2006/relationships/slide" Target="slide16.xml"/><Relationship Id="rId6" Type="http://schemas.openxmlformats.org/officeDocument/2006/relationships/image" Target="../media/image12.jpeg"/><Relationship Id="rId7" Type="http://schemas.openxmlformats.org/officeDocument/2006/relationships/slide" Target="slide17.xml"/><Relationship Id="rId8" Type="http://schemas.openxmlformats.org/officeDocument/2006/relationships/image" Target="../media/image13.jpeg"/><Relationship Id="rId9" Type="http://schemas.openxmlformats.org/officeDocument/2006/relationships/slide" Target="slide20.xml"/><Relationship Id="rId10" Type="http://schemas.openxmlformats.org/officeDocument/2006/relationships/image" Target="../media/image14.gif"/><Relationship Id="rId11" Type="http://schemas.openxmlformats.org/officeDocument/2006/relationships/slide" Target="slide12.xml"/><Relationship Id="rId12" Type="http://schemas.openxmlformats.org/officeDocument/2006/relationships/image" Target="../media/image15.jpeg"/><Relationship Id="rId13" Type="http://schemas.openxmlformats.org/officeDocument/2006/relationships/slide" Target="slide19.xml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slide" Target="slide11.xm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11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1463760" y="1308240"/>
            <a:ext cx="6095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2060"/>
                </a:solidFill>
                <a:latin typeface="华文隶书"/>
                <a:ea typeface="华文隶书"/>
              </a:rPr>
              <a:t>春的消息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1766520" y="541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95280" y="1219320"/>
            <a:ext cx="8353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多音字组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ǎ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ī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ì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）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1066680" y="76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㈠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733920" y="1522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858000" y="2286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㈢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066680" y="29718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㈣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3886200" y="29718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㈤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934320" y="289548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㈥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5267147_220255002279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066680"/>
            <a:ext cx="2590560" cy="1752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067c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106668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200861305516998_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962520"/>
            <a:ext cx="2362320" cy="1600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15179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962520"/>
            <a:ext cx="2590560" cy="1676160"/>
          </a:xfrm>
          <a:prstGeom prst="rect">
            <a:avLst/>
          </a:prstGeom>
          <a:ln w="0">
            <a:noFill/>
          </a:ln>
        </p:spPr>
      </p:pic>
      <p:sp>
        <p:nvSpPr>
          <p:cNvPr id="216" name="圆角矩形 13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>
            <a:hlinkClick r:id="rId9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20090420100109"/>
          <p:cNvPicPr/>
          <p:nvPr/>
        </p:nvPicPr>
        <p:blipFill>
          <a:blip r:embed="rId10"/>
          <a:stretch/>
        </p:blipFill>
        <p:spPr>
          <a:xfrm>
            <a:off x="4572000" y="3971880"/>
            <a:ext cx="990720" cy="1496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b3508d132b4b7ccd6538dba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28600" y="10666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95880" y="3886200"/>
            <a:ext cx="2509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b3508d132b4b7ccd6538db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3505320" y="3260880"/>
            <a:ext cx="556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风，摇绿了树的枝条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漂白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了鸭的羽毛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盼望了整整一个冬天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你看，春天已经来到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962520" y="533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101213094093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71440" y="1218960"/>
            <a:ext cx="47242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谁是小诗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90920" y="182880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枝条绿了，羽毛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作家：风，摇绿了树的枝条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，漂白了鸭的羽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小诗人：风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染绿／荡漾／映出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895480" y="304920"/>
            <a:ext cx="6248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让我们换上春装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像小鸟换上新的羽毛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飞过树林，飞上山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到处有春天的欢笑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362320" y="4038120"/>
            <a:ext cx="5867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飞过（    ），飞过（    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505320" y="304920"/>
            <a:ext cx="5257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看到第一只蝴蝶飞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它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牵引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着我的双脚；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我高兴地捉住它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怜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地把它放掉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20080303_9d4f97f53cf9af2a9b2agft45VrnKhs2打发"/>
          <p:cNvPicPr/>
          <p:nvPr/>
        </p:nvPicPr>
        <p:blipFill>
          <a:blip r:embed="rId1"/>
          <a:stretch/>
        </p:blipFill>
        <p:spPr>
          <a:xfrm>
            <a:off x="7715160" y="39625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20080303_9d4f97f53cf9af2a9b2agft45VrnKhs2打发"/>
          <p:cNvPicPr/>
          <p:nvPr/>
        </p:nvPicPr>
        <p:blipFill>
          <a:blip r:embed="rId2"/>
          <a:stretch/>
        </p:blipFill>
        <p:spPr>
          <a:xfrm>
            <a:off x="8429760" y="41911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39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>
            <a:hlinkClick r:id="rId3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98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00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图片2333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53352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228600"/>
            <a:ext cx="47242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看到第一朵雏菊开放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我会禁不住欣喜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雀跃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小花朵，你还认得我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你看我又长高了多少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8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2971800" y="380880"/>
            <a:ext cx="69343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来到去年叶落的枝头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等待它吐出新的绿苞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再去唤醒</a:t>
            </a:r>
            <a:r>
              <a:rPr b="1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沉睡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的溪流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听它唱歌，和它一起奔跑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20090420100109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>
            <a:hlinkClick r:id="rId2" action="ppaction://hlinksldjump"/>
          </p:cNvPr>
          <p:cNvSpPr/>
          <p:nvPr/>
        </p:nvSpPr>
        <p:spPr>
          <a:xfrm>
            <a:off x="5105520" y="5692680"/>
            <a:ext cx="47242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2006111418751870"/>
          <p:cNvPicPr/>
          <p:nvPr/>
        </p:nvPicPr>
        <p:blipFill>
          <a:blip r:embed="rId3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828800" y="380880"/>
            <a:ext cx="78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走累了，我就躺在田野上，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头顶有明丽的太阳照耀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是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搔痒</a:t>
            </a: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了我的面颊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啊，身边又钻出嫩绿的小草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……</a:t>
            </a:r>
            <a:r>
              <a:rPr b="1" lang="en-US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6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52280" y="10666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什么意思吗？能说说你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1"/>
          <p:cNvSpPr/>
          <p:nvPr/>
        </p:nvSpPr>
        <p:spPr>
          <a:xfrm>
            <a:off x="6248520" y="609588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952880" y="5616720"/>
            <a:ext cx="47246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2143800" y="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１、积累描写春天的词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04920" y="838080"/>
            <a:ext cx="83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风拂面    春光明媚    春回大地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花烂漫    春雷滚滚    春雨绵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春暖花开    春意盎然    春色满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桃红柳绿    万紫千红    生机勃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2005930103356244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9292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积累描写春天的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28600" y="762120"/>
            <a:ext cx="33526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春晓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孟浩然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04920" y="1752480"/>
            <a:ext cx="2666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清明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杜牧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962520" y="1447920"/>
            <a:ext cx="4800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江畔独步寻花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杜甫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3962520" y="609480"/>
            <a:ext cx="4724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大林寺桃花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白居易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3962520" y="2209680"/>
            <a:ext cx="4800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惠崇春江晚景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苏轼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228600" y="2895480"/>
            <a:ext cx="3200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春日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朱熹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3962520" y="3048120"/>
            <a:ext cx="4800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游园不值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叶绍翁</a:t>
            </a:r>
            <a:r>
              <a:rPr b="1" lang="en-US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)</a:t>
            </a:r>
            <a:r>
              <a:rPr b="1" lang="en-US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0" y="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出江花红似火，春来江水绿如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忆江南 白居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乱花渐欲迷人眼，浅草才能没马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钱塘湖春行 白居易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间四月芳菲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寺桃花始盛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林寺桃花 白居易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街小雨润如酥，草色遥看近却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春小雨 韩 愈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6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5486400" y="556272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576360" y="45720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合适的词语填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     希望      愿望      失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实现两岸和平统一是海内外中国人的共同（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和家长都（      ）我们能健康成长，我们可不能让他们（      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们（     ）着能够快点长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008000" y="2616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愿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745080" y="33940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希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3600360" y="38401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失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217600" y="47624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盼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5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夜喜雨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雨知时节， 当春乃发生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风潜入夜， 润物细无声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野径云俱黑， 江船火独明。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看红湿处， 花重锦官城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228600" y="380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读读背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惠崇春江晚景 </a:t>
            </a:r>
            <a:r>
              <a:rPr b="1" lang="zh-CN" sz="4800" spc="-1" strike="noStrike">
                <a:solidFill>
                  <a:srgbClr val="002060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宋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苏轼</a:t>
            </a:r>
            <a:br>
              <a:rPr sz="4800"/>
            </a:br>
            <a:r>
              <a:rPr b="1" lang="zh-CN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竹外桃花三两枝，春江水暖鸭先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蒌蒿满地芦芽短，正是河豚欲上时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1828800" y="533520"/>
            <a:ext cx="41911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晓 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孟浩然</a:t>
            </a:r>
            <a:br>
              <a:rPr sz="4800"/>
            </a:b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春眠不觉晓，处处闻啼鸟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夜来风雨声，花落知多少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林寺桃花 </a:t>
            </a: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白居易</a:t>
            </a:r>
            <a:br>
              <a:rPr sz="4800"/>
            </a:b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间四月芳菲尽，山寺桃花始盛开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长恨春归无觅处，不知转入此中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1828800" y="533520"/>
            <a:ext cx="51814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江畔独步寻花 </a:t>
            </a: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杜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黄四娘家花满蹊，千朵万朵压枝低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留连戏蝶时时舞，自在娇莺恰恰啼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春 日 </a:t>
            </a:r>
            <a:r>
              <a:rPr b="1" lang="zh-CN" sz="4800" spc="-1" strike="noStrike">
                <a:solidFill>
                  <a:srgbClr val="fc04cd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南宋</a:t>
            </a:r>
            <a:r>
              <a:rPr b="1" lang="zh-CN" sz="2800" spc="-1" strike="noStrike">
                <a:solidFill>
                  <a:srgbClr val="fc04cd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朱熹</a:t>
            </a:r>
            <a:br>
              <a:rPr sz="4800"/>
            </a:b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胜日寻芳泗水滨，无边光景一时新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04cd"/>
                </a:solidFill>
                <a:latin typeface="楷体_GB2312"/>
                <a:ea typeface="楷体_GB2312"/>
              </a:rPr>
              <a:t>等闲识得东风面，万紫千红总是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想给小朋友们发一个“春天到来”的好消息，你帮她想一想：她可以怎么告诉我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3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1828800" y="533520"/>
            <a:ext cx="518148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游园不值 </a:t>
            </a: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南宋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叶绍翁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应怜屐齿印苍苔，小扣柴扉久不开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春色满园关不住，一支红杏出墙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1828800" y="533520"/>
            <a:ext cx="518148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绝句 </a:t>
            </a: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唐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杜甫</a:t>
            </a:r>
            <a:br>
              <a:rPr sz="4800"/>
            </a:b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两个</a:t>
            </a:r>
            <a:r>
              <a:rPr b="1" lang="zh-CN" sz="4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黄鹂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翠柳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一行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白鹭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天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窗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西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岭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秋</a:t>
            </a:r>
            <a:r>
              <a:rPr b="1" lang="zh-CN" sz="48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雪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门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东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吴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万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里</a:t>
            </a:r>
            <a:r>
              <a:rPr b="1" lang="zh-CN" sz="4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船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WordArt 6"/>
          <p:cNvSpPr txBox="1"/>
          <p:nvPr/>
        </p:nvSpPr>
        <p:spPr>
          <a:xfrm>
            <a:off x="2590920" y="23623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漂白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9" name="WordArt 13"/>
          <p:cNvSpPr txBox="1"/>
          <p:nvPr/>
        </p:nvSpPr>
        <p:spPr>
          <a:xfrm>
            <a:off x="2971800" y="220968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雏菊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0" name="WordArt 14"/>
          <p:cNvSpPr txBox="1"/>
          <p:nvPr/>
        </p:nvSpPr>
        <p:spPr>
          <a:xfrm>
            <a:off x="3048120" y="220968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照耀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2819520" y="23623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搔痒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2" name="WordArt 16"/>
          <p:cNvSpPr txBox="1"/>
          <p:nvPr/>
        </p:nvSpPr>
        <p:spPr>
          <a:xfrm>
            <a:off x="2666880" y="23623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面颊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6" dur="1" fill="hold"/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WordArt 5"/>
          <p:cNvSpPr txBox="1"/>
          <p:nvPr/>
        </p:nvSpPr>
        <p:spPr>
          <a:xfrm>
            <a:off x="2590920" y="23623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雀跃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WordArt 6"/>
          <p:cNvSpPr txBox="1"/>
          <p:nvPr/>
        </p:nvSpPr>
        <p:spPr>
          <a:xfrm>
            <a:off x="2590920" y="27432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欣喜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8" name="WordArt 7"/>
          <p:cNvSpPr txBox="1"/>
          <p:nvPr/>
        </p:nvSpPr>
        <p:spPr>
          <a:xfrm>
            <a:off x="3276720" y="25146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捕捉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WordArt 8"/>
          <p:cNvSpPr txBox="1"/>
          <p:nvPr/>
        </p:nvSpPr>
        <p:spPr>
          <a:xfrm>
            <a:off x="2895480" y="27432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牵引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2666880" y="266688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换取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1" name="WordArt 10"/>
          <p:cNvSpPr txBox="1"/>
          <p:nvPr/>
        </p:nvSpPr>
        <p:spPr>
          <a:xfrm>
            <a:off x="2743200" y="25146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吐露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2" name="WordArt 11"/>
          <p:cNvSpPr txBox="1"/>
          <p:nvPr/>
        </p:nvSpPr>
        <p:spPr>
          <a:xfrm>
            <a:off x="2895480" y="266688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唤醒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WordArt 12"/>
          <p:cNvSpPr txBox="1"/>
          <p:nvPr/>
        </p:nvSpPr>
        <p:spPr>
          <a:xfrm>
            <a:off x="2971800" y="25909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奔走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4" name="WordArt 13"/>
          <p:cNvSpPr txBox="1"/>
          <p:nvPr/>
        </p:nvSpPr>
        <p:spPr>
          <a:xfrm>
            <a:off x="2438280" y="251460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劳累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5" name="WordArt 14"/>
          <p:cNvSpPr txBox="1"/>
          <p:nvPr/>
        </p:nvSpPr>
        <p:spPr>
          <a:xfrm>
            <a:off x="2514600" y="2590920"/>
            <a:ext cx="3886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9999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钻出</a:t>
            </a:r>
            <a:endParaRPr b="1" lang="en-US" sz="1800" spc="1" strike="noStrike">
              <a:ln w="25560">
                <a:solidFill>
                  <a:srgbClr val="009999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0" dur="1" fill="hold"/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1859400" y="98100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比一比，组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1601640" y="1619280"/>
            <a:ext cx="18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篷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蓬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841640" y="1619280"/>
            <a:ext cx="18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絮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（　　　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8"/>
          <p:cNvGrpSpPr/>
          <p:nvPr/>
        </p:nvGrpSpPr>
        <p:grpSpPr>
          <a:xfrm>
            <a:off x="1479960" y="3141720"/>
            <a:ext cx="6325920" cy="1974600"/>
            <a:chOff x="1479960" y="3141720"/>
            <a:chExt cx="6325920" cy="1974600"/>
          </a:xfrm>
        </p:grpSpPr>
        <p:sp>
          <p:nvSpPr>
            <p:cNvPr id="313" name="Rectangle 9"/>
            <p:cNvSpPr/>
            <p:nvPr/>
          </p:nvSpPr>
          <p:spPr>
            <a:xfrm>
              <a:off x="3460320" y="3859920"/>
              <a:ext cx="179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雨丝细细的，柔柔的，像花絮一般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1479960" y="3141720"/>
              <a:ext cx="271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照样子，写比喻句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4901040" y="37162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﹒</a:t>
              </a:r>
              <a:endParaRPr b="1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1541160" y="4595760"/>
              <a:ext cx="626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____________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圆角矩形 12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08000" y="21744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841-94E6-4131-9FA7-1C2FCB6AAA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u=3969059133,3857815048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510000" y="1077840"/>
            <a:ext cx="5334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金波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生，大学教授，著名诗人，儿童文学作家，评论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林中的鸟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歌善舞的文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等诗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部，诗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首以及散文、童话、文学评论等数百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品获几十次全国性大奖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获得国际安徒生奖提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金波"/>
          <p:cNvPicPr/>
          <p:nvPr/>
        </p:nvPicPr>
        <p:blipFill>
          <a:blip r:embed="rId1"/>
          <a:stretch/>
        </p:blipFill>
        <p:spPr>
          <a:xfrm>
            <a:off x="152280" y="15228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金波诗集"/>
          <p:cNvPicPr/>
          <p:nvPr/>
        </p:nvPicPr>
        <p:blipFill>
          <a:blip r:embed="rId2"/>
          <a:stretch/>
        </p:blipFill>
        <p:spPr>
          <a:xfrm>
            <a:off x="228600" y="2286000"/>
            <a:ext cx="1860480" cy="2724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jinboshiji"/>
          <p:cNvPicPr/>
          <p:nvPr/>
        </p:nvPicPr>
        <p:blipFill>
          <a:blip r:embed="rId3"/>
          <a:stretch/>
        </p:blipFill>
        <p:spPr>
          <a:xfrm>
            <a:off x="838080" y="3505320"/>
            <a:ext cx="2511720" cy="3047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2666880" y="219240"/>
            <a:ext cx="6172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把小朋友们的好主意让一位诗人写成了一首诗来传达“春的消息”。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286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由读诗，遇到不认识的字借助拼音读正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用各种形式理解文中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雀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搔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词语可以结合诗中的具体语境、生活经验和动作来理解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疑问的地方做上记号。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1440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读一读课文，看看谁带来了春的消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5"/>
          <p:cNvSpPr/>
          <p:nvPr/>
        </p:nvSpPr>
        <p:spPr>
          <a:xfrm>
            <a:off x="4191120" y="5257800"/>
            <a:ext cx="464796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809880" y="52578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8"/>
          <p:cNvSpPr/>
          <p:nvPr/>
        </p:nvSpPr>
        <p:spPr>
          <a:xfrm>
            <a:off x="838080" y="304920"/>
            <a:ext cx="7620120" cy="454068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371600" y="457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盼望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牵引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371600" y="1600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雏菊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欣喜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不住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371600" y="25146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唤醒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奔跑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耀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搔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371600" y="356544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雀跃    劳累    面颊     山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圆角矩形 7"/>
          <p:cNvSpPr/>
          <p:nvPr/>
        </p:nvSpPr>
        <p:spPr>
          <a:xfrm>
            <a:off x="6248520" y="6172200"/>
            <a:ext cx="259056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952880" y="5692680"/>
            <a:ext cx="47246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27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13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