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CF92-0D14-4B1C-AE75-56B5FA21E1C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E41-D13C-472C-B5C1-D653A3D434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8D8-5FF6-476B-9D62-71764857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2B9-34BB-4FBF-A793-F34C685E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5C3-4AA0-4132-8A82-38BA6BCC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B71-B432-4CB3-8983-B202F028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B8E7-7B77-4804-BADC-72DF2763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1AAD-6DC2-402D-89F0-32479BA4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B71-64BF-47FF-8CA0-90D16751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B95A-0092-445F-BDD3-A348A88C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08B-202A-4E88-B0B7-0A2B16A9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0EC0-2A27-4F5B-9DBD-CE0D8F28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64AA-C9D1-45F1-88FC-5A392B79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AFF-341F-4C86-AB7F-5CAD7333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0FB-C989-4996-9D8E-B7D4923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6EF-032A-4545-B3C5-D24583B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42EB-2739-42E5-B214-4CB1C1FF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A54-7081-408E-9EDC-603FE5A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9A8E-12B6-440F-98A8-7DFEECC8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F6F9-7613-4BCE-9FD5-8CDB074B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06BC-A9F2-4127-B430-BA39DA50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8096A-9A11-4131-A7C9-21FDA126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A67F-6A59-42DB-BE40-7AAEBB4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7871-6305-48D8-B472-51AB3501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FF2-749D-49ED-8065-562D48D3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7B5B-4F09-45A0-9F99-B438EFF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B893-9B11-4953-86DB-F979705F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0ABFA-BD74-41A1-A6DF-12CD754A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7A05-851A-43DC-BD25-7E866A2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776F2-1382-475E-B327-A96263D1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81B82-B192-462D-9E4D-1F5FB401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9C07-64D8-4217-835A-A4025C01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2DA-6426-42A8-A7B8-C8BFD94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A78-0FB9-4241-B4D4-FD92B4C1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F6A-C04A-46C2-8CEC-A933D7D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CE6-D867-4EE8-9A85-6E50E6D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6B1-6FD6-40FC-A202-515EBF1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11F-5300-4655-9783-846FC78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9E0-78BD-42A7-96EE-D63124D6A3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EC48-B335-4865-8C83-6B9D2DF1710A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BCB-167B-4217-9F2C-32561587C332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36196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的消息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838080" y="10414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隶书"/>
                <a:ea typeface="华文隶书"/>
              </a:rPr>
              <a:t>湘教版三年级语文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1674360" y="61214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蝶2"/>
          <p:cNvPicPr/>
          <p:nvPr/>
        </p:nvPicPr>
        <p:blipFill>
          <a:blip r:embed="rId1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把小朋友们的好主意让一位诗人写成了一首诗来传达“春的消息”。我们来读一读，看看谁能收到这些消息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3352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新  牵  怜  禁   跃   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唤  累  躺  顶   耀   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819520" y="60948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生字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春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pring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品悟诗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再读诗歌，边读边想，读完课文后，你感受到的春的消息在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交流读后的感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抓住自己观点的支撑点，通过感情朗读来表达出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节中春的消息是指春风、春水、树枝、水鸭；抓住“盼望”“整整”体会孩子们渴望和欣喜的感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中春的消息是指换上春装；“飞过”“飞上”表达了孩子们寻找春天的欢快和急切之情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节中春的消息是指蝴蝶飞舞；抓住“爱怜”体会孩子们对自然万物的爱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四节中春的消息是指雏菊开放；抓住“雀跃”体会孩子长高的自豪和欣喜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五节中春的消息是指吐出绿苞、溪水唱歌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六节中春的消息是指太阳照耀、被嫩草搔痒的面颊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6840" y="579240"/>
            <a:ext cx="83818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拓展延伸，积累实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关于春的消息还有很多很多，只要你做一个细心观察的孩子，你一定能发现的更多！去找一找相关描写春天的儿歌、古诗、歌曲读一读、背一背、唱一唱。也可以自己动手画一画，剪一剪美丽的春天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积累诗歌中描写的生动的词语或句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2005930103356244"/>
          <p:cNvPicPr/>
          <p:nvPr/>
        </p:nvPicPr>
        <p:blipFill>
          <a:blip r:embed="rId1"/>
          <a:stretch/>
        </p:blipFill>
        <p:spPr>
          <a:xfrm>
            <a:off x="0" y="3240000"/>
            <a:ext cx="9144000" cy="361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1073520" y="349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积累描写春天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685800"/>
            <a:ext cx="830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风拂面    春光明媚    春回大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花烂漫    春雷滚滚    春雨绵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春暖花开    春意盎然    春色满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黑体"/>
              </a:rPr>
              <a:t>桃红柳绿    万紫千红    生机勃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hua"/>
          <p:cNvPicPr/>
          <p:nvPr/>
        </p:nvPicPr>
        <p:blipFill>
          <a:blip r:embed="rId1"/>
          <a:stretch/>
        </p:blipFill>
        <p:spPr>
          <a:xfrm>
            <a:off x="0" y="0"/>
            <a:ext cx="9144000" cy="6370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828800" y="533520"/>
            <a:ext cx="41911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晓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孟浩然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眠不觉晓，处处闻啼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夜来风雨声，花落知多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4572000"/>
            <a:ext cx="8839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近四十年来，结集出版的有诗歌、童话、散文、幼儿文学、文学评论以及诗词歌曲集四十余种，选集有《金波儿童诗选》《金波儿童诗集》《金波童话》《金波儿歌》《金波作品精选》等。作品获中国作家协会第一、二、三届全国优秀儿童文学奖，全国第一、二届幼儿图书奖，第二届冰心儿童图书新作奖大奖，第四届宋庆龄儿童文学奖等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被推荐为国际安徒生奖候选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金波"/>
          <p:cNvPicPr/>
          <p:nvPr/>
        </p:nvPicPr>
        <p:blipFill>
          <a:blip r:embed="rId2"/>
          <a:stretch/>
        </p:blipFill>
        <p:spPr>
          <a:xfrm>
            <a:off x="228600" y="228600"/>
            <a:ext cx="4876920" cy="41655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5105520" y="7524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波 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生于北京，祖籍河北冀县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考入北京师范学院中文系。读书期间，开始发表作品。毕业后留校任教，先后在中文系、音乐系授课。现为首都师范大学教授，中国作家协会儿童文学委员会委员，北京作家协会儿童文学创作委员会主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943600" y="152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u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1828800" y="533520"/>
            <a:ext cx="518148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绝句 </a:t>
            </a:r>
            <a:r>
              <a:rPr b="1" lang="en-US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唐 </a:t>
            </a:r>
            <a:r>
              <a:rPr b="1" lang="en-US" sz="2800" spc="-1" strike="noStrike">
                <a:solidFill>
                  <a:srgbClr val="9900ff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杜甫</a:t>
            </a:r>
            <a:br>
              <a:rPr sz="4800"/>
            </a:b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两个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鹂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鸣</a:t>
            </a:r>
            <a:r>
              <a:rPr b="1" lang="zh-CN" sz="48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翠柳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一行</a:t>
            </a:r>
            <a:r>
              <a:rPr b="1" lang="zh-CN" sz="4800" spc="-1" strike="noStrike">
                <a:solidFill>
                  <a:srgbClr val="ffcf01"/>
                </a:solidFill>
                <a:latin typeface="楷体_GB2312"/>
                <a:ea typeface="楷体_GB2312"/>
              </a:rPr>
              <a:t>白鹭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上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青天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窗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含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西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岭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千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秋</a:t>
            </a:r>
            <a:r>
              <a:rPr b="1" lang="zh-CN" sz="48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雪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门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东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吴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万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里</a:t>
            </a:r>
            <a:r>
              <a:rPr b="1" lang="zh-CN" sz="48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船</a:t>
            </a:r>
            <a:r>
              <a:rPr b="1" lang="zh-CN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。</a:t>
            </a:r>
            <a:r>
              <a:rPr b="1" lang="en-US" sz="4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无标题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743200" y="19051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黑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F0D9-6720-49B8-9D6B-8CA195D8D2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br>
              <a:rPr sz="44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本课生字，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、漂白、牵引、爱怜、雏菊、禁不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词语的意思。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正确、流利、有感情的朗读全诗，背诵诗歌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朗读诗歌，增强对诗歌的理解，提高想象力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2514600" y="2362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ccff99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ccff99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685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你们知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是什么意思呢？能说说你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消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理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200610210257402794823"/>
          <p:cNvPicPr/>
          <p:nvPr/>
        </p:nvPicPr>
        <p:blipFill>
          <a:blip r:embed="rId1"/>
          <a:stretch/>
        </p:blipFill>
        <p:spPr>
          <a:xfrm>
            <a:off x="2057400" y="1752480"/>
            <a:ext cx="4495680" cy="347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创设情景，激发兴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姑娘就要来了，她想给小朋友们发一个春天到来的好消息，你帮她想一想：春姑娘可以怎么告诉我们这个好消息呢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"/>
          <p:cNvSpPr/>
          <p:nvPr/>
        </p:nvSpPr>
        <p:spPr>
          <a:xfrm>
            <a:off x="2282760" y="5394240"/>
            <a:ext cx="57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2007092406422124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705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鸟2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蝶"/>
          <p:cNvPicPr/>
          <p:nvPr/>
        </p:nvPicPr>
        <p:blipFill>
          <a:blip r:embed="rId1"/>
          <a:stretch/>
        </p:blipFill>
        <p:spPr>
          <a:xfrm>
            <a:off x="0" y="0"/>
            <a:ext cx="9144000" cy="714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2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0:03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