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D2C6-028E-456F-974D-45164C03D6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DE35-1A3C-4F56-9081-3653DD2F62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026-D1C8-41F9-9A93-13BA4933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EC3-AD91-4575-BD08-C17F83F0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53E-756A-4CF4-A158-EAF063D1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C05-8F44-4895-9D2B-7686C1FC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F15-CBCB-49B5-B48A-E7BE2AAC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669-3B85-40A6-A1AD-D7C4D07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146-71F8-4138-95F3-AD4C896D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0C2-8FA2-4CDE-831F-9F46A19D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1F7-6EB4-4DE2-84A3-AB4A4101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4AB-E1DE-4B97-AC23-9E08626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685-C119-4BC8-81AB-1AACCFB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ECF-88E1-460F-9147-08E309F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0806-3A1B-48DC-8F7F-21737CBCD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Desk9_11_1848_2009081920351016106_1791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4000" y="2060640"/>
            <a:ext cx="61196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穿红裙子的老师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745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F8E2-6925-4161-9A40-27145C6FD4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66d5bbec3b16020c78f05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611280" y="1700280"/>
            <a:ext cx="6983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能正确认读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正确书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打扮、捞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多种形式的朗读，感受乡村孩子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红裙子老师的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12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1f0e2437b8f4e2f4d1a2d36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84360" y="1413000"/>
            <a:ext cx="71276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重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抓住重点词句，感情孩子们对老师的喜爱之情，感知人物个性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难点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领会孩子们喜爱老师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2a53b0fbe08a70054e4aea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322280" y="18590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同学们，在教过你的老师中，谁给你的印象最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00000" y="836640"/>
            <a:ext cx="34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激趣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8fb738292e54fdd998250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539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自由朗读，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98900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穿红裙子的老师有哪些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与众不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这些娃儿，魂都叫学校给抓去了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句话怎样理解？你从中体会到了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中几处写到了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红裙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请找出来读一读，交流自己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2008121009577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68360" y="1125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独立阅读，自主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26920" y="2060640"/>
            <a:ext cx="734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穿红裙子的老师有这些与众不同的地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课堂上，让同学们跟着她进入课文的情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课外，将班会课、活动课开展得有声有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而且放弃进城的机会，带来锅碗瓢盆，愿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扎根乡村教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9ef0dc83950dcdfc6c8119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116000" y="2997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因为穿红裙子的老师的到来，学校生活丰富多彩了，孩子们原先逃学是因为校园生活太单调，现在有趣味多了，所以孩子们也爱上学，也爱学习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1125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独立阅读，自主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042920" y="1916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这些娃儿，魂都叫学校给抓去了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句话怎样理解？你从中体会到了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68360" y="1125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独立阅读，自主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11280" y="184464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中几处写到了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红裙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请找出来读一读，交流自己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5640" y="285264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文中很多地方写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裙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有的地方是指那位老师穿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裙子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她一头乌黑的长发，穿一条好看的红裙子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的地方是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位年轻漂亮的老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想看到那红裙子又飘回来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而课文最后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孩子们围着她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裙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里表面上是指老师穿的红裙子，实际上是指老师那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颗热爱教育事业，扎根乡村的火红的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20094270825527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26920" y="263700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、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会对老师说些什么呢？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39640" y="1125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启发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826920" y="474984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5:58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5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