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D44D-3D7E-4F80-9605-FB8270AF70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208-A416-4C81-B306-989595979D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065-8ECE-4B15-8CE8-E50F4F39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3B5-A4FE-4375-89C5-F876EB8E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37C-5E6E-43E3-98AE-38350152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06E-DD44-4B47-BE98-3BB7B196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6C0-64E1-4BD6-8316-A0022FF3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F5D-1D60-46ED-9E86-2A38C15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B34-EB97-4EAF-800A-64702A32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11C-9EF3-4EEC-BF44-F1AD1BB3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91D-6EF3-4C6B-BDE3-94F72C4B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65E-A89C-449C-8E74-BBF31EA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1BF-1C84-421D-BB39-551DB53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6D3-CF61-4EA9-90AA-B84C6CB6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7EE5-7A1E-42C8-B1FF-B479F069E9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719821_14061831232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3132000" y="1200240"/>
            <a:ext cx="4392720" cy="21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春日</a:t>
            </a:r>
            <a:endParaRPr b="1" lang="en-US" sz="9600" spc="-1" strike="noStrike">
              <a:ln w="0">
                <a:noFill/>
              </a:ln>
              <a:solidFill>
                <a:srgbClr val="ff00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54440" y="4356000"/>
            <a:ext cx="596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66680" y="344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529640" y="59166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979640" y="5445000"/>
            <a:ext cx="53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无边光景一时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780000" y="476280"/>
            <a:ext cx="48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等闲识得东风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12800" y="69228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万紫千红总是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康桥朗诵作品：春日 免费科科通（朱熹）.wmv" descr="康桥朗诵作品：春日 免费科科通（朱熹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830160" y="189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5440" y="1152360"/>
            <a:ext cx="784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课后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继续收集描写春天的古诗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0D5-F436-4E07-AF97-87EF07BB3B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11640" y="471600"/>
            <a:ext cx="32414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"/>
              </a:rPr>
              <a:t>诗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73080" y="29401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假如我是诗人，我要……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3"/>
          <p:cNvSpPr/>
          <p:nvPr/>
        </p:nvSpPr>
        <p:spPr>
          <a:xfrm>
            <a:off x="2684520" y="47941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 rot="412800">
            <a:off x="5364000" y="19159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651640" y="2205000"/>
            <a:ext cx="458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850080" y="1197000"/>
            <a:ext cx="458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084720" y="2421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419640" y="400536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924360" y="4797360"/>
            <a:ext cx="458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9313711_15230109633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22440" y="-360"/>
            <a:ext cx="47480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朱熹（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130—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南宋著名的哲学家，教育家，诗人。世称朱子，是继孔子、孟子以来最杰出的弘扬儒家的大师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扫大街"/>
          <p:cNvPicPr/>
          <p:nvPr/>
        </p:nvPicPr>
        <p:blipFill>
          <a:blip r:embed="rId1"/>
          <a:stretch/>
        </p:blipFill>
        <p:spPr>
          <a:xfrm>
            <a:off x="0" y="0"/>
            <a:ext cx="4211640" cy="4681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1332000" y="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92360" y="549360"/>
            <a:ext cx="21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按要求读文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213372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自由朗读古诗四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读准字音，读出节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81080" y="406440"/>
            <a:ext cx="87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请同学们默读古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结合课文后面及老师给的注释，思考：从哪些词中可以体会到诗人的感情及春天的美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把你的想法与同桌进行交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95280" y="18900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无边：广阔无垠，无边无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光景：风光、风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一时新：焕然一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等闲：随意，不经意，很容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识得：看出，认识，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东风面：春风的面容、样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213372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你从哪个词中体会到了诗人怎样的心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3162240" y="4708440"/>
            <a:ext cx="55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928880" y="5427720"/>
            <a:ext cx="59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"/>
              </a:rPr>
              <a:t>胜日寻芳泗水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6:01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32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