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3A5-FAFE-4F58-8049-CE62109B78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188-A0F0-4DCC-A1DF-4E17E33203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7A1-C5FE-4002-8EB4-35AB542E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3F4-06D6-49B5-8C37-2170CD6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A19-9DBB-41F8-900A-4F0BC04C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495-49E2-4B1E-88E4-1756694C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72F-2A82-4453-A03F-0EFB4D85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A0B-4CA7-494D-B665-28C6A725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FFB-45F0-4B0E-B6BC-4BCF2FAB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9FB-E685-4FF5-8968-1AB3AA0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7D9-6691-402E-970F-68E4739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CF5-931F-48C0-A073-180FEE4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6AF-2DA9-499B-BEAC-80CCE283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B3A-8187-41C7-B980-D1E23D6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4916-E197-40EA-9F9E-22CD8F5C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547640" y="2133720"/>
            <a:ext cx="633744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城市的明眸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49" name="Picture 6" descr="MCj02171200000[1]"/>
          <p:cNvPicPr/>
          <p:nvPr/>
        </p:nvPicPr>
        <p:blipFill>
          <a:blip r:embed="rId1"/>
          <a:stretch/>
        </p:blipFill>
        <p:spPr>
          <a:xfrm>
            <a:off x="7885080" y="5157720"/>
            <a:ext cx="976320" cy="93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56000" y="5661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00280" y="5229360"/>
            <a:ext cx="458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827000" y="524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1763640" y="2565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627280" y="2276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涛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青岛东海路雕塑"/>
          <p:cNvPicPr/>
          <p:nvPr/>
        </p:nvPicPr>
        <p:blipFill>
          <a:blip r:embed="rId1"/>
          <a:stretch/>
        </p:blipFill>
        <p:spPr>
          <a:xfrm>
            <a:off x="4859280" y="2276640"/>
            <a:ext cx="3273480" cy="400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3397320" y="3284640"/>
            <a:ext cx="1253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天地间”青铜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763640" y="2565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627280" y="2276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涛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975240" y="3716280"/>
            <a:ext cx="48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世纪长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世纪长廊"/>
          <p:cNvPicPr/>
          <p:nvPr/>
        </p:nvPicPr>
        <p:blipFill>
          <a:blip r:embed="rId1"/>
          <a:stretch/>
        </p:blipFill>
        <p:spPr>
          <a:xfrm>
            <a:off x="1979640" y="2781360"/>
            <a:ext cx="5472000" cy="343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详写和略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写：是指对直接表现中心意思的主要材料加以具体的叙述和描写，放开笔墨，写得比较充分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略写：是指对表现中心意思有关但不是直接表现中心意思的材料，少用笔墨，进行概括式的叙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830160" y="1268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42920" y="2492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首尾自然段，说说“城市的明眸”指的是什么？为什么说它是城市的明眸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MCj04206400000[1]"/>
          <p:cNvPicPr/>
          <p:nvPr/>
        </p:nvPicPr>
        <p:blipFill>
          <a:blip r:embed="rId1"/>
          <a:stretch/>
        </p:blipFill>
        <p:spPr>
          <a:xfrm>
            <a:off x="6300720" y="4941720"/>
            <a:ext cx="182736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是首尾呼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尾呼应：就是指文章的开头和结尾在内容上互相关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相照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面讲的内容，后面要做出相应的交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像把一团面揉成长条，然后两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拎，又把它们团到一起，给人以浑然一体之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684360" y="11667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16000" y="2276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完课文，你是否能像作者那样介绍一下家乡里耶的景色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Cj04198760000[1]"/>
          <p:cNvPicPr/>
          <p:nvPr/>
        </p:nvPicPr>
        <p:blipFill>
          <a:blip r:embed="rId1"/>
          <a:stretch/>
        </p:blipFill>
        <p:spPr>
          <a:xfrm>
            <a:off x="7093080" y="5013360"/>
            <a:ext cx="1514520" cy="103032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2451240" y="484812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美丽的家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里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90792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我的家乡在湖南湘西里耶，她拥有“中国历史文化名镇”的美誉，是一个很美丽的地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每逢家乡赶集的日子，上起重庆石堤、下到保靖碗米破，方圆几十里远的人们都会乘船赴这里赶集，大大小小的船只在酉水河上来来往往，划过平静的河面，形成一波又一波无声的水痕，久久之后才听得见水波拍打河岸的声音，多么妙趣啊！你看码头边，木船、铁壳船“一”字排开，宛如漂在水面的柳叶起伏摇曳。这时候，汽笛声，柴油机声，上上下下的脚步声早已连成一片，汇成了一曲悦耳的土家调子，仿佛在欢迎四面八方的来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沿着码头阶梯而上，你便走上了酉水河堤。河堤犹如一条巨人的臂膀，保护着里耶古城。堤面大约宽四五米，是平坦的沥青路。早晨，人们在这里晨跑锻炼；中午，游人在这里玩赏；傍晚，家乡人更喜欢在这里散步，一排排，接二连三，多么像移动的栅栏啊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河堤的内侧，是闻名遐迩的明清历史古街。青石板铺路、古色古香的吊脚楼和别具一格的防火墙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……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会叫你目不暇接、赞不绝口。古城里，当铺、“西兰卡普”加工坊、客栈应有尽有，你若见了，准会情不自禁地停下脚步，一饱眼福。在这座古城里，还拍摄过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血色湘西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湘西喋血记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两部电视剧呢！如果你留心的话，肯定能从电视屏幕里欣赏到里耶古城美丽的容颜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顺着石板街向北走，便来到震惊全国的战国古城遗址，这可是国家重点文物保护遗址。遗址被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4000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多块木板圈围，全长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500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多米，每一块木板都是仿制秦简的样式做出来的，上面全用秦隶体写满了“九九乘法口诀”，形成非常壮观的“秦简文化墙”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除此之外，我的家乡里耶还有空中草原八面山、里耶秦简博物馆、畅销国内外的纽荷尔脐橙生产基地比耳等等，你若想来，我的家乡时刻欢迎你哟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258920" y="1341360"/>
            <a:ext cx="2017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6804000" y="134136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2124000" y="4869000"/>
            <a:ext cx="1152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356000" y="5157720"/>
            <a:ext cx="180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6040" y="54936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乡的风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我的家乡是一个名不见经传的小山村。小山村里青山碧水，五彩的花儿遍地开放，仿佛一张美丽的油画。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站在村头放眼望去，青山一座挨着一座，错落有致，连绵不断，就一条巨龙盘旋在家乡肥沃的土地上。山上耸立着高大的松树，柏树。走进林中，呼吸着新鲜的空气，真叫人舒心啊！田野里，花草吮吸着甘露，沐浴着阳光，密密麻麻，铺展而开，美丽极了。山山冈上、田野里，甚至屋前屋后，大大小小的鸟儿自由的飞来飞去，有时还会从天空落下来，站在你的跟前，左歪歪，右歪歪瞅着你，惹你好笑。它们的欢歌倩影，给家乡增添了无穷生机。 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山脚下是一块很大的椭圆形庄稼地。这里四季都有丰收，春天收油菜，夏天收玉米，秋天收稻谷，冬天收芋头。农民伯伯管这块地叫”聚宝盆“。瞧，农民伯伯常年如一日，又在那里忙开了：他们有的挥动手中的锄头翻土，有的笑盈盈地收割成熟的农作物，有的像服侍小宝宝一样照料着嫩小的菜苗，仿佛在说：“菜苗啊菜苗，你快快长大吧，我们可要靠你卖钱啊！”要是遇上大丰收，农民伯伯一高兴，还能听见他们唱山歌呢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在聚宝盆的北边，一条小河缓缓地流过村寨，把村寨一分为二，河上架起了一座石桥，成了两寨紧密联系的纽带。桥下河水清澈见底，流进了不远处的深潭。深潭平如镜子，天空映在上面，蓝蓝的；云朵映在上面，白白的；树木映照在上面，绿绿的。鱼儿成群结队地游来游去，白胡子爷爷、黑胡子爷爷带着孙子在河边垂钓，整天和鱼儿乐在一起。 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家乡的风景啊，是那么迷人，那么温暖人心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18728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755640" y="2133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1547640" y="1916280"/>
            <a:ext cx="2737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5508720" y="1916280"/>
            <a:ext cx="3166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187280" y="5445000"/>
            <a:ext cx="3745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B32D-368F-4891-B777-20B38119E9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青岛4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075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492360" y="549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青岛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09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92360" y="549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334656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348000" y="549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青岛6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0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青岛火炬"/>
          <p:cNvPicPr/>
          <p:nvPr/>
        </p:nvPicPr>
        <p:blipFill>
          <a:blip r:embed="rId1"/>
          <a:stretch/>
        </p:blipFill>
        <p:spPr>
          <a:xfrm>
            <a:off x="826920" y="1120680"/>
            <a:ext cx="7490160" cy="5187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549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26920" y="1071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71640" y="2276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默读课文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自然段并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课文主要介绍了那些雕塑园区，写得最详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的是哪一个雕塑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4187300000[1]"/>
          <p:cNvPicPr/>
          <p:nvPr/>
        </p:nvPicPr>
        <p:blipFill>
          <a:blip r:embed="rId1"/>
          <a:stretch/>
        </p:blipFill>
        <p:spPr>
          <a:xfrm>
            <a:off x="7164360" y="4653000"/>
            <a:ext cx="158436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2492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文豪的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老舍雕像"/>
          <p:cNvPicPr/>
          <p:nvPr/>
        </p:nvPicPr>
        <p:blipFill>
          <a:blip r:embed="rId1"/>
          <a:srcRect l="0" t="0" r="-392" b="0"/>
          <a:stretch/>
        </p:blipFill>
        <p:spPr>
          <a:xfrm>
            <a:off x="663480" y="3068640"/>
            <a:ext cx="239580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沈从文雕像"/>
          <p:cNvPicPr/>
          <p:nvPr/>
        </p:nvPicPr>
        <p:blipFill>
          <a:blip r:embed="rId2"/>
          <a:stretch/>
        </p:blipFill>
        <p:spPr>
          <a:xfrm>
            <a:off x="3635280" y="3068640"/>
            <a:ext cx="2089080" cy="30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闻一多雕像"/>
          <p:cNvPicPr/>
          <p:nvPr/>
        </p:nvPicPr>
        <p:blipFill>
          <a:blip r:embed="rId3"/>
          <a:stretch/>
        </p:blipFill>
        <p:spPr>
          <a:xfrm>
            <a:off x="6443640" y="306864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3136320" y="3716280"/>
            <a:ext cx="45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沈从文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11960" y="371628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老舍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917680" y="3645000"/>
            <a:ext cx="4546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闻一多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00000" y="2565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风、海韵、海趣、海涛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青岛6"/>
          <p:cNvPicPr/>
          <p:nvPr/>
        </p:nvPicPr>
        <p:blipFill>
          <a:blip r:embed="rId1"/>
          <a:stretch/>
        </p:blipFill>
        <p:spPr>
          <a:xfrm>
            <a:off x="1619280" y="3284640"/>
            <a:ext cx="4535280" cy="30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海韵园"/>
          <p:cNvPicPr/>
          <p:nvPr/>
        </p:nvPicPr>
        <p:blipFill>
          <a:blip r:embed="rId1"/>
          <a:stretch/>
        </p:blipFill>
        <p:spPr>
          <a:xfrm>
            <a:off x="3203640" y="2997360"/>
            <a:ext cx="3889440" cy="223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4284720" y="5373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海韵园景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2:57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5:05Z</dcterms:modified>
  <cp:revision>6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