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C9851-7B9C-417F-B50F-9F7BEFDBFB2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F2A65-2C4D-4C88-8D69-5BDA5EAAE1D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9480-2E20-4B4C-8E3D-B248EB526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65B3-B1BF-451E-8995-8ECD57999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CDAA-23B4-4CCC-BE93-F8E170DA5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8287-169A-4F46-A84B-29D87BEC7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6194-D4C1-4965-83D5-6EB8F5E70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75B5-FCD4-4D9D-B932-125FA2B28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1F27-ED17-4BA0-B227-9D79D133D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B335-31D8-419C-8021-1F83E4164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1104-6F8C-422C-ADFE-586097C41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A7A7-28A3-4F3A-807F-24E046FD9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CEB7-A9A7-4A60-8F00-9A8E7A5F5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A327-3E96-4CE2-A0D0-7673CB3CC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a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01366537091787"/>
          <p:cNvPicPr/>
          <p:nvPr/>
        </p:nvPicPr>
        <p:blipFill>
          <a:blip r:embed="rId2"/>
          <a:stretch/>
        </p:blipFill>
        <p:spPr>
          <a:xfrm>
            <a:off x="2819520" y="152280"/>
            <a:ext cx="3009960" cy="3812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41366537091787"/>
          <p:cNvPicPr/>
          <p:nvPr/>
        </p:nvPicPr>
        <p:blipFill>
          <a:blip r:embed="rId3"/>
          <a:stretch/>
        </p:blipFill>
        <p:spPr>
          <a:xfrm>
            <a:off x="2590920" y="0"/>
            <a:ext cx="4038480" cy="533520"/>
          </a:xfrm>
          <a:prstGeom prst="rect">
            <a:avLst/>
          </a:prstGeom>
          <a:ln w="0">
            <a:noFill/>
          </a:ln>
        </p:spPr>
      </p:pic>
      <p:pic>
        <p:nvPicPr>
          <p:cNvPr id="2" name="Picture 4" descr="51366537091787"/>
          <p:cNvPicPr/>
          <p:nvPr/>
        </p:nvPicPr>
        <p:blipFill>
          <a:blip r:embed="rId4"/>
          <a:stretch/>
        </p:blipFill>
        <p:spPr>
          <a:xfrm>
            <a:off x="0" y="0"/>
            <a:ext cx="1463760" cy="314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6120" indent="-6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6120" indent="-6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6120" indent="-6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6120" indent="-6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3959D-CB19-4EA2-B9C7-A4A9F7D2438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2"/>
          <p:cNvSpPr txBox="1"/>
          <p:nvPr/>
        </p:nvSpPr>
        <p:spPr>
          <a:xfrm>
            <a:off x="2627280" y="2421000"/>
            <a:ext cx="360036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华文中宋"/>
              </a:rPr>
              <a:t>尝试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52" name="矩形 3"/>
          <p:cNvSpPr/>
          <p:nvPr/>
        </p:nvSpPr>
        <p:spPr>
          <a:xfrm>
            <a:off x="1753920" y="595008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1187280" y="3214800"/>
            <a:ext cx="758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隶书"/>
                <a:ea typeface="隶书"/>
              </a:rPr>
              <a:t>    </a:t>
            </a:r>
            <a:r>
              <a:rPr b="1" lang="zh-CN" sz="3600" spc="-1" strike="noStrike">
                <a:solidFill>
                  <a:srgbClr val="ff3399"/>
                </a:solidFill>
                <a:latin typeface="隶书"/>
                <a:ea typeface="隶书"/>
              </a:rPr>
              <a:t>大部分人在一生中都不会一帆风顺，难免会遭受挫折和不幸。但是成功者和失败者非常重要的一个区别就是，失败者总是把挫折当成失败，成功者则是从不言败，从来不会丧失战斗的勇气</a:t>
            </a:r>
            <a:r>
              <a:rPr b="1" lang="zh-CN" sz="3600" spc="-1" strike="noStrike">
                <a:solidFill>
                  <a:srgbClr val="ff3399"/>
                </a:solidFill>
                <a:latin typeface="隶书"/>
                <a:ea typeface="隶书"/>
              </a:rPr>
              <a:t>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4802400" y="1700280"/>
            <a:ext cx="56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隶书"/>
              </a:rPr>
              <a:t>结合生活经验，谈自身感受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1187280" y="4034520"/>
            <a:ext cx="745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你的生活中曾经遇到过挫折和失败吗？自己是如何面对失败的，你的身边有成功的例子吗？向大家说一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WordArt 2"/>
          <p:cNvSpPr txBox="1"/>
          <p:nvPr/>
        </p:nvSpPr>
        <p:spPr>
          <a:xfrm>
            <a:off x="1547640" y="2133720"/>
            <a:ext cx="5904000" cy="189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宋体"/>
              </a:rPr>
              <a:t>你有什么收获？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3059280" y="692280"/>
            <a:ext cx="352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课堂小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1187280" y="1557360"/>
            <a:ext cx="665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1042920" y="2206800"/>
            <a:ext cx="73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人的一生，难免会有挫折和失败，</a:t>
            </a:r>
            <a:r>
              <a:rPr b="1" lang="zh-CN" sz="4000" spc="-1" strike="noStrike">
                <a:solidFill>
                  <a:srgbClr val="990000"/>
                </a:solidFill>
                <a:latin typeface="Times New Roman"/>
                <a:ea typeface="黑体"/>
              </a:rPr>
              <a:t>只有勇敢乐观的去面对困难，不断尝试，才会成功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4141440" y="4851360"/>
            <a:ext cx="100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世上无难事，只怕有心人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1"/>
          <p:cNvSpPr/>
          <p:nvPr/>
        </p:nvSpPr>
        <p:spPr>
          <a:xfrm>
            <a:off x="793800" y="6029280"/>
            <a:ext cx="579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539640" y="2708280"/>
            <a:ext cx="8064720" cy="21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不经历风雨怎能见彩虹，不经历失败哪会有成功。老师相信大家学完文章一定有很大的收获，课后写在你的小本本上。 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a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i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i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i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i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i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i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i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i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i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i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i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i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i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i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i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i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i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i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i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i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i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i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i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i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i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i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i="1" lang="zh-CN" sz="1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</a:t>
            </a:r>
            <a:r>
              <a:rPr b="0" i="1" lang="en-US" sz="1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i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i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i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i="1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i="1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i="1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i="1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i="1" lang="zh-CN" sz="12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i="1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i="1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i="1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i="1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i="1" lang="zh-CN" sz="12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i="1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i="1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i="1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i="1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i="1" lang="zh-CN" sz="12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i="1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i="1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 u="sng">
                <a:solidFill>
                  <a:srgbClr val="ccccff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i="1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i="1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i="1" lang="zh-CN" sz="1200" spc="-1" strike="noStrike" u="sng">
                <a:solidFill>
                  <a:srgbClr val="ccccff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i="1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i="1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i="1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i="1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 u="sng">
                <a:solidFill>
                  <a:srgbClr val="ccccff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i="1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i="1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i="1" lang="zh-CN" sz="1200" spc="-1" strike="noStrike" u="sng">
                <a:solidFill>
                  <a:srgbClr val="ccccff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i="1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i="1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 u="sng">
                <a:solidFill>
                  <a:srgbClr val="ccccff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i="1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i="1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i="1" lang="zh-CN" sz="1200" spc="-1" strike="noStrike" u="sng">
                <a:solidFill>
                  <a:srgbClr val="ccccff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i="1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i="1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 u="sng">
                <a:solidFill>
                  <a:srgbClr val="ccccff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i="1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i="1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i="1" lang="zh-CN" sz="1200" spc="-1" strike="noStrike" u="sng">
                <a:solidFill>
                  <a:srgbClr val="ccccff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i="1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i="1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 u="sng">
                <a:solidFill>
                  <a:srgbClr val="ccccff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i="1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i="1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i="1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i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i="1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i="1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i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i="1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i="1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i="1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i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i="1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i="1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i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i="1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i="1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i="1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i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i="1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i="1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i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i="1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i="1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i="1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i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i="1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i="1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04847-8728-49F7-9355-C169F855E1F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2123640" y="1484280"/>
            <a:ext cx="6335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欧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洲　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侵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略　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顽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强　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凶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恶　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隐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蔽　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蜘蛛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　成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功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　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稍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微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遭到　寂静　悬挂　莫大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赢得　不甘心　阴雨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绵绵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灰心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丧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气     寡不敌众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826920" y="1915920"/>
            <a:ext cx="77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33cc"/>
                </a:solidFill>
                <a:latin typeface="黑体"/>
              </a:rPr>
              <a:t>课文讲了一件什么事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1403280" y="979920"/>
            <a:ext cx="33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隶书"/>
                <a:ea typeface="黑体"/>
              </a:rPr>
              <a:t>思考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525600" y="3068640"/>
            <a:ext cx="81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古时候，苏格兰国王布鲁斯带领人民顽强地抵抗敌人的侵略，连续六次都失败了，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只好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躲进山林里。他看到蜘蛛七次织网成功的经过后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，很受鼓舞，于是，和敌人第七次作战，终于取得了胜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1341360" y="1152360"/>
            <a:ext cx="3741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合作探究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900000" y="33346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默读课文，找出文中描写蜘蛛织网的句子，用横线画出来，小组内交流一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7"/>
          <p:cNvSpPr/>
          <p:nvPr/>
        </p:nvSpPr>
        <p:spPr>
          <a:xfrm>
            <a:off x="250920" y="20415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cc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cc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cc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cc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cc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cc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cc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cc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cc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cc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cc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cc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cc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cc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cc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cc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cc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cc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cc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cc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cc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cc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cc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cc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cc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cc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cc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cc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cc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cc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cc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cc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cc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cc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cc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cc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cc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cc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cc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cc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cc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cc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cc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cc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cc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cc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cc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cc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340000" y="117360"/>
            <a:ext cx="6624720" cy="659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6480" indent="-6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　　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它试了一次，失败了；</a:t>
            </a:r>
            <a:r>
              <a:rPr b="1" lang="zh-CN" sz="3600" spc="-1" strike="noStrike" u="sng">
                <a:solidFill>
                  <a:srgbClr val="ff66ff"/>
                </a:solidFill>
                <a:uFillTx/>
                <a:latin typeface="黑体"/>
                <a:ea typeface="黑体"/>
              </a:rPr>
              <a:t>又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试第二次，</a:t>
            </a:r>
            <a:r>
              <a:rPr b="1" lang="zh-CN" sz="3600" spc="-1" strike="noStrike" u="sng">
                <a:solidFill>
                  <a:srgbClr val="ff66ff"/>
                </a:solidFill>
                <a:uFillTx/>
                <a:latin typeface="黑体"/>
                <a:ea typeface="黑体"/>
              </a:rPr>
              <a:t>又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失败了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……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它试到第六次，</a:t>
            </a:r>
            <a:r>
              <a:rPr b="1" lang="zh-CN" sz="3600" spc="-1" strike="noStrike" u="sng">
                <a:solidFill>
                  <a:srgbClr val="ff66ff"/>
                </a:solidFill>
                <a:uFillTx/>
                <a:latin typeface="黑体"/>
                <a:ea typeface="黑体"/>
              </a:rPr>
              <a:t>还是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没成功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4" marL="6480" indent="-6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4" marL="6480" indent="-6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　　可是那蜘蛛好像</a:t>
            </a:r>
            <a:r>
              <a:rPr b="1" lang="zh-CN" sz="3600" spc="-1" strike="noStrike" u="sng">
                <a:solidFill>
                  <a:srgbClr val="ff66ff"/>
                </a:solidFill>
                <a:uFillTx/>
                <a:latin typeface="黑体"/>
                <a:ea typeface="黑体"/>
              </a:rPr>
              <a:t>并不甘心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自己的失败。稍微停了停，</a:t>
            </a:r>
            <a:r>
              <a:rPr b="1" lang="zh-CN" sz="3600" spc="-1" strike="noStrike" u="sng">
                <a:solidFill>
                  <a:srgbClr val="ff66ff"/>
                </a:solidFill>
                <a:uFillTx/>
                <a:latin typeface="黑体"/>
                <a:ea typeface="黑体"/>
              </a:rPr>
              <a:t>又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小心地试着第七次向对面的墙荡去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4" marL="6480" indent="-6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4" marL="6480" indent="-6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　　蜘蛛这次</a:t>
            </a:r>
            <a:r>
              <a:rPr b="1" lang="zh-CN" sz="3600" spc="-1" strike="noStrike" u="sng">
                <a:solidFill>
                  <a:srgbClr val="ff66ff"/>
                </a:solidFill>
                <a:uFillTx/>
                <a:latin typeface="黑体"/>
                <a:ea typeface="黑体"/>
              </a:rPr>
              <a:t>终于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成功了！它把闪亮的丝从这面墙挂到了对面墙上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2" name="Picture 4" descr="401366537091787"/>
          <p:cNvPicPr/>
          <p:nvPr/>
        </p:nvPicPr>
        <p:blipFill>
          <a:blip r:embed="rId1"/>
          <a:stretch/>
        </p:blipFill>
        <p:spPr>
          <a:xfrm>
            <a:off x="0" y="0"/>
            <a:ext cx="2381400" cy="314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431366537091787"/>
          <p:cNvPicPr/>
          <p:nvPr/>
        </p:nvPicPr>
        <p:blipFill>
          <a:blip r:embed="rId1"/>
          <a:stretch/>
        </p:blipFill>
        <p:spPr>
          <a:xfrm>
            <a:off x="-36360" y="-27000"/>
            <a:ext cx="9218520" cy="69105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2097720" y="4581360"/>
            <a:ext cx="5118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思考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蜘蛛结网成功的最大秘诀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1042920" y="2276640"/>
            <a:ext cx="802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想一想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国王布鲁斯看到蜘蛛织网成功后，会怎么想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042920" y="980640"/>
            <a:ext cx="727416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5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　　　</a:t>
            </a:r>
            <a:r>
              <a:rPr b="1" i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布鲁斯受到了莫大的鼓舞，</a:t>
            </a:r>
            <a:r>
              <a:rPr b="1" i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猛地</a:t>
            </a:r>
            <a:r>
              <a:rPr b="1" i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站起来，</a:t>
            </a:r>
            <a:r>
              <a:rPr b="1" i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喊道</a:t>
            </a:r>
            <a:r>
              <a:rPr b="1" i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：“我也要试第七次！”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4000" y="1557360"/>
            <a:ext cx="828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他感到</a:t>
            </a:r>
            <a:r>
              <a:rPr b="1" i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灰心丧气</a:t>
            </a:r>
            <a:r>
              <a:rPr b="1" i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对这场战争，他几乎</a:t>
            </a:r>
            <a:r>
              <a:rPr b="1" i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失去了信心</a:t>
            </a:r>
            <a:r>
              <a:rPr b="1" i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布鲁斯</a:t>
            </a:r>
            <a:r>
              <a:rPr b="1" i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轻轻地叹口气</a:t>
            </a:r>
            <a:r>
              <a:rPr b="1" i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i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悲观地摇了摇头</a:t>
            </a:r>
            <a:r>
              <a:rPr b="1" i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布鲁斯受到了莫大的鼓舞，</a:t>
            </a:r>
            <a:r>
              <a:rPr b="1" i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猛地</a:t>
            </a:r>
            <a:r>
              <a:rPr b="1" i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站起来，</a:t>
            </a:r>
            <a:r>
              <a:rPr b="1" i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喊道</a:t>
            </a:r>
            <a:r>
              <a:rPr b="1" i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：“我也要试第七次！”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8:44:22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08:17Z</dcterms:modified>
  <cp:revision>10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