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gif" ContentType="image/gif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7E7F-5F37-4F6B-BCED-81C6DB13B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A592-74CB-44FF-A6DB-345657CB1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4059222_160708268000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s.sucaiw.com/images.asp?url=http://py.sucaiw.com/&#21160;&#30011;&#31867;/&#19968;&#33324;&#21160;&#30011;/&#9733;&#20799;&#31461;//&amp;pic=gif&amp;num=356&amp;ext=.gif&amp;picall=388" TargetMode="Externa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58"/>
          <p:cNvPicPr/>
          <p:nvPr/>
        </p:nvPicPr>
        <p:blipFill>
          <a:blip r:embed="rId1"/>
          <a:stretch/>
        </p:blipFill>
        <p:spPr>
          <a:xfrm>
            <a:off x="-3240" y="-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1835280" y="765000"/>
            <a:ext cx="54007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c00000"/>
                </a:solidFill>
                <a:latin typeface="华文隶书"/>
                <a:ea typeface="华文隶书"/>
              </a:rPr>
              <a:t>《</a:t>
            </a:r>
            <a:r>
              <a:rPr b="1" lang="zh-CN" sz="11500" spc="-1" strike="noStrike">
                <a:solidFill>
                  <a:srgbClr val="c00000"/>
                </a:solidFill>
                <a:latin typeface="华文隶书"/>
                <a:ea typeface="华文隶书"/>
              </a:rPr>
              <a:t>春晓</a:t>
            </a:r>
            <a:r>
              <a:rPr b="1" lang="en-US" sz="11500" spc="-1" strike="noStrike">
                <a:solidFill>
                  <a:srgbClr val="c00000"/>
                </a:solidFill>
                <a:latin typeface="华文隶书"/>
                <a:ea typeface="华文隶书"/>
              </a:rPr>
              <a:t>》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"/>
          <p:cNvPicPr/>
          <p:nvPr/>
        </p:nvPicPr>
        <p:blipFill>
          <a:blip r:embed="rId2"/>
          <a:stretch/>
        </p:blipFill>
        <p:spPr>
          <a:xfrm>
            <a:off x="1498680" y="2708280"/>
            <a:ext cx="6146640" cy="3097080"/>
          </a:xfrm>
          <a:prstGeom prst="rect">
            <a:avLst/>
          </a:prstGeom>
          <a:ln w="0">
            <a:noFill/>
          </a:ln>
        </p:spPr>
      </p:pic>
      <p:sp>
        <p:nvSpPr>
          <p:cNvPr id="47" name="矩形 5"/>
          <p:cNvSpPr/>
          <p:nvPr/>
        </p:nvSpPr>
        <p:spPr>
          <a:xfrm>
            <a:off x="1783440" y="6021360"/>
            <a:ext cx="55771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95280" y="620640"/>
            <a:ext cx="468000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仿宋_GB2312"/>
              </a:rPr>
              <a:t>春 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　　　　　孟浩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春 眠 不 觉 晓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处 处 闻 啼 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夜 来 风 雨 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花 落 知 多 少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仿宋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5220720" y="2338560"/>
            <a:ext cx="274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思考：这首诗表达了作者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么样的思想感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612400" y="3500280"/>
            <a:ext cx="231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这首诗表达了作者热爱春天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珍惜春光的思想感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Snap27"/>
          <p:cNvPicPr/>
          <p:nvPr/>
        </p:nvPicPr>
        <p:blipFill>
          <a:blip r:embed="rId1"/>
          <a:stretch/>
        </p:blipFill>
        <p:spPr>
          <a:xfrm>
            <a:off x="4579920" y="1484280"/>
            <a:ext cx="4427640" cy="41767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395280" y="620640"/>
            <a:ext cx="468000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仿宋_GB2312"/>
              </a:rPr>
              <a:t>春 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　　　　　孟浩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春 眠 不 觉 晓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处 处 闻 啼 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夜 来 风 雨 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花 落 知 多 少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仿宋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"/>
                            </p:stCondLst>
                            <p:childTnLst>
                              <p:par>
                                <p:cTn id="18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835280" y="620640"/>
            <a:ext cx="5256000" cy="49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仿宋_GB2312"/>
              </a:rPr>
              <a:t>春 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春 眠 </a:t>
            </a: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／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不 觉 晓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处 处 </a:t>
            </a: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／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闻 啼 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夜 来 </a:t>
            </a: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／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风 雨 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花 落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仿宋_GB2312"/>
              </a:rPr>
              <a:t> </a:t>
            </a: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／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知 多 少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仿宋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997440" y="186696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997440" y="263700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997080" y="3429000"/>
            <a:ext cx="18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.   .  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3997080" y="4221000"/>
            <a:ext cx="18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.   .  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"/>
                            </p:stCondLst>
                            <p:childTnLst>
                              <p:par>
                                <p:cTn id="19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"/>
                            </p:stCondLst>
                            <p:childTnLst>
                              <p:par>
                                <p:cTn id="20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"/>
                            </p:stCondLst>
                            <p:childTnLst>
                              <p:par>
                                <p:cTn id="20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3886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楷体_GB2312"/>
              </a:rPr>
              <a:t>近义词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61760" y="1267920"/>
            <a:ext cx="704988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闻</a:t>
            </a:r>
            <a:r>
              <a:rPr b="1" lang="en-US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啼 </a:t>
            </a:r>
            <a:r>
              <a:rPr b="1" lang="en-US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处</a:t>
            </a:r>
            <a:r>
              <a:rPr b="1" lang="en-US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4788000" y="1473120"/>
            <a:ext cx="320040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听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叫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到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5"/>
          <p:cNvSpPr/>
          <p:nvPr/>
        </p:nvSpPr>
        <p:spPr>
          <a:xfrm>
            <a:off x="4067280" y="429264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2160" y="333000"/>
            <a:ext cx="32763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ff"/>
                </a:solidFill>
                <a:latin typeface="Arial"/>
                <a:ea typeface="楷体_GB2312"/>
              </a:rPr>
              <a:t>反义词</a:t>
            </a:r>
            <a:r>
              <a:rPr b="0" lang="zh-CN" sz="6600" spc="-1" strike="noStrike">
                <a:solidFill>
                  <a:srgbClr val="0066ff"/>
                </a:solidFill>
                <a:latin typeface="Arial"/>
                <a:ea typeface="楷体_GB2312"/>
              </a:rPr>
              <a:t>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91520" cy="362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多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---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来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---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579840" y="1916280"/>
            <a:ext cx="2514600" cy="30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经典楷体简"/>
              </a:rPr>
              <a:t>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经典楷体简"/>
              </a:rPr>
              <a:t>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"/>
          <p:cNvSpPr/>
          <p:nvPr/>
        </p:nvSpPr>
        <p:spPr>
          <a:xfrm>
            <a:off x="2300400" y="5321160"/>
            <a:ext cx="54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3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3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4059222_16070826800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2195640" y="765000"/>
            <a:ext cx="51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0" y="1413000"/>
            <a:ext cx="9144000" cy="45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补全诗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春（ ）不觉晓，处处（ ）（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夜来风（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声，花落（ ）多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出下面三个字在古诗中的意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晓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眠：      闻：      啼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组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晓（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          眠（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         夜（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闻（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          啼（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         春（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0">
            <a:hlinkClick r:id="" action="ppaction://hlinkshowjump?jump=firstslide"/>
          </p:cNvPr>
          <p:cNvSpPr/>
          <p:nvPr/>
        </p:nvSpPr>
        <p:spPr>
          <a:xfrm>
            <a:off x="7524720" y="6093000"/>
            <a:ext cx="1368360" cy="504720"/>
          </a:xfrm>
          <a:custGeom>
            <a:avLst/>
            <a:gdLst>
              <a:gd name="textAreaLeft" fmla="*/ 32400 w 1368360"/>
              <a:gd name="textAreaRight" fmla="*/ 1335960 w 1368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58534" h="21600">
                <a:moveTo>
                  <a:pt x="0" y="0"/>
                </a:moveTo>
                <a:lnTo>
                  <a:pt x="58534" y="0"/>
                </a:lnTo>
                <a:lnTo>
                  <a:pt x="58534" y="21600"/>
                </a:lnTo>
                <a:lnTo>
                  <a:pt x="0" y="21600"/>
                </a:lnTo>
                <a:close/>
              </a:path>
              <a:path fill="lightenLess" w="58534" h="21600">
                <a:moveTo>
                  <a:pt x="0" y="0"/>
                </a:moveTo>
                <a:lnTo>
                  <a:pt x="58534" y="0"/>
                </a:lnTo>
                <a:lnTo>
                  <a:pt x="57134" y="1400"/>
                </a:lnTo>
                <a:lnTo>
                  <a:pt x="1400" y="1400"/>
                </a:lnTo>
                <a:close/>
              </a:path>
              <a:path fill="darken" w="58534" h="21600">
                <a:moveTo>
                  <a:pt x="58534" y="0"/>
                </a:moveTo>
                <a:lnTo>
                  <a:pt x="58534" y="21600"/>
                </a:lnTo>
                <a:lnTo>
                  <a:pt x="57134" y="20200"/>
                </a:lnTo>
                <a:lnTo>
                  <a:pt x="57134" y="1400"/>
                </a:lnTo>
                <a:close/>
              </a:path>
              <a:path fill="darkenLess" w="58534" h="21600">
                <a:moveTo>
                  <a:pt x="58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134" y="20200"/>
                </a:lnTo>
                <a:close/>
              </a:path>
              <a:path fill="lighten" w="58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返回首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1">
            <a:hlinkClick r:id="rId2" action="ppaction://hlinksldjump"/>
          </p:cNvPr>
          <p:cNvSpPr/>
          <p:nvPr/>
        </p:nvSpPr>
        <p:spPr>
          <a:xfrm>
            <a:off x="6372360" y="609300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作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47720" y="1989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140080" y="1989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5867280" y="1989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0"/>
          <p:cNvSpPr/>
          <p:nvPr/>
        </p:nvSpPr>
        <p:spPr>
          <a:xfrm>
            <a:off x="3051000" y="2565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4932360" y="2565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3617640" y="386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睡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4"/>
          <p:cNvSpPr/>
          <p:nvPr/>
        </p:nvSpPr>
        <p:spPr>
          <a:xfrm>
            <a:off x="5003640" y="386064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听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5"/>
          <p:cNvSpPr/>
          <p:nvPr/>
        </p:nvSpPr>
        <p:spPr>
          <a:xfrm>
            <a:off x="6516720" y="3860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6"/>
          <p:cNvSpPr/>
          <p:nvPr/>
        </p:nvSpPr>
        <p:spPr>
          <a:xfrm>
            <a:off x="1187280" y="4941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知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7"/>
          <p:cNvSpPr/>
          <p:nvPr/>
        </p:nvSpPr>
        <p:spPr>
          <a:xfrm>
            <a:off x="4427640" y="4941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睡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8"/>
          <p:cNvSpPr/>
          <p:nvPr/>
        </p:nvSpPr>
        <p:spPr>
          <a:xfrm>
            <a:off x="7451640" y="4941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夜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9"/>
          <p:cNvSpPr/>
          <p:nvPr/>
        </p:nvSpPr>
        <p:spPr>
          <a:xfrm>
            <a:off x="1187280" y="5516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新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0"/>
          <p:cNvSpPr/>
          <p:nvPr/>
        </p:nvSpPr>
        <p:spPr>
          <a:xfrm>
            <a:off x="4427640" y="5516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啼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1"/>
          <p:cNvSpPr/>
          <p:nvPr/>
        </p:nvSpPr>
        <p:spPr>
          <a:xfrm>
            <a:off x="7451640" y="5516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春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2"/>
          <p:cNvSpPr/>
          <p:nvPr/>
        </p:nvSpPr>
        <p:spPr>
          <a:xfrm>
            <a:off x="1979640" y="386064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天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330000" y="1773360"/>
            <a:ext cx="1750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作业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背诵古诗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84AE-E451-4F6D-8E1F-B3781F2CAA9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4059222_16070826800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826920" y="907920"/>
            <a:ext cx="8101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  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孟浩然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眠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 觉 晓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 处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闻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啼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鸟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夜 来 风 雨 声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 落 知 多 少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小学语文(古诗词)01"/>
          <p:cNvPicPr/>
          <p:nvPr/>
        </p:nvPicPr>
        <p:blipFill>
          <a:blip r:embed="rId2"/>
          <a:stretch/>
        </p:blipFill>
        <p:spPr>
          <a:xfrm>
            <a:off x="826920" y="692280"/>
            <a:ext cx="1600200" cy="434880"/>
          </a:xfrm>
          <a:prstGeom prst="rect">
            <a:avLst/>
          </a:prstGeom>
          <a:ln w="0">
            <a:noFill/>
          </a:ln>
        </p:spPr>
      </p:pic>
      <p:pic>
        <p:nvPicPr>
          <p:cNvPr id="51" name="春晓 - 古诗朗诵.mp3" descr=""/>
          <p:cNvPicPr/>
          <p:nvPr/>
        </p:nvPicPr>
        <p:blipFill>
          <a:blip r:embed="rId3"/>
          <a:stretch/>
        </p:blipFill>
        <p:spPr>
          <a:xfrm>
            <a:off x="17928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38700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2484360" y="981000"/>
            <a:ext cx="615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孟浩然：唐代诗人。汉族，襄州襄阳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湖北襄樊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。字浩然，世称「孟襄阳」，与另一位山水田园诗人王维合称为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孟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以写田园山水诗为主。因他未曾入仕，又称之为孟山人。襄阳南门外背山临江之涧南园有他的故居。曾隐居鹿门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d089b9864128617267096ea8"/>
          <p:cNvPicPr/>
          <p:nvPr/>
        </p:nvPicPr>
        <p:blipFill>
          <a:blip r:embed="rId1"/>
          <a:stretch/>
        </p:blipFill>
        <p:spPr>
          <a:xfrm>
            <a:off x="395280" y="2492280"/>
            <a:ext cx="1739880" cy="1873440"/>
          </a:xfrm>
          <a:prstGeom prst="rect">
            <a:avLst/>
          </a:prstGeom>
          <a:ln w="25560">
            <a:solidFill>
              <a:srgbClr val="003300"/>
            </a:solidFill>
            <a:miter/>
          </a:ln>
        </p:spPr>
      </p:pic>
      <p:sp>
        <p:nvSpPr>
          <p:cNvPr id="54" name="Text Box 7"/>
          <p:cNvSpPr/>
          <p:nvPr/>
        </p:nvSpPr>
        <p:spPr>
          <a:xfrm>
            <a:off x="108000" y="1628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介绍诗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3348000" y="436572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867280" y="443700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点击放大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429000"/>
            <a:ext cx="2195640" cy="212076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6"/>
          <p:cNvSpPr/>
          <p:nvPr/>
        </p:nvSpPr>
        <p:spPr>
          <a:xfrm>
            <a:off x="0" y="1413000"/>
            <a:ext cx="1476360" cy="1584360"/>
          </a:xfrm>
          <a:prstGeom prst="wedgeEllipseCallout">
            <a:avLst>
              <a:gd name="adj1" fmla="val 30754"/>
              <a:gd name="adj2" fmla="val 745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帮我认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417120" y="22766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3047400" y="1446120"/>
            <a:ext cx="12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宋体"/>
              </a:rPr>
              <a:t>ju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7449120" y="22766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5504400" y="22766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5459040" y="1425600"/>
            <a:ext cx="68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宋体"/>
              </a:rPr>
              <a:t>t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6892200" y="1341360"/>
            <a:ext cx="162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宋体"/>
              </a:rPr>
              <a:t>wé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3054960" y="3645000"/>
            <a:ext cx="160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宋体"/>
              </a:rPr>
              <a:t>miá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4"/>
          <p:cNvSpPr/>
          <p:nvPr/>
        </p:nvSpPr>
        <p:spPr>
          <a:xfrm>
            <a:off x="5636520" y="3716280"/>
            <a:ext cx="120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宋体"/>
              </a:rPr>
              <a:t>ch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003320" y="11970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3524400" y="11253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612040" y="11970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835280" y="3789360"/>
            <a:ext cx="140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眠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251680" y="39337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69920" y="401400"/>
            <a:ext cx="3251160" cy="96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春晓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124000" y="2204640"/>
            <a:ext cx="5616720" cy="394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春眠∕不∕觉</a:t>
            </a:r>
            <a:r>
              <a:rPr b="1" lang="zh-CN" sz="4800" spc="-1" strike="noStrike">
                <a:solidFill>
                  <a:srgbClr val="cc3300"/>
                </a:solidFill>
                <a:latin typeface="Arial"/>
                <a:ea typeface="楷体_GB2312"/>
              </a:rPr>
              <a:t>晓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处处∕闻∕啼</a:t>
            </a:r>
            <a:r>
              <a:rPr b="1" lang="zh-CN" sz="4800" spc="-1" strike="noStrike">
                <a:solidFill>
                  <a:srgbClr val="cc3300"/>
                </a:solidFill>
                <a:latin typeface="Arial"/>
                <a:ea typeface="楷体_GB2312"/>
              </a:rPr>
              <a:t>鸟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夜来∕风雨∕声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花落∕知∕多</a:t>
            </a:r>
            <a:r>
              <a:rPr b="1" lang="zh-CN" sz="4800" spc="-1" strike="noStrike">
                <a:solidFill>
                  <a:srgbClr val="cc3300"/>
                </a:solidFill>
                <a:latin typeface="Arial"/>
                <a:ea typeface="楷体_GB2312"/>
              </a:rPr>
              <a:t>少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4129560" y="1557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孟浩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3924360" y="83664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春晓：春天的早晨。晓，天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524200" y="2133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眠：睡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6110640" y="31258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闻：听见，听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952960" y="36306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啼：鸟的叫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6059880" y="25495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觉：感觉，知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95280" y="620640"/>
            <a:ext cx="468000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仿宋_GB2312"/>
              </a:rPr>
              <a:t>春 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　　　　　孟浩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春 眠 不 觉 晓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处 处 闻 啼 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夜 来 风 雨 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花 落 知 多 少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仿宋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4059222_16070826800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903960" y="1413000"/>
            <a:ext cx="6678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翻         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2268360" y="765000"/>
            <a:ext cx="6120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春眠不觉晓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春意绵绵好睡觉，不知不觉天亮了；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处处闻啼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猛然一觉惊醒来，到处是鸟儿啼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夜来风雨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夜里迷迷胡胡，似乎有沙沙风雨声；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花落知多少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风雨交加，花儿不知被吹落了多少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小学语文(古诗词)02"/>
          <p:cNvPicPr/>
          <p:nvPr/>
        </p:nvPicPr>
        <p:blipFill>
          <a:blip r:embed="rId2"/>
          <a:stretch/>
        </p:blipFill>
        <p:spPr>
          <a:xfrm>
            <a:off x="539640" y="476280"/>
            <a:ext cx="1600200" cy="514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8">
            <a:hlinkClick r:id="" action="ppaction://hlinkshowjump?jump=firstslide"/>
          </p:cNvPr>
          <p:cNvSpPr/>
          <p:nvPr/>
        </p:nvSpPr>
        <p:spPr>
          <a:xfrm>
            <a:off x="7524720" y="5661000"/>
            <a:ext cx="1295280" cy="432000"/>
          </a:xfrm>
          <a:custGeom>
            <a:avLst/>
            <a:gdLst>
              <a:gd name="textAreaLeft" fmla="*/ 27720 w 1295280"/>
              <a:gd name="textAreaRight" fmla="*/ 1267560 w 1295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4728" h="21600">
                <a:moveTo>
                  <a:pt x="0" y="0"/>
                </a:moveTo>
                <a:lnTo>
                  <a:pt x="64728" y="0"/>
                </a:lnTo>
                <a:lnTo>
                  <a:pt x="64728" y="21600"/>
                </a:lnTo>
                <a:lnTo>
                  <a:pt x="0" y="21600"/>
                </a:lnTo>
                <a:close/>
              </a:path>
              <a:path fill="lightenLess" w="64728" h="21600">
                <a:moveTo>
                  <a:pt x="0" y="0"/>
                </a:moveTo>
                <a:lnTo>
                  <a:pt x="64728" y="0"/>
                </a:lnTo>
                <a:lnTo>
                  <a:pt x="63328" y="1400"/>
                </a:lnTo>
                <a:lnTo>
                  <a:pt x="1400" y="1400"/>
                </a:lnTo>
                <a:close/>
              </a:path>
              <a:path fill="darken" w="64728" h="21600">
                <a:moveTo>
                  <a:pt x="64728" y="0"/>
                </a:moveTo>
                <a:lnTo>
                  <a:pt x="64728" y="21600"/>
                </a:lnTo>
                <a:lnTo>
                  <a:pt x="63328" y="20200"/>
                </a:lnTo>
                <a:lnTo>
                  <a:pt x="63328" y="1400"/>
                </a:lnTo>
                <a:close/>
              </a:path>
              <a:path fill="darkenLess" w="64728" h="21600">
                <a:moveTo>
                  <a:pt x="64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8" y="20200"/>
                </a:lnTo>
                <a:close/>
              </a:path>
              <a:path fill="lighten" w="64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返回首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>
            <a:hlinkClick r:id="rId3" action="ppaction://hlinksldjump"/>
          </p:cNvPr>
          <p:cNvSpPr/>
          <p:nvPr/>
        </p:nvSpPr>
        <p:spPr>
          <a:xfrm>
            <a:off x="5435640" y="5661000"/>
            <a:ext cx="1873080" cy="432000"/>
          </a:xfrm>
          <a:custGeom>
            <a:avLst/>
            <a:gdLst>
              <a:gd name="textAreaLeft" fmla="*/ 27720 w 1873080"/>
              <a:gd name="textAreaRight" fmla="*/ 1845360 w 1873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93594" h="21600">
                <a:moveTo>
                  <a:pt x="0" y="0"/>
                </a:moveTo>
                <a:lnTo>
                  <a:pt x="93594" y="0"/>
                </a:lnTo>
                <a:lnTo>
                  <a:pt x="93594" y="21600"/>
                </a:lnTo>
                <a:lnTo>
                  <a:pt x="0" y="21600"/>
                </a:lnTo>
                <a:close/>
              </a:path>
              <a:path fill="lightenLess" w="93594" h="21600">
                <a:moveTo>
                  <a:pt x="0" y="0"/>
                </a:moveTo>
                <a:lnTo>
                  <a:pt x="93594" y="0"/>
                </a:lnTo>
                <a:lnTo>
                  <a:pt x="92194" y="1400"/>
                </a:lnTo>
                <a:lnTo>
                  <a:pt x="1400" y="1400"/>
                </a:lnTo>
                <a:close/>
              </a:path>
              <a:path fill="darken" w="93594" h="21600">
                <a:moveTo>
                  <a:pt x="93594" y="0"/>
                </a:moveTo>
                <a:lnTo>
                  <a:pt x="93594" y="21600"/>
                </a:lnTo>
                <a:lnTo>
                  <a:pt x="92194" y="20200"/>
                </a:lnTo>
                <a:lnTo>
                  <a:pt x="92194" y="1400"/>
                </a:lnTo>
                <a:close/>
              </a:path>
              <a:path fill="darkenLess" w="93594" h="21600">
                <a:moveTo>
                  <a:pt x="93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94" y="20200"/>
                </a:lnTo>
                <a:close/>
              </a:path>
              <a:path fill="lighten" w="93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春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5327640" y="2343240"/>
            <a:ext cx="274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第一句讲春天的夜里睡得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香，不知不觉地天已亮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窗外传来一片悦耳的鸟叫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221080" y="4149720"/>
            <a:ext cx="295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第二句讲蒙胧中想起昨天夜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听见刮风下雨的声音，经过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吹雨打，不知有多少花朵凋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95280" y="620640"/>
            <a:ext cx="468000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仿宋_GB2312"/>
              </a:rPr>
              <a:t>春 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　　　　　孟浩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春 眠 不 觉 晓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处 处 闻 啼 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夜 来 风 雨 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仿宋_GB2312"/>
              </a:rPr>
              <a:t>花 落 知 多 少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仿宋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2:24:2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9:50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