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15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1.gif" ContentType="image/gif"/>
  <Override PartName="/ppt/media/image7.png" ContentType="image/png"/>
  <Override PartName="/ppt/media/image20.gif" ContentType="image/gif"/>
  <Override PartName="/ppt/media/image18.jpeg" ContentType="image/jpeg"/>
  <Override PartName="/ppt/media/image3.gif" ContentType="image/gif"/>
  <Override PartName="/ppt/media/image24.png" ContentType="image/png"/>
  <Override PartName="/ppt/media/image21.gif" ContentType="image/gif"/>
  <Override PartName="/ppt/media/image19.png" ContentType="image/png"/>
  <Override PartName="/ppt/media/image26.png" ContentType="image/png"/>
  <Override PartName="/ppt/media/image17.jpeg" ContentType="image/jpeg"/>
  <Override PartName="/ppt/media/image23.gif" ContentType="image/gif"/>
  <Override PartName="/ppt/media/image14.gif" ContentType="image/gif"/>
  <Override PartName="/ppt/media/image25.png" ContentType="image/png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D8F4-6DC8-4245-B1D6-0D8CE3A351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104B-F01A-40B9-B452-AC357CB31F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DE6-F9D2-42FE-97C9-E4A5B3FB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F57-5C4C-4EBF-ADEE-E17C0D67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009BC-C455-4DC6-9509-5FAFC76B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C73A1-B782-401B-B491-72DE8D9B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3FD2B-BEA4-4B8F-95CF-59B59F68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EC7E7-20C3-4FD3-9B2D-D7EA1F5D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EFB3B-282A-477D-8F25-6D97D4FB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28055-A480-4B03-BE8D-A5A56DA0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57B75-50C2-42EE-956A-7C7DFB6B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BE866-F86E-484A-85C3-7F5E38D4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8BC95-1CBB-48BA-976F-3BD2FA99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4A2D3-2AB6-4EB3-876D-BC570CBC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EA4-DED2-40EE-8544-8050CBA9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6D3D6-A752-4605-906F-782F7027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08416-5071-47AD-884B-FA5B0A69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98A62-AA1D-47D3-9B0A-F0C90FAB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D0962-3F0D-4AFE-B796-8911CC0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5AC43-173D-4274-841E-7A5CC8E6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74BFD-0452-42D1-B7A1-BDFB44B5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7EE5F-AA0A-4411-9BC4-AC77E3B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3EF26-2F8C-4049-9FD1-367D628B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3F588-F45C-488C-BC76-47791F1F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6159D-6FBC-4903-94D9-5CCD5839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983-A81D-46F2-A662-82BE80E7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E3E3B-8DD3-4DB9-85AD-779F6FCE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D697F-B2E0-4219-99AF-5A3D62C4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818FA-E941-4809-9610-9AE76A0A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98CED-8E81-4ED3-B272-A69CAD5D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4C713-E13D-4611-97BE-8D60F002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F84C1-D10F-4ACC-9C46-0308FD00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4D994-5BB0-4D58-A27E-15817013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645F5-099E-46FC-9006-BF5CD87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FFD07-5FBF-4577-BCA2-015F5EBB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01EB4-CC2E-4856-8E53-82350453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19FB-EF7D-404E-9E31-B0D95B72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D7FE8-5AE4-435A-9F2A-DBBDED20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92075-421F-4542-8F2A-2D73A586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2372D-F7F4-4980-B34E-2D882019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5206F-DC3C-46D0-9534-5C5E23FD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E5CB6-EE11-4EFA-B5BE-F5F980ED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74C25-9986-45BD-BE14-DE88EC92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38804-9097-4B9F-BCC6-3A2BE937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55888-1926-4BB5-A3F1-3B05B5A5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81150-2CB8-4E44-88F5-290B0DD8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9F526-429A-4AEC-85E8-B067DFC5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9B8C-7298-47B0-AB69-21BDAA64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B6D47-C29B-497B-BC8E-BE83FD84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B1579-E47F-4603-AA09-00B75758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FA387-A61E-46CF-9736-64545841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6C152-69A1-4EA2-B573-C6139F18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32A4B-64A1-40B5-AEDC-9D823D8C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3B87B-82EC-4E15-8300-4E31D628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FC5B3-CCB1-4A85-96D2-17E94CD7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CBC93-8495-4941-9638-C65F0240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BFE88-95A3-452E-B6FF-F18EFCB9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3D536-7A68-4600-B66D-FE2B605A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4DF5-2754-4DAC-A983-E5BEEFBC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643B2-3448-4F93-9B34-934B902E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AC721-F00D-4742-99F9-E4B614E9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DE800-162B-4942-B90E-907E868D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ADA66-639E-4AFD-B0EE-F4E4587C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13F4B-D364-469E-939D-7972DD8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3A96A-EC99-42E6-A0C3-A06E63CA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50B4E-D130-4F98-87AB-FB06EAE4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CC42-34F2-468F-B0CD-F126738C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9720-5FB3-4B28-9BF3-D3047AE1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C868-E100-4A27-AEB9-118FA83C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6582-6FCA-4150-8B92-59976BED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759-E073-4943-A441-269A1DDD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5E3F-6596-4E4D-8B2C-60DCFCAF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5997-F796-4265-BF06-E5DCADB3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27E2-1EF6-46AC-ABEE-875D888C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1046-5A9A-4EE6-9623-AFC398CD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6A16-6D41-440F-9797-739C6A52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BA89-0234-4E44-9055-503892CA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0C38A-6444-4D70-8732-87D5CC4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24E9-C559-4DBC-B172-F12005A9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E55E-5595-431C-BAEC-8C61D586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F320B-15F0-4EF9-A5B3-B7D79C06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17A-74FD-4218-9696-D5EE95B4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98E2-1232-4CDB-91BF-85CDEEEB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4EC2-1C5C-4410-82F5-84359AF7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7CE45-0433-425F-AF89-2B30C2C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B427-7896-4271-A7DE-0757B601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0923E-DA8E-461F-9163-79F2D221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B53C-8D9C-45B1-A055-F9033A98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E49E-7739-4DE0-9B95-CF00E111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44CDF-C2AE-47C0-8ABB-162443BF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D7928-6A02-4A3C-9D50-FF63CC16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16CA-EAC2-45EF-BC99-302689F1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1FF-549E-4DC6-814A-B2F52262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AC842-FB91-422B-AC66-DEC72357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178A-6BCB-4178-B61D-976090EC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94E0-4C08-4760-8D01-3930AABC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87ECE-A5B1-44F9-BDA5-2319139F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C78A-6172-4425-8EA1-319C908C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9001-C790-471C-AF4D-5BAD5DF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0422-5B1C-4D3B-88AC-1124FB07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AA46-7FBC-4AE6-9CF1-56CBEE47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26B91-6DC0-4CDE-9D7B-AF81D0A4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F0EFC-A7A9-42CA-886C-AEED977A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BF8-B425-400F-8D86-A1DA265E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DE3C-F1D3-4EDC-BF29-684805A6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0D2D3-6B3F-43BC-8DF1-0D06FB57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CECF4-2491-4310-86D6-E84152C4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883E6-DAB3-40C1-8BD9-341E7D0B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0B9B8-FD1B-4101-AFFE-FE757969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CEAF2-4852-42CE-BB8F-7878CE0D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79D47-41E3-41F8-8B9F-B8B58B69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78147-2C73-46CD-AF49-AD17E5EF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D8AD-721B-4505-BC53-ACC6B8A5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51800-522C-4511-BEB9-46EC7387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5AC-C953-4FF3-9FE3-D805CABC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1692A-7CDF-4D29-9D56-75669715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B5ACA-ED15-47F2-ACE5-F150552B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708C-6F9C-44AE-9823-1162B3AF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F3D47-4A94-4010-B682-2527CD15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0E823-87FC-413D-AB1C-A9CBE71A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0E54A-621E-4311-8967-61882116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74BA6-3F36-4061-A75F-929B3AC2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DD1CF-3B62-414D-A515-750297BF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7C998-DD29-4983-9806-46339639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E0EA0-8D44-41C5-ABA3-251F9A6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F71-D67E-4954-95C6-FD0E818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268E-9698-49CA-9880-6015F38B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DD475-B771-48C0-9B47-54B975B4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DE2E3-F04E-47AD-A0C1-C6738A20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3C464-6491-4FF7-9083-F6A07770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0D466-5193-4577-93C1-11EA3FCB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BEAEC-9B2A-4BD0-8F90-95F3BEBF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C1303-01C4-43F7-9C72-24CADA7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AD1EC-89F1-47A4-A962-CEBDC049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E5715-3B44-4294-88C4-E1142BD5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C85AC-CE8F-4C28-B103-5DB3B853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690-C712-4EFF-A801-828C7EA6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C2C60-64C3-4E95-821A-683F4D9F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7E612-CDA5-407B-859C-CD9BADAB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9DAD8-19A6-462D-89F6-2DA337F5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48CC5-2A21-4959-87FA-EBD6BEF2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8623-573D-4F8F-BCDD-50999DDA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F0AC6-8B60-4E25-82BC-2CA84228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2A99D-9AC1-4DA1-9A24-EE7B212B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0D9A4-D87C-4AAD-9AAE-48F7F4DD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C5F4E-9647-47C4-94AB-DBBF50FF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454B7-ED21-4F88-A55E-A054D23D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D29-4A16-4E2A-B537-D4F39A3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9AE95-1CD9-451E-A2C3-1C15CF17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5861D-F818-4BE7-B7E8-89402BF0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FF5E1-83EB-4FCD-8D8E-0289098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831C8-B9EB-49DB-A776-FCF87DAE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911AD-2EB4-46B1-8B67-BC842348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C0626-21EE-4C94-B72D-3BF27A0D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EE54A-7A44-4EB1-A5FE-36089152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199ED-3B25-475B-8BC0-4937D2FB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EFE27-0346-4FFC-922D-23E5204C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809B6-FFBE-4536-902F-977F23C8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F06F-CB9B-4C31-BA09-5C66A9565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A237-CA81-490A-9B20-6B75E44D823A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B9AB-24A4-4316-9139-178CFABF9358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EE15-5A20-4CD4-A2CC-56AF4399C009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30E0-47E0-483D-AAA3-7E986F458B15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275C-04ED-4C26-93DF-1DC36C55CC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D9F6-254C-4AD1-B068-2BEC4057D8D9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74E0-97AE-43C9-8296-3C9934A69858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A26C-5E5F-4026-A302-60FDF420CEF7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C26A-1AFF-4402-9E38-10A881E5DDD6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F39F-6E67-427C-BD10-3D8FADED37E9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AD59-825F-4F48-9B78-D6730CF7434B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BE89-3ADE-4D39-B369-9A891A591E66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slide" Target="slide10.xml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png"/><Relationship Id="rId6" Type="http://schemas.openxmlformats.org/officeDocument/2006/relationships/slide" Target="slide9.xml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10.xm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0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雨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Text Box 3" descr=""/>
          <p:cNvPicPr/>
          <p:nvPr/>
        </p:nvPicPr>
        <p:blipFill>
          <a:blip r:embed="rId2"/>
          <a:stretch/>
        </p:blipFill>
        <p:spPr>
          <a:xfrm>
            <a:off x="1963800" y="1295280"/>
            <a:ext cx="5181480" cy="13240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gif0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6170760"/>
            <a:ext cx="762120" cy="687240"/>
          </a:xfrm>
          <a:prstGeom prst="rect">
            <a:avLst/>
          </a:prstGeom>
          <a:ln w="0">
            <a:noFill/>
          </a:ln>
        </p:spPr>
      </p:pic>
      <p:pic>
        <p:nvPicPr>
          <p:cNvPr id="543" name="矩形 4" descr=""/>
          <p:cNvPicPr/>
          <p:nvPr/>
        </p:nvPicPr>
        <p:blipFill>
          <a:blip r:embed="rId5"/>
          <a:stretch/>
        </p:blipFill>
        <p:spPr>
          <a:xfrm>
            <a:off x="2214720" y="5762520"/>
            <a:ext cx="477036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ha jing-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yan zi"/>
          <p:cNvPicPr/>
          <p:nvPr/>
        </p:nvPicPr>
        <p:blipFill>
          <a:blip r:embed="rId2"/>
          <a:stretch/>
        </p:blipFill>
        <p:spPr>
          <a:xfrm>
            <a:off x="3352680" y="533520"/>
            <a:ext cx="914400" cy="8665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yan zi"/>
          <p:cNvPicPr/>
          <p:nvPr/>
        </p:nvPicPr>
        <p:blipFill>
          <a:blip r:embed="rId3"/>
          <a:stretch/>
        </p:blipFill>
        <p:spPr>
          <a:xfrm>
            <a:off x="1676520" y="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gif008"/>
          <p:cNvPicPr/>
          <p:nvPr/>
        </p:nvPicPr>
        <p:blipFill>
          <a:blip r:embed="rId4"/>
          <a:stretch/>
        </p:blipFill>
        <p:spPr>
          <a:xfrm>
            <a:off x="152280" y="5638680"/>
            <a:ext cx="609840" cy="10670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gif017"/>
          <p:cNvPicPr/>
          <p:nvPr/>
        </p:nvPicPr>
        <p:blipFill>
          <a:blip r:embed="rId5"/>
          <a:stretch/>
        </p:blipFill>
        <p:spPr>
          <a:xfrm>
            <a:off x="7391520" y="4038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gif032"/>
          <p:cNvPicPr/>
          <p:nvPr/>
        </p:nvPicPr>
        <p:blipFill>
          <a:blip r:embed="rId6"/>
          <a:stretch/>
        </p:blipFill>
        <p:spPr>
          <a:xfrm>
            <a:off x="4876920" y="4191120"/>
            <a:ext cx="446040" cy="914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gif033"/>
          <p:cNvPicPr/>
          <p:nvPr/>
        </p:nvPicPr>
        <p:blipFill>
          <a:blip r:embed="rId7"/>
          <a:stretch/>
        </p:blipFill>
        <p:spPr>
          <a:xfrm>
            <a:off x="6858000" y="487692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9"/>
          <p:cNvSpPr/>
          <p:nvPr/>
        </p:nvSpPr>
        <p:spPr>
          <a:xfrm>
            <a:off x="5337360" y="5561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5139000" y="258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7425000" y="335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1862640" y="8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织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2624400" y="2284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燕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4"/>
          <p:cNvSpPr/>
          <p:nvPr/>
        </p:nvSpPr>
        <p:spPr>
          <a:xfrm>
            <a:off x="567000" y="380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5"/>
          <p:cNvSpPr/>
          <p:nvPr/>
        </p:nvSpPr>
        <p:spPr>
          <a:xfrm>
            <a:off x="5367600" y="441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6"/>
          <p:cNvSpPr/>
          <p:nvPr/>
        </p:nvSpPr>
        <p:spPr>
          <a:xfrm>
            <a:off x="3767400" y="4570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播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7"/>
          <p:cNvSpPr/>
          <p:nvPr/>
        </p:nvSpPr>
        <p:spPr>
          <a:xfrm>
            <a:off x="2060640" y="4799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8" descr="gif01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229600" y="5410080"/>
            <a:ext cx="7621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图片 9" descr=""/>
          <p:cNvPicPr/>
          <p:nvPr/>
        </p:nvPicPr>
        <p:blipFill>
          <a:blip r:embed="rId17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0" descr="png-0644"/>
          <p:cNvPicPr/>
          <p:nvPr/>
        </p:nvPicPr>
        <p:blipFill>
          <a:blip r:embed="rId18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62BF-62B6-4FB8-8E0D-50FD83E18F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雨"/>
          <p:cNvPicPr/>
          <p:nvPr/>
        </p:nvPicPr>
        <p:blipFill>
          <a:blip r:embed="rId2"/>
          <a:stretch/>
        </p:blipFill>
        <p:spPr>
          <a:xfrm>
            <a:off x="1905120" y="457200"/>
            <a:ext cx="5105160" cy="3548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4"/>
          <p:cNvSpPr/>
          <p:nvPr/>
        </p:nvSpPr>
        <p:spPr>
          <a:xfrm>
            <a:off x="838080" y="416160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沙沙，春雨沙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沙沙的春雨，像千万条丝线飘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4965840" y="4158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7315200" y="4996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-457200" y="609480"/>
            <a:ext cx="48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学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685800" y="2133720"/>
            <a:ext cx="784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借助拼音朗读课文，读准字音，不加字，不漏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桌合作学习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想一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8a"/>
                </a:solidFill>
                <a:latin typeface="楷体_GB2312"/>
                <a:ea typeface="楷体_GB2312"/>
              </a:rPr>
              <a:t>美丽的春天图画上画了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"/>
          <p:cNvSpPr/>
          <p:nvPr/>
        </p:nvSpPr>
        <p:spPr>
          <a:xfrm>
            <a:off x="1425600" y="5543640"/>
            <a:ext cx="62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bai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4"/>
          <p:cNvSpPr/>
          <p:nvPr/>
        </p:nvSpPr>
        <p:spPr>
          <a:xfrm>
            <a:off x="152280" y="5942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幅美丽的春天图画：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838080" y="2453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燕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4114800" y="441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2362320" y="1827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1828800" y="3351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2286000" y="154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6858000" y="2132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4495680" y="312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播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3581280" y="2589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农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533520" y="684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植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normal_FZ70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2104920" y="152280"/>
            <a:ext cx="5010120" cy="441972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762120" y="58345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穿梭的燕子衔着雨丝，织出一幅美丽的春天图画：绿的，是柳叶；红的是桃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762120" y="531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美丽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4419720" y="531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7661160" y="5313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9"/>
          <p:cNvSpPr/>
          <p:nvPr/>
        </p:nvSpPr>
        <p:spPr>
          <a:xfrm>
            <a:off x="1752480" y="5311800"/>
            <a:ext cx="990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942720" y="4432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i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cha jing-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A5_027"/>
          <p:cNvPicPr/>
          <p:nvPr/>
        </p:nvPicPr>
        <p:blipFill>
          <a:blip r:embed="rId2"/>
          <a:stretch/>
        </p:blipFill>
        <p:spPr>
          <a:xfrm>
            <a:off x="2590920" y="3809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A5_022"/>
          <p:cNvPicPr/>
          <p:nvPr/>
        </p:nvPicPr>
        <p:blipFill>
          <a:blip r:embed="rId3"/>
          <a:stretch/>
        </p:blipFill>
        <p:spPr>
          <a:xfrm>
            <a:off x="2514600" y="4114800"/>
            <a:ext cx="2286000" cy="1177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A5_030"/>
          <p:cNvPicPr/>
          <p:nvPr/>
        </p:nvPicPr>
        <p:blipFill>
          <a:blip r:embed="rId4"/>
          <a:stretch/>
        </p:blipFill>
        <p:spPr>
          <a:xfrm>
            <a:off x="4648320" y="43434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yu"/>
          <p:cNvPicPr/>
          <p:nvPr/>
        </p:nvPicPr>
        <p:blipFill>
          <a:blip r:embed="rId5"/>
          <a:stretch/>
        </p:blipFill>
        <p:spPr>
          <a:xfrm>
            <a:off x="3657600" y="4038480"/>
            <a:ext cx="533520" cy="3873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7"/>
          <p:cNvSpPr/>
          <p:nvPr/>
        </p:nvSpPr>
        <p:spPr>
          <a:xfrm>
            <a:off x="533520" y="5577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还织出一条清凌凌的小河，河里的鱼儿欢快地摇动着尾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3733920" y="5028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清凌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1905120" y="5561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欢快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0" descr="gif01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81880" y="3276720"/>
            <a:ext cx="7621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normal_FZ70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2104920" y="228600"/>
            <a:ext cx="5010120" cy="44197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4"/>
          <p:cNvSpPr/>
          <p:nvPr/>
        </p:nvSpPr>
        <p:spPr>
          <a:xfrm>
            <a:off x="914400" y="5285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河的对岸有一座小山。山坡下，有播种的农民；山坡上，有植树的娃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normal_FZ7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1871640" y="380880"/>
            <a:ext cx="5172120" cy="4560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"/>
          <p:cNvSpPr/>
          <p:nvPr/>
        </p:nvSpPr>
        <p:spPr>
          <a:xfrm>
            <a:off x="1447920" y="55612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春天的图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447920" y="49518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啊，多么迷人的春天图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6" descr="gif0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7621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FR_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3"/>
          <p:cNvSpPr/>
          <p:nvPr/>
        </p:nvSpPr>
        <p:spPr>
          <a:xfrm>
            <a:off x="3657600" y="4561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春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447920" y="1166040"/>
            <a:ext cx="3124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春天是一本彩色的书，</a:t>
            </a:r>
            <a:br>
              <a:rPr sz="2400"/>
            </a:b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红的桃花，</a:t>
            </a:r>
            <a:br>
              <a:rPr sz="2400"/>
            </a:b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白的梨花，</a:t>
            </a:r>
            <a:br>
              <a:rPr sz="2400"/>
            </a:b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绿的柳叶，</a:t>
            </a:r>
            <a:br>
              <a:rPr sz="2400"/>
            </a:b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黄的迎春花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4952880" y="1166040"/>
            <a:ext cx="304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春天是一本会笑的书，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池塘笑了，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酒窝圆又大，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朋友笑了，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咧开小嘴巴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2819520" y="3773520"/>
            <a:ext cx="3047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春天是一本会唱的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春雷轰隆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春雨沙沙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燕子叽叽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青蛙呱呱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gif01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638680"/>
            <a:ext cx="762120" cy="68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5:53:34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30:24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