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F57-19F3-40FF-B354-60BAABE1366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1BC4-7A5D-4FC6-B289-6FEA1B4CD8E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60A-E0B0-4D48-8D91-221E33B7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AA4-C88A-4195-B2FB-27730F8F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CCB-3266-4BE5-9E6E-CD50F8BA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7DA-F02C-4A26-BC98-BF3D6493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396C-3138-4D56-8249-B87FD2A6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DF6E-2E57-4931-8D1A-64A19844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15DA-816A-4CE7-8A50-89EA25FD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E272-A4DC-4E20-ABC6-7A16721B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DAA7-7C4F-459F-B4B6-78D67506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6FD4-DAA6-438C-A453-2A6C784E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BA21-9B84-4069-A0D7-DEFFBB63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080-8665-4390-843C-7E0866D9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2C8B-391B-4AE2-A7C7-763FC0D2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8EFB-6964-4239-AAE3-9C497CB6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1670-580D-4D66-8E53-43F025EC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5A3E-BD09-4CF7-B796-59648147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5DA0-92CE-47A8-8A1E-496F4A2A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65C-CDB6-4C4E-8937-E3B41FB6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756-8172-4ACC-A859-9EC1ED91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70C-A5BA-49B1-802C-104446DB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70B-DFCB-443D-AFE9-EB6D70BD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073-81AB-4E1D-B61B-3C82A3D6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89D-79B2-4F02-BCDB-860DBDC0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530-30D6-4F99-B118-F629EB29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F1A8-D741-4D03-B197-70C5D01B96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8041-BA0B-485D-BCA3-200FA3A6F5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258920" y="1363680"/>
            <a:ext cx="640872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东北大森林</a:t>
            </a:r>
            <a:endParaRPr b="1" lang="en-US" sz="9600" spc="1" strike="noStrike">
              <a:ln w="9360">
                <a:solidFill>
                  <a:srgbClr val="ffff00"/>
                </a:solidFill>
                <a:round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724360" y="4413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71900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27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合作学习提纲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22280" y="2349360"/>
            <a:ext cx="53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读一读，想一想，东北大森林的夏、秋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　通过哪些景物来描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089600" y="3716280"/>
            <a:ext cx="101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议一议，作者是怎样抓住景物特点来描写的，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　找出重点语句，谈谈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464000" y="5084640"/>
            <a:ext cx="101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想一想，置身于这样的景色之中，你会感受到什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把这种感受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6804000" y="692280"/>
            <a:ext cx="16430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夏</a:t>
            </a:r>
            <a:endParaRPr b="1" lang="en-US" sz="54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夏天，一层又一层的树叶把森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严严实实，空气又闷又湿，几乎一点儿也不流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5651640" y="6308640"/>
            <a:ext cx="2466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（树多、茂盛）</a:t>
            </a:r>
            <a:endParaRPr b="1" lang="en-US" sz="2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"/>
          <p:cNvSpPr txBox="1"/>
          <p:nvPr/>
        </p:nvSpPr>
        <p:spPr>
          <a:xfrm>
            <a:off x="6588000" y="1700280"/>
            <a:ext cx="2232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浸</a:t>
            </a:r>
            <a:endParaRPr b="0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早晨，雾从山谷里升起来，整个森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浸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在了奶白色的浓雾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5"/>
          <p:cNvSpPr txBox="1"/>
          <p:nvPr/>
        </p:nvSpPr>
        <p:spPr>
          <a:xfrm>
            <a:off x="6516720" y="4365720"/>
            <a:ext cx="201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雾浓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7e8f95381ba4deccd46225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太阳出来了，千万缕金色的光透过树梢，像利剑一样刺透了浓雾，照在湿漉漉的草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0" y="112536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6588000" y="2781360"/>
            <a:ext cx="20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雾浓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WordArt 10"/>
          <p:cNvSpPr txBox="1"/>
          <p:nvPr/>
        </p:nvSpPr>
        <p:spPr>
          <a:xfrm>
            <a:off x="755640" y="1773360"/>
            <a:ext cx="3240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楷体_GB2312"/>
              </a:rPr>
              <a:t>雾的海洋</a:t>
            </a:r>
            <a:endParaRPr b="1" lang="en-US" sz="4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秋季森林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6877080" y="549360"/>
            <a:ext cx="171612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秋</a:t>
            </a:r>
            <a:endParaRPr b="1" lang="en-US" sz="54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秋季森林2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秋天，许多树的叶子变成了</a:t>
            </a:r>
            <a:r>
              <a:rPr b="1" lang="zh-CN" sz="2000" spc="-1" strike="noStrike">
                <a:solidFill>
                  <a:srgbClr val="ff9900"/>
                </a:solidFill>
                <a:latin typeface="Arial"/>
              </a:rPr>
              <a:t>黄色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，有的却变得火一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红。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这时，松柏显得更加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苍翠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了。秋风吹拂着树林，发出哗哗的声响，就像海边的浪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2"/>
          <p:cNvGrpSpPr/>
          <p:nvPr/>
        </p:nvGrpSpPr>
        <p:grpSpPr>
          <a:xfrm>
            <a:off x="4983480" y="4809600"/>
            <a:ext cx="4076280" cy="2352240"/>
            <a:chOff x="4983480" y="4809600"/>
            <a:chExt cx="4076280" cy="2352240"/>
          </a:xfrm>
        </p:grpSpPr>
        <p:sp>
          <p:nvSpPr>
            <p:cNvPr id="140" name="AutoShape 10"/>
            <p:cNvSpPr/>
            <p:nvPr/>
          </p:nvSpPr>
          <p:spPr>
            <a:xfrm rot="21229200">
              <a:off x="5076720" y="5013000"/>
              <a:ext cx="3889440" cy="194472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505800 h 1944720"/>
                <a:gd name="textAreaBottom" fmla="*/ 14389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WordArt 11"/>
            <p:cNvSpPr txBox="1"/>
            <p:nvPr/>
          </p:nvSpPr>
          <p:spPr>
            <a:xfrm>
              <a:off x="5652720" y="5589720"/>
              <a:ext cx="2781360" cy="92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1" strike="noStrike">
                  <a:ln cap="rnd" w="9360">
                    <a:solidFill>
                      <a:srgbClr val="ffff99"/>
                    </a:solidFill>
                    <a:custDash>
                      <a:ds d="100000" sp="1000"/>
                    </a:custDash>
                    <a:round/>
                  </a:ln>
                  <a:solidFill>
                    <a:srgbClr val="ff00ff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_GB2312"/>
                </a:rPr>
                <a:t>色彩绚丽</a:t>
              </a:r>
              <a:endParaRPr b="1" lang="en-US" sz="5400" spc="1" strike="noStrike">
                <a:ln cap="rnd" w="9360">
                  <a:solidFill>
                    <a:srgbClr val="ffff99"/>
                  </a:solidFill>
                  <a:custDash>
                    <a:ds d="100000" sp="1000"/>
                  </a:custDash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0070710060417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松鼠在树枝上迟钝地爬着，它靠秋天收藏在树洞里的山果过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591192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松鼠忙起来了，不停地把山果子搬进树洞里。它们这是在为度过漫长的冬天做准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108000" y="1413000"/>
            <a:ext cx="1368360" cy="4105080"/>
          </a:xfrm>
          <a:prstGeom prst="upDownArrow">
            <a:avLst>
              <a:gd name="adj1" fmla="val 50000"/>
              <a:gd name="adj2" fmla="val 6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遥相呼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秋季森林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7"/>
          <p:cNvGrpSpPr/>
          <p:nvPr/>
        </p:nvGrpSpPr>
        <p:grpSpPr>
          <a:xfrm>
            <a:off x="468360" y="189000"/>
            <a:ext cx="3311640" cy="1202760"/>
            <a:chOff x="468360" y="189000"/>
            <a:chExt cx="3311640" cy="1202760"/>
          </a:xfrm>
        </p:grpSpPr>
        <p:sp>
          <p:nvSpPr>
            <p:cNvPr id="150" name="Text Box 5"/>
            <p:cNvSpPr/>
            <p:nvPr/>
          </p:nvSpPr>
          <p:spPr>
            <a:xfrm>
              <a:off x="468360" y="189000"/>
              <a:ext cx="3311640" cy="1202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WordArt 6"/>
            <p:cNvSpPr txBox="1"/>
            <p:nvPr/>
          </p:nvSpPr>
          <p:spPr>
            <a:xfrm>
              <a:off x="611280" y="476280"/>
              <a:ext cx="30956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ff00ff"/>
                    </a:solidFill>
                    <a:round/>
                  </a:ln>
                  <a:solidFill>
                    <a:srgbClr val="ff00ff"/>
                  </a:solidFill>
                  <a:latin typeface="楷体_GB2312"/>
                </a:rPr>
                <a:t>色彩的海洋</a:t>
              </a:r>
              <a:endParaRPr b="1" lang="en-US" sz="4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22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拓展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一、说说下列语句是描写大森林哪个季节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紫貂和黑熊不得不躲进各自的洞里。松鼠靠秋天收藏在树洞里的松子过日子，有时候还到枝头散散步，看看春天是不是快要来临。                                      （　     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白桦和栎树的叶子变黄了，松柏显得更苍翠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　　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太阳出来了，千万缕像利剑一样的金光，穿过树梢，照射在工人宿舍门前的草地上。                     （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层林尽染，极目远眺，天高云淡。            （　　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片银妆，四季常青的美人松映衬着皎洁晶莹的冰雪世界。                                                           （　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满山红杜鹃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山岭沟壑，处处生机。            （　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948360" y="57340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春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877080" y="42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夏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87708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秋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804000" y="350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秋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80400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冬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877080" y="530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冬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61109113013414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3"/>
          <p:cNvSpPr txBox="1"/>
          <p:nvPr/>
        </p:nvSpPr>
        <p:spPr>
          <a:xfrm>
            <a:off x="2411280" y="549360"/>
            <a:ext cx="4114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白雪的海洋</a:t>
            </a:r>
            <a:endParaRPr b="1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539640" y="1341360"/>
            <a:ext cx="385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拓展练习：</a:t>
            </a:r>
            <a:endParaRPr b="1" lang="en-US" sz="6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468360" y="3357720"/>
            <a:ext cx="8280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请你为东北大森林设计一篇导游词。</a:t>
            </a:r>
            <a:endParaRPr b="1" lang="en-US" sz="4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1285920" y="5640480"/>
            <a:ext cx="59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990B-5780-47DB-AC5C-EEEFFC27FF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26560" y="2636640"/>
            <a:ext cx="7129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通过品读感悟、想象画面，了解东北大森林一年四季美丽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联系上下文，理解冒、抽出、封、浸等词语的意思，体会作者用词的准确、生动、贴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7236000" y="404640"/>
            <a:ext cx="13665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春</a:t>
            </a:r>
            <a:endParaRPr b="1" lang="en-US" sz="60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333_a"/>
          <p:cNvPicPr/>
          <p:nvPr/>
        </p:nvPicPr>
        <p:blipFill>
          <a:blip r:embed="rId1"/>
          <a:stretch/>
        </p:blipFill>
        <p:spPr>
          <a:xfrm>
            <a:off x="-684360" y="0"/>
            <a:ext cx="51451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100334_a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395280" y="5300640"/>
            <a:ext cx="7921800" cy="128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野草的叶尖从积雪下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冒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出来了，树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抽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了新的枝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草地上的野花"/>
          <p:cNvPicPr/>
          <p:nvPr/>
        </p:nvPicPr>
        <p:blipFill>
          <a:blip r:embed="rId1"/>
          <a:stretch/>
        </p:blipFill>
        <p:spPr>
          <a:xfrm>
            <a:off x="0" y="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069cq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73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userid147994time20070310155920"/>
          <p:cNvPicPr/>
          <p:nvPr/>
        </p:nvPicPr>
        <p:blipFill>
          <a:blip r:embed="rId3"/>
          <a:stretch/>
        </p:blipFill>
        <p:spPr>
          <a:xfrm>
            <a:off x="0" y="357336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fkiqpl_photos2007821132527"/>
          <p:cNvPicPr/>
          <p:nvPr/>
        </p:nvPicPr>
        <p:blipFill>
          <a:blip r:embed="rId4"/>
          <a:stretch/>
        </p:blipFill>
        <p:spPr>
          <a:xfrm>
            <a:off x="4716360" y="3573360"/>
            <a:ext cx="4427640" cy="3284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0" y="2781360"/>
            <a:ext cx="9144000" cy="128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草地上，到处开着红的、黄的、白的野花，有野玫瑰、野百合，还有许多你连名字也叫不出来的花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6"/>
          <p:cNvSpPr/>
          <p:nvPr/>
        </p:nvSpPr>
        <p:spPr>
          <a:xfrm>
            <a:off x="2987640" y="3716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w9u35A==_4TRK7GNrID3x"/>
          <p:cNvPicPr/>
          <p:nvPr/>
        </p:nvPicPr>
        <p:blipFill>
          <a:blip r:embed="rId1"/>
          <a:stretch/>
        </p:blipFill>
        <p:spPr>
          <a:xfrm>
            <a:off x="4645080" y="0"/>
            <a:ext cx="4498920" cy="328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20070709_2309934c5e92b259c241aakeMt0SOYku"/>
          <p:cNvPicPr/>
          <p:nvPr/>
        </p:nvPicPr>
        <p:blipFill>
          <a:blip r:embed="rId2"/>
          <a:stretch/>
        </p:blipFill>
        <p:spPr>
          <a:xfrm>
            <a:off x="0" y="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xinhua_sc_tangjiahe2005812173608"/>
          <p:cNvPicPr/>
          <p:nvPr/>
        </p:nvPicPr>
        <p:blipFill>
          <a:blip r:embed="rId3"/>
          <a:stretch/>
        </p:blipFill>
        <p:spPr>
          <a:xfrm>
            <a:off x="0" y="328464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129657116"/>
          <p:cNvPicPr/>
          <p:nvPr/>
        </p:nvPicPr>
        <p:blipFill>
          <a:blip r:embed="rId4"/>
          <a:stretch/>
        </p:blipFill>
        <p:spPr>
          <a:xfrm>
            <a:off x="4643280" y="3284640"/>
            <a:ext cx="4500720" cy="3573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小蚂蚁出来觅食，蜜蜂忙着酿蜜了，黑熊踱来踱去，想着法子找蜂窝偷蜜吃。小鹿的头上长出了一对嫩角，它们是最爱美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1187280" y="5877000"/>
            <a:ext cx="6258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楷体_GB2312"/>
              </a:rPr>
              <a:t>花的海洋、绿的世界</a:t>
            </a:r>
            <a:endParaRPr b="1" lang="en-US" sz="54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第三自然段的学习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214880" y="227664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１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先读课文，感受东北大森林春季的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214880" y="321300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２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抓住作者描写景物特点的词句进行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320360" y="422100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３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通过感情朗读，再次体会森林春天的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2:19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17Z</dcterms:modified>
  <cp:revision>9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