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B6EE-148C-40FA-B04D-1B9C944104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1D2-F366-4D4D-9653-722E359719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097-1932-4C2F-B548-B926C39D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B08-131B-4E19-AB9E-B110329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343-DA79-44AF-83E0-8959D45D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C30-E915-493A-A99A-17513D96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FA1-5D64-4B1E-B62E-9031361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7B0-BE24-4E96-962B-CDC6B79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793-D4FC-4027-9B64-F1B277F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F32-F305-4E6C-9AD1-D690B6F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827-376C-4EBF-9E42-CCF66532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BBB-1D91-4681-A105-1BF7DEE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93D-84C6-493C-8327-2B543D38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B37-F53B-4D98-86BC-6558E1CC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9E51-3E17-430A-88C8-8CDCC236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13200" y="15238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不完的大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292640" y="685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湘教版三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8232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2120" y="21812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草树木的生长、开花、结子，暑寒荣枯，都有各种不同的趣味。草的叶子不一样，有长有短，有的还带刺；花儿有红的、黄的、紫的、蓝的，形状有单瓣的、重瓣的，千姿百态，给人无穷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267080" y="3886200"/>
            <a:ext cx="3581640" cy="1828800"/>
          </a:xfrm>
          <a:prstGeom prst="cloudCallout">
            <a:avLst>
              <a:gd name="adj1" fmla="val 47472"/>
              <a:gd name="adj2" fmla="val 661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还写了大自然中那些有趣的现象？你最喜欢什么，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09480" y="1971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家房子的四周，栽有各种果树，有梨树、桃树、橘子树、柚子树，它们在不同的季节开不同的花，结不同的果实。从树上直接摘下的果子，格外鲜美。屋子后面还有两丛竹子，是我最爱的。雨后春笋，一天长几寸，出土几天就长得和我一样高了。青翠茎叶，亭亭玉立，显得那么纯洁。微风吹来，一片沙沙声，是那么温柔细腻。大风袭来时，竹林总是最先发出刷刷的喧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自然是一部看不完的大画册，是一本读不完的大书，里面有无穷的奥秘，无尽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2743200" y="495288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038480" y="0"/>
            <a:ext cx="3200400" cy="1828800"/>
          </a:xfrm>
          <a:prstGeom prst="cloudCallout">
            <a:avLst>
              <a:gd name="adj1" fmla="val 75050"/>
              <a:gd name="adj2" fmla="val 60675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说大自然是一本读不完的大书，看不完的大画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685800" y="5334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1128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自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941560" y="990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草树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41560" y="20574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浮云飞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941560" y="32004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兽昆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941560" y="4267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虾蟹游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41720" y="524196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981080" y="1219320"/>
            <a:ext cx="304920" cy="4419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997520" y="1066680"/>
            <a:ext cx="228600" cy="4648320"/>
          </a:xfrm>
          <a:custGeom>
            <a:avLst/>
            <a:gdLst>
              <a:gd name="textAreaLeft" fmla="*/ 0 w 228600"/>
              <a:gd name="textAreaRight" fmla="*/ 8244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989680" y="27432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不完的大画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读不完的大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1905120" y="1447920"/>
            <a:ext cx="5333760" cy="3467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联系课文内容和平时的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活积累，说说大自然中有哪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奥秘。你能提出哪些问题？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能回答哪些问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297080" y="19810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麻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708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老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7080" y="38098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队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411880" y="19810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老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41188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翠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411880" y="38098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的果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930680" y="712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下面的提示写出成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82840" y="15238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形容美女身材修长或花木等高耸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47120" y="3168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法想象，难以理解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066760" y="50292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形容姿态多种多样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344240" y="30492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照样子选词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830240" y="1050840"/>
            <a:ext cx="574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头    一棵    展翅滑翔    井然有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支    一只    雄健勇猛    亭亭玉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90720" y="2819520"/>
          <a:ext cx="6933960" cy="3124080"/>
        </p:xfrm>
        <a:graphic>
          <a:graphicData uri="http://schemas.openxmlformats.org/drawingml/2006/table">
            <a:tbl>
              <a:tblPr/>
              <a:tblGrid>
                <a:gridCol w="990360"/>
                <a:gridCol w="1752480"/>
                <a:gridCol w="1905120"/>
                <a:gridCol w="685800"/>
                <a:gridCol w="160020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这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一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快乐活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麻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老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老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翠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队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kū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昆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í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营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qiā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迁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2"/>
          <p:cNvPicPr/>
          <p:nvPr/>
        </p:nvPicPr>
        <p:blipFill>
          <a:blip r:embed="rId1"/>
          <a:stretch/>
        </p:blipFill>
        <p:spPr>
          <a:xfrm>
            <a:off x="557280" y="685800"/>
            <a:ext cx="8029440" cy="51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11588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hu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货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é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诚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暑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橘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腻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522440" y="5203800"/>
            <a:ext cx="55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x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袭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à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奥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05"/>
          <p:cNvPicPr/>
          <p:nvPr/>
        </p:nvPicPr>
        <p:blipFill>
          <a:blip r:embed="rId1"/>
          <a:stretch/>
        </p:blipFill>
        <p:spPr>
          <a:xfrm>
            <a:off x="571680" y="919080"/>
            <a:ext cx="8001000" cy="5019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948840" y="624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草原上的羊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03"/>
          <p:cNvPicPr/>
          <p:nvPr/>
        </p:nvPicPr>
        <p:blipFill>
          <a:blip r:embed="rId1"/>
          <a:stretch/>
        </p:blipFill>
        <p:spPr>
          <a:xfrm>
            <a:off x="414360" y="838080"/>
            <a:ext cx="8315280" cy="4894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11588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底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04"/>
          <p:cNvPicPr/>
          <p:nvPr/>
        </p:nvPicPr>
        <p:blipFill>
          <a:blip r:embed="rId1"/>
          <a:stretch/>
        </p:blipFill>
        <p:spPr>
          <a:xfrm>
            <a:off x="471600" y="380880"/>
            <a:ext cx="8200800" cy="5781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412880" y="632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蝴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2895480" y="38862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055400" y="609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然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6"/>
          <p:cNvPicPr/>
          <p:nvPr/>
        </p:nvPicPr>
        <p:blipFill>
          <a:blip r:embed="rId1"/>
          <a:stretch/>
        </p:blipFill>
        <p:spPr>
          <a:xfrm>
            <a:off x="457200" y="365040"/>
            <a:ext cx="82296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07"/>
          <p:cNvPicPr/>
          <p:nvPr/>
        </p:nvPicPr>
        <p:blipFill>
          <a:blip r:embed="rId1"/>
          <a:stretch/>
        </p:blipFill>
        <p:spPr>
          <a:xfrm>
            <a:off x="566640" y="457200"/>
            <a:ext cx="8010720" cy="5753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4352040" y="632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1"/>
          <p:cNvPicPr/>
          <p:nvPr/>
        </p:nvPicPr>
        <p:blipFill>
          <a:blip r:embed="rId1"/>
          <a:stretch/>
        </p:blipFill>
        <p:spPr>
          <a:xfrm>
            <a:off x="723960" y="471600"/>
            <a:ext cx="7696080" cy="5914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4412880" y="632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风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160-E1C8-40C3-A97D-5A90678ADB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" y="252108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五六岁时，就到大自然里去找好玩的东西。繁茂的花草树木，空中的浮云飞鸟，地上的走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虫，水中的虾蟹游鱼等等，让人看不尽，玩不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麻雀蹦蹦跳跳，快乐活泼的样子，叫你高兴。老鹰在高空盘旋，展翅滑翔，有时猛扑而下，给人以雄健勇猛的感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小的昆虫也常叫人不可思议。蚂蚁搬家，那么长的队伍，那么井然有序的阵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í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个个尽自己的力量，搬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i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物。当它们两军对垒时，打得你死我活，直至尸体成堆。勇敢忠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é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精神，真令人敬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745000" y="8985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不完的大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2120" y="2181240"/>
            <a:ext cx="76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草树木的生长、开花、结子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暑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寒荣枯，都有各种不同的趣味。草的叶子不一样，有长有短，有的还带刺；花儿有红的、黄的、紫的、蓝的，形状有单瓣的、重瓣的，千姿百态，给人无穷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09480" y="1971720"/>
            <a:ext cx="8001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家房子的四周，栽有各种果树，有梨树、桃树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树、柚子树，它们在不同的季节开不同的花，结不同的果实。从树上直接摘下的果子，格外鲜美。屋子后面还有两丛竹子，是我最爱的。雨后春笋，一天长几寸，出土几天就长得和我一样高了。青翠茎叶，亭亭玉立，显得那么纯洁。微风吹来，一片沙沙声，是那么温柔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大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时，竹林总是最先发出刷刷的喧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自然是一部看不完的大画册，是一本读不完的大书，里面有无穷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秘，无尽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3232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五六岁时，就到大自然里去找好玩的东西。繁茂的花草树木，空中的浮云飞鸟，地上的走兽昆虫，水中的虾蟹游鱼等等，让人看不尽，玩不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211480" y="9748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不完的大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400356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124080" y="400356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5638680" y="400356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609480" y="44197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8153280" y="403848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1128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自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941560" y="990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草树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941560" y="20574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浮云飞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941560" y="32004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兽昆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941560" y="4267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虾蟹游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141720" y="524196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1981080" y="1219320"/>
            <a:ext cx="304920" cy="4419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2743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麻雀蹦蹦跳跳，快乐活泼的样子，叫你高兴。老鹰在高空盘旋，展翅滑翔，有时猛扑而下，给人以雄健勇猛的感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小的昆虫也常叫人不可思议。蚂蚁搬家，那么长的队伍，那么井然有序的阵营，个个尽自己的力量，搬迁货物。当它们两军对垒时，打得你死我活，直至尸体成堆。勇敢忠诚的精神，真令人敬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609480" y="380880"/>
            <a:ext cx="3200400" cy="1828800"/>
          </a:xfrm>
          <a:prstGeom prst="cloudCallout">
            <a:avLst>
              <a:gd name="adj1" fmla="val -49453"/>
              <a:gd name="adj2" fmla="val 62935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课文具体写大自然中哪些好玩的东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1295280" y="3200400"/>
            <a:ext cx="2210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7924680" y="32004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609480" y="358128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5715000" y="426708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4:46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9:33Z</dcterms:modified>
  <cp:revision>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