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chimes.wav" ContentType="audio/x-wav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6FE-855C-4695-A7DD-3F8CAF4975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00A4-9DD0-485A-99C5-86542C3031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42F-C0CC-44D7-975C-9F379079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2E5-6256-4673-BA3C-D125E1D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537-CF4F-433E-9E77-9FCB66C4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ADF-17B5-42BF-BE86-F7BE4F4E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794-B92D-4AC7-B6F2-E16B7DD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2D6-13B6-49C7-AAA9-61D46B06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A9A-713E-418B-8D70-B79D78E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F60-E9C3-4EB6-AF3B-7C3F39F4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F02-661F-45E1-96C5-6182E36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872-30E1-46F8-8AA8-F87B0CE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2DB-5F46-4E4B-8452-07D0D51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22A-172B-4955-ADD2-F8E679D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CA13-9983-41C2-B64B-D9851FF4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674720" y="2133720"/>
            <a:ext cx="5867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大海的歌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684360" y="692280"/>
            <a:ext cx="5545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迷你简少儿"/>
              </a:rPr>
              <a:t>湘教版一年级语文上册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迷你简少儿"/>
              <a:ea typeface="迷你简少儿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648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句子，哪句写得更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展现在我眼前的是天，云，海和朝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展现在我眼前的是蓝天，白云，碧绿的海和正从东方升起的朝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海港两岸装卸吊车很多，吊杆很灵活，海轮也很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海港两岸，钢铁巨人一般的装卸吊车犹如密林，数不尽的巨臂上下挥动；飘着各色旗子的海轮犹如卫队，密密层层地排列在码头两边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全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文中几次写到大海在唱歌？大海为什么要唱歌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啊，我仿佛听见大海正唱着一曲新歌”中的“一曲新歌”指的是什么？表达了作者怎样的心情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71640" y="4581360"/>
            <a:ext cx="34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激动、自豪的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6808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92360" y="1773360"/>
            <a:ext cx="628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一、你想向大海提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二、选字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渔                      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）民在海上捕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                       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浪花好像（       ）跟我们说（      ）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422800" y="320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715360" y="320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986640" y="493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650280" y="493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5"/>
          <p:cNvSpPr txBox="1"/>
          <p:nvPr/>
        </p:nvSpPr>
        <p:spPr>
          <a:xfrm>
            <a:off x="2556000" y="8841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  写一写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707080" cy="37908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3657600" y="811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字复习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CBB-D872-4B53-B733-4D414C40A8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5920" y="70128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2565360"/>
            <a:ext cx="6553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了解祖国大海的美丽，海港的繁荣和祖国建设新成就，激发对欣欣向荣的社会主义祖国的热爱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会比较基本句与加修饰成份句子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会本课生字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746280" y="5823000"/>
            <a:ext cx="65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252880" y="1628640"/>
            <a:ext cx="530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 大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笑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回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答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抱  人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民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流汗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海浪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很</a:t>
            </a:r>
            <a:r>
              <a:rPr b="0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咸   渔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蓝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答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550872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916360" y="1682640"/>
            <a:ext cx="3168360" cy="291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094200" y="1484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916360" y="31845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502160" y="168264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2484360" y="0"/>
            <a:ext cx="5745240" cy="680868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 rot="5400000">
            <a:off x="263160" y="291456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赏析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927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0:03:4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46:48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