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FC2-52A9-465F-A5BD-CD9880A573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E50-1F7D-4560-B4E4-BCB5C16220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4C7-3D28-40AD-9C1B-540916B4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000-AC08-4F2C-8C80-22DE0FA9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238-6777-459F-B642-9F45ED51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B92-67C8-47DF-BB2A-1CD222A8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85C-A4B9-408E-8853-8BADFB2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5C4-05F1-4996-BF73-940D6E9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C4E-BBA2-4870-9F4B-E97D279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26D-5B59-4DE3-BB7B-9550A8D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D2A-6FC5-4EBC-958C-65EE537D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2D8-D09E-4912-B9F2-36D454B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4CD-31CD-4964-A424-2E884C9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EA9-5D98-43DB-A5D6-1C624F0D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7460-1D62-4F0B-BC28-C9590844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1776240" y="1025640"/>
            <a:ext cx="5585040" cy="136512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838160" y="5943600"/>
            <a:ext cx="567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027160" y="2041560"/>
            <a:ext cx="505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哼着　　繁茂　　　　雏鹰　　遨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027160" y="3429000"/>
            <a:ext cx="505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哗哗　　旋涡　　　　谜语　　沉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779640" y="1523880"/>
            <a:ext cx="98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只是太阳惊奇，我们有了沉默的白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768480" y="2666880"/>
            <a:ext cx="12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只是月亮发现，我们有了多梦的夜晚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469800" y="5292720"/>
            <a:ext cx="62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CA7D-7BFA-4D50-82A8-FFF7573FE5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853360" y="990720"/>
            <a:ext cx="34372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ē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小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伸展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茂的树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雏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去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游蓝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还是昨天的那个孩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还是昨天的那张娃娃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09960" y="228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梦的季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048120" y="358128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0" y="1981080"/>
            <a:ext cx="2286000" cy="1143000"/>
          </a:xfrm>
          <a:prstGeom prst="wedgeRoundRectCallout">
            <a:avLst>
              <a:gd name="adj1" fmla="val 85555"/>
              <a:gd name="adj2" fmla="val 6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繁茂：指树的枝叶长得繁密茂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048120" y="396252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248520" y="2743200"/>
            <a:ext cx="2286000" cy="838080"/>
          </a:xfrm>
          <a:prstGeom prst="wedgeRoundRectCallout">
            <a:avLst>
              <a:gd name="adj1" fmla="val -108263"/>
              <a:gd name="adj2" fmla="val 74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雏鹰：幼小的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048120" y="43434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6477120" y="4343400"/>
            <a:ext cx="2286000" cy="838080"/>
          </a:xfrm>
          <a:prstGeom prst="wedgeRoundRectCallout">
            <a:avLst>
              <a:gd name="adj1" fmla="val -129513"/>
              <a:gd name="adj2" fmla="val -52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傲游：漫游、游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947680" y="479520"/>
            <a:ext cx="32162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意味着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é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站在岸上问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水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u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哗地赶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u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串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曾躺在山上问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朵无声地飘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样地飘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太阳惊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白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月亮发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多梦的夜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048120" y="198108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6705720" y="2438280"/>
            <a:ext cx="2286000" cy="1143000"/>
          </a:xfrm>
          <a:prstGeom prst="wedgeRoundRectCallout">
            <a:avLst>
              <a:gd name="adj1" fmla="val -114097"/>
              <a:gd name="adj2" fmla="val -87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旋涡：本课指水流动时形成的旋涡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3581280" y="41911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715000" y="4648320"/>
            <a:ext cx="2133720" cy="533160"/>
          </a:xfrm>
          <a:prstGeom prst="wedgeRoundRectCallout">
            <a:avLst>
              <a:gd name="adj1" fmla="val -111532"/>
              <a:gd name="adj2" fmla="val -130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沉默：不说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674520" y="19051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819880" y="914400"/>
            <a:ext cx="25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小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伸展着繁茂的树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雏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去遨游蓝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还是昨天的那个孩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还是昨天的那张娃娃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909960" y="228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梦的季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276720" y="205740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867280" y="914400"/>
            <a:ext cx="2590920" cy="1828800"/>
          </a:xfrm>
          <a:prstGeom prst="cloudCallout">
            <a:avLst>
              <a:gd name="adj1" fmla="val 55759"/>
              <a:gd name="adj2" fmla="val 60763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很熟很熟的路”是指哪条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048120" y="35053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3048120" y="4267080"/>
            <a:ext cx="1218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2057400" y="46483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3048120" y="464832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19520" y="15620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2000" y="1562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叶繁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919520" y="3040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雏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672000" y="304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独自遨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919520" y="438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672000" y="4381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还是娃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5867280" y="3581280"/>
            <a:ext cx="2590920" cy="1676520"/>
          </a:xfrm>
          <a:prstGeom prst="cloudCallout">
            <a:avLst>
              <a:gd name="adj1" fmla="val 57412"/>
              <a:gd name="adj2" fmla="val 60324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看到这些景象，想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322800" y="479520"/>
            <a:ext cx="20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意味着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曾站在岸上问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水哗哗地赶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旋涡串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曾躺在山上问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朵无声地飘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谜一样地飘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太阳惊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沉默的白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月亮发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多梦的夜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2819520" y="91440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867280" y="457200"/>
            <a:ext cx="2590920" cy="1752480"/>
          </a:xfrm>
          <a:prstGeom prst="cloudCallout">
            <a:avLst>
              <a:gd name="adj1" fmla="val 60356"/>
              <a:gd name="adj2" fmla="val 5987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觉得长大意味着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4038480" y="41911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3809880"/>
            <a:ext cx="3200400" cy="2057400"/>
          </a:xfrm>
          <a:prstGeom prst="cloudCallout">
            <a:avLst>
              <a:gd name="adj1" fmla="val 53620"/>
              <a:gd name="adj2" fmla="val 43597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沉默”是什么意思？你觉得这句诗中的“沉默”指的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581280" y="7391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3962520" y="49528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2590920"/>
            <a:ext cx="3048120" cy="1958760"/>
          </a:xfrm>
          <a:prstGeom prst="cloudCallout">
            <a:avLst>
              <a:gd name="adj1" fmla="val -41666"/>
              <a:gd name="adj2" fmla="val 5300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里的“多梦”是什么意思？你认为小作者会梦见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74520" y="19051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919520" y="15620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672000" y="1562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叶繁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919520" y="3040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雏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2000" y="304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独自傲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19520" y="438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672000" y="4381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还是娃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5302080" y="1676520"/>
            <a:ext cx="228600" cy="3276360"/>
          </a:xfrm>
          <a:custGeom>
            <a:avLst/>
            <a:gdLst>
              <a:gd name="textAreaLeft" fmla="*/ 0 w 228600"/>
              <a:gd name="textAreaRight" fmla="*/ 82440 w 2286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218280" y="2765520"/>
            <a:ext cx="109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渴望独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望长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10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31Z</dcterms:modified>
  <cp:revision>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