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gif" ContentType="image/gif"/>
  <Override PartName="/ppt/media/image13.jpeg" ContentType="image/jpeg"/>
  <Override PartName="/ppt/media/image8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3.gif" ContentType="image/gif"/>
  <Override PartName="/ppt/media/image12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1.gif" ContentType="image/gif"/>
  <Override PartName="/ppt/media/image2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C848-2F38-4FB2-B120-E138742309A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23BF-A475-409E-BC4B-C6C88D152420}" type="slidenum">
              <a:rPr b="0" lang="zh-CN" sz="1200" spc="-1" strike="noStrike">
                <a:solidFill>
                  <a:srgbClr val="00336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CF778-E112-449C-B3FA-EE330C39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7D864-171E-42A8-81A7-6B122FC6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FB6068-548E-4047-B76C-98C071770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38D4-8E33-4E04-8126-636A690FE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73B709-0111-42DC-97DF-2A855D58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50E2B-FBC3-44D1-B3B3-A3FA0902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D5F18-C6A4-4CC5-A131-04AC1256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9BFA-5708-4AE6-8E78-9155A2177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7D802-3146-482B-851B-9D753BEF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3EA63-F71E-4EEE-ABFE-374A7C7E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6ED434-74B0-4717-9A66-07A9EF61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570F5C-520F-42D4-8C57-BDDE1FD77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2C914-413E-4F22-B1AA-25771D30C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4530-CBE4-4782-8F26-647769825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B972E3-68B6-4661-8242-5B467BF4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9AFB3D-3C0F-4071-9947-7B6FC95B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B2D16-E948-416B-9876-0A74F77A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EE5D6-3F1C-477B-B3FB-9650E28C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FCF3F-1EFB-4010-BECF-AB7E929F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A39BE-9E44-414F-A804-4AF2D6C86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080C83-844F-47EB-9FB0-DC065E37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A52FC-3471-4A7A-AF72-8DE82A36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8B590-1F77-4053-9455-64A7B55F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4D80B2-7402-416C-B526-6E411444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65BF26-1D9F-44B1-9B72-B5B80754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15E16C-D0F2-4EAB-B10B-5ACB72C4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DAA5C-9662-436F-A1C9-AA56C78FF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DBE23-BB97-4C84-864A-FD425C24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092FAA-B2B9-4E18-AD40-F6FDC65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0B0B11-D808-46C7-8153-66C25E99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419E-215D-42DF-9C52-4494394E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7A058-9429-4E6C-971A-781BF50B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3FB5A2-FF72-4D80-A112-1046DBD0C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C0531-C9BA-46D8-8D17-885FA404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879AB-CECA-42FA-81E6-65A03DCE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EC3A2-79D7-41A8-848A-593F48C5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C57DD-34EA-4A2C-824E-31583298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FB80F-B8FC-427B-9A2B-5C512E359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F5517-7332-4F89-A7D2-E469A576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85AC8-14A7-4389-B814-FF87F913C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9A178-6A0B-42B3-B250-3AA8CA1B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493-8549-4CE0-A9DA-728658F6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16950-CB28-41E6-88FA-994D3B0C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39A885-A7E4-4EC2-876F-EA8EDC7D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EA685-1EA5-4DED-A6AA-05DED380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834271-B3D7-4D56-9C60-76C1CEE57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69BF4C-22CB-4E0C-B4E8-39FF78321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BAD3A-239D-43EB-A3F9-3B898E9B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C860E2-DAB3-40A5-B14D-1DE34F6CE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E66B5-03B8-4C82-8799-B8C07CD6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6F460-9B98-4D0B-BBA5-ABC5404FF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DE362-D1DD-4666-952D-CDE3BA61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3B08-F25D-4C88-B748-B11E7608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2C624-B625-4941-912D-E991B719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868CC-5E46-42CB-A30D-3F6E2DFE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F3AFAE-3528-40DD-AA95-FCB15EAA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FBB9D1-4B98-4B51-90E2-4137A7509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49FFC2-9C40-4266-A4B1-F9E139F2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483D20-8C44-4D13-ABEE-57ACAEAB1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6A5DBB-D4BB-4FD0-B873-FC76D60B0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0BF-D37B-4B83-AB2C-E4056B16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7A7-A9A5-470A-A888-178FB280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AA88-5899-4995-94BA-570A41642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D6DE-E4E8-48C5-A2A4-25CC25F2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8DC-3AA9-4FDA-B3B0-602118C0B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95A5-1C67-47EC-9091-2C549759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6EC-B64C-4D21-9064-14652F56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A9B3-1B93-4758-8E28-49E807E40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41DF-2DA2-4AE6-9E9E-6C7A68F39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41F37-2454-4923-BB73-E51C1A93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438CF-6055-47D8-92B5-98EA4B75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3847-27D5-4106-8383-C607DBAF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BCED-E2B3-4FC2-8CBE-151470588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29EC-FFE0-4585-98D5-2B8C90C9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6CD5-D8A0-4397-BBE3-6659FBD2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6471-EADC-4716-BF45-634A15CD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E41C7-BABF-4F17-BA95-7B5DC2F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B1F6-E104-4ED3-A89D-4A9E6CFD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40BC-0531-4ED9-9011-E9CBE13C6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634-0AFB-4203-8A4C-DD09ABE6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498D-8BA7-4971-B37A-6FF05AFFC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8B5EB-DCBB-49FF-87F3-DD729F6E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071B5-D265-4DEF-B9FE-AFA18643D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6D5DE-6A2F-49D5-BC34-8B84242F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7D565-D7BC-48F1-812D-8A613EA4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EEE84-FC7B-4472-B6DB-E48FD172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66412-C0EC-458B-9A75-5ED3149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B52A9-52E4-4DE5-9BD7-46523D5DC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A513AC-3597-46DE-854E-ACDBBF0E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E4356-2A0B-4299-B01E-26015248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0A0E-B3CC-4D2A-BDD9-D2A990A3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0113-E662-4895-BB41-886E281B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62A74-6DC7-44AD-A4F6-A615DB0B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4C214-EA22-4CB2-9FF9-14067213A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38C8F-B888-4583-BBAA-BD6D3574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FCD84-CF65-41F8-9618-EB27C6B28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9C61A-92F1-476D-9CDF-08998084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89233-9DD1-4525-8A42-F46E6295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6F90F-D701-4C1C-A2AB-691AC0DF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B310C-6CCF-41FF-A107-AB1D7605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924E9-1441-441C-B146-E2BD4DD3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A618B-90E1-4B6E-85DD-B4FF8BAD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582EA-92D6-4923-B574-8584942C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C82C-7B0B-4839-8933-0711F4BB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C690A-3476-4C76-8A20-4550E0FF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20ACB-59D5-44E2-9FC4-A014320C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61E6E-35FE-4AC2-B187-3364DD60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FCA40-8B13-40DC-A632-1EC9EF11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DC5E7-6C13-426E-AA9D-0811DE91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EDD4D-730B-4012-BE89-D649A51A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C780C-E983-48DE-914A-0893FCDC2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93CFE-154D-4DFE-A328-1A6F5D7F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0B437-CDBE-4A16-BDFE-5A31A284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0CC82-6198-4A94-B509-71FAF5B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82264-87D3-4E6E-B6C3-5EF607191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82D25-3CA4-4A7D-BE1F-269EB11E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A1BA9-3962-4183-BFA9-972CD51E7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E6BA4-A762-42F5-AD79-5A9FDC36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64F5E3-CC92-40F0-85F8-45892ED0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35EB5-6726-4462-B374-E59DD2E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0CB019-0336-44AE-9197-6AE3BA5A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0F2D4-3BA3-41D6-B4E2-31F1AA2C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C117DA-7E93-4DA4-B2E5-D15623A2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E227DF-8689-4716-9856-C183D508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A2A57D-CF06-49A5-B727-2494244A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485924-343A-4D07-9EB3-EEB22B5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40F43-1B20-4FD2-A2E4-226950AD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759CF-A75C-445A-A2AA-E2DD856F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16CAA-F971-4436-8C9F-5960CEFDF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2A6A8-7245-4A48-B82A-2A9CCDFEA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E38E0-8EF6-45B5-B867-045DD267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D1EEC-3ADD-4139-A506-89F3C3D4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F878B-3298-4D46-90A7-0164033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623E35-0A2C-4B01-A43C-D51CB9B4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A15B00-731A-4570-B6C3-2F71C5C9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FCE51-56C6-4697-8947-CB2CEA10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136A-C605-4434-A3A8-165FB6F20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D882F-BCB0-4E8A-8D5C-E5A05A5A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32D07-53BC-45B9-9BC4-F50DA9BD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BC0ED-CFF2-48ED-B72E-A7EA18A2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9FA04-EE37-4F23-BE25-A8C7528B4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98FF2-08B8-4C73-AD47-B594F6A6E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E6C8C-9B0A-44CC-AE67-C9D18488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D465A-8AC1-4F08-B09C-5D0CFAB4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7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AD2F-DB57-47D0-AB22-E002970F2D1B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dt" idx="28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ftr" idx="29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sldNum" idx="30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E6FF-E3DC-4A71-9C65-3E7E03F4DC5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dt" idx="3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ftr" idx="3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sldNum" idx="3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8B894-F88D-4F6F-AAE4-14749D0A5A0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dt" idx="3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ftr" idx="3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3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10C0-C3ED-413B-990D-EAC4F556F053}" type="slidenum"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C7E5E-630F-40E3-8C4D-A7D92ED4B72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03ED7-462D-4633-ADE1-019EDDEF167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9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0DFC-71D8-441E-BE37-744E391961F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0F20-DE27-400E-AFD3-F8D19177053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FB4AB-2EC2-452B-B14B-A5AA2C84A7C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5E61-8C99-4322-97F6-0B640B4D6342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dt" idx="19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ftr" idx="20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Num" idx="21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BB28-A89B-4A36-8A0A-9234853D872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dt" idx="22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ftr" idx="23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sldNum" idx="24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E61D-C225-4625-BEA7-80FDC879BCE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3.xml"/><Relationship Id="rId3" Type="http://schemas.openxmlformats.org/officeDocument/2006/relationships/image" Target="../media/image4.jpeg"/><Relationship Id="rId4" Type="http://schemas.openxmlformats.org/officeDocument/2006/relationships/slide" Target="slide3.xml"/><Relationship Id="rId5" Type="http://schemas.openxmlformats.org/officeDocument/2006/relationships/image" Target="../media/image14.png"/><Relationship Id="rId6" Type="http://schemas.openxmlformats.org/officeDocument/2006/relationships/slide" Target="slide3.xml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4.jpeg"/><Relationship Id="rId3" Type="http://schemas.openxmlformats.org/officeDocument/2006/relationships/slide" Target="slide5.xm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" Target="slide7.xm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2.png"/><Relationship Id="rId3" Type="http://schemas.openxmlformats.org/officeDocument/2006/relationships/slide" Target="slide8.xml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AutoShape 14"/>
          <p:cNvSpPr/>
          <p:nvPr/>
        </p:nvSpPr>
        <p:spPr>
          <a:xfrm rot="10800000">
            <a:off x="1096920" y="3746520"/>
            <a:ext cx="2790720" cy="922320"/>
          </a:xfrm>
          <a:prstGeom prst="triangle">
            <a:avLst>
              <a:gd name="adj" fmla="val 5787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4" name="Rectangle 13"/>
          <p:cNvSpPr/>
          <p:nvPr/>
        </p:nvSpPr>
        <p:spPr>
          <a:xfrm>
            <a:off x="1096920" y="3726000"/>
            <a:ext cx="2790720" cy="176040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843840" y="1758600"/>
            <a:ext cx="7303320" cy="113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6666"/>
                </a:solidFill>
                <a:latin typeface="微软雅黑"/>
                <a:ea typeface="微软雅黑"/>
              </a:rPr>
              <a:t>地球信箱</a:t>
            </a:r>
            <a:endParaRPr b="1" lang="en-US" sz="8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16" name="Picture 6" descr="地球信箱"/>
          <p:cNvPicPr/>
          <p:nvPr/>
        </p:nvPicPr>
        <p:blipFill>
          <a:blip r:embed="rId1"/>
          <a:stretch/>
        </p:blipFill>
        <p:spPr>
          <a:xfrm>
            <a:off x="5221440" y="3290760"/>
            <a:ext cx="3659040" cy="27561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7" descr="4"/>
          <p:cNvPicPr/>
          <p:nvPr/>
        </p:nvPicPr>
        <p:blipFill>
          <a:blip r:embed="rId2">
            <a:lum bright="-16000"/>
          </a:blip>
          <a:stretch/>
        </p:blipFill>
        <p:spPr>
          <a:xfrm>
            <a:off x="1363680" y="4103640"/>
            <a:ext cx="1800360" cy="1131840"/>
          </a:xfrm>
          <a:prstGeom prst="rect">
            <a:avLst/>
          </a:prstGeom>
          <a:ln w="0">
            <a:noFill/>
          </a:ln>
        </p:spPr>
      </p:pic>
      <p:sp>
        <p:nvSpPr>
          <p:cNvPr id="518" name="WordArt 18"/>
          <p:cNvSpPr txBox="1"/>
          <p:nvPr/>
        </p:nvSpPr>
        <p:spPr>
          <a:xfrm>
            <a:off x="1981080" y="4322880"/>
            <a:ext cx="565200" cy="565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>
                        <a:alpha val="67058"/>
                      </a:srgbClr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爱</a:t>
            </a:r>
            <a:endParaRPr b="0" lang="en-US" sz="1800" spc="1" strike="noStrike">
              <a:ln w="1260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>
                      <a:alpha val="67058"/>
                    </a:srgbClr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9" name="矩形 10"/>
          <p:cNvSpPr/>
          <p:nvPr/>
        </p:nvSpPr>
        <p:spPr>
          <a:xfrm>
            <a:off x="2061720" y="61437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5" descr="云"/>
          <p:cNvPicPr/>
          <p:nvPr/>
        </p:nvPicPr>
        <p:blipFill>
          <a:blip r:embed="rId1"/>
          <a:stretch/>
        </p:blipFill>
        <p:spPr>
          <a:xfrm>
            <a:off x="2286000" y="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585" name="Rectangle 49"/>
          <p:cNvSpPr/>
          <p:nvPr/>
        </p:nvSpPr>
        <p:spPr>
          <a:xfrm>
            <a:off x="2057400" y="23274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6" name="TextBox 77"/>
          <p:cNvSpPr/>
          <p:nvPr/>
        </p:nvSpPr>
        <p:spPr>
          <a:xfrm>
            <a:off x="685800" y="26668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宋体"/>
                <a:ea typeface="宋体"/>
              </a:rPr>
              <a:t>这些多情的信件给作者和读者什么启迪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7" name="矩形 78"/>
          <p:cNvSpPr/>
          <p:nvPr/>
        </p:nvSpPr>
        <p:spPr>
          <a:xfrm>
            <a:off x="990720" y="4572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呼吁人们保护大自然，改造大自然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88" name="Picture 5" descr="落叶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雪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495680" y="0"/>
            <a:ext cx="2286000" cy="198108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4" descr="煤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781680" y="0"/>
            <a:ext cx="2362320" cy="1981080"/>
          </a:xfrm>
          <a:prstGeom prst="rect">
            <a:avLst/>
          </a:prstGeom>
          <a:ln w="0">
            <a:noFill/>
          </a:ln>
        </p:spPr>
      </p:pic>
      <p:sp>
        <p:nvSpPr>
          <p:cNvPr id="591" name="TextBox 83"/>
          <p:cNvSpPr/>
          <p:nvPr/>
        </p:nvSpPr>
        <p:spPr>
          <a:xfrm>
            <a:off x="6243480" y="5562720"/>
            <a:ext cx="46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2" name="TextBox 84"/>
          <p:cNvSpPr/>
          <p:nvPr/>
        </p:nvSpPr>
        <p:spPr>
          <a:xfrm>
            <a:off x="2286000" y="556272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发出一篇爱的宣言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6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6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5" descr="4"/>
          <p:cNvPicPr/>
          <p:nvPr/>
        </p:nvPicPr>
        <p:blipFill>
          <a:blip r:embed="rId1"/>
          <a:stretch/>
        </p:blipFill>
        <p:spPr>
          <a:xfrm>
            <a:off x="-762120" y="0"/>
            <a:ext cx="10585440" cy="6858000"/>
          </a:xfrm>
          <a:prstGeom prst="rect">
            <a:avLst/>
          </a:prstGeom>
          <a:ln w="0">
            <a:noFill/>
          </a:ln>
        </p:spPr>
      </p:pic>
      <p:sp>
        <p:nvSpPr>
          <p:cNvPr id="594" name="WordArt 6"/>
          <p:cNvSpPr txBox="1"/>
          <p:nvPr/>
        </p:nvSpPr>
        <p:spPr>
          <a:xfrm>
            <a:off x="2152800" y="1773360"/>
            <a:ext cx="5162400" cy="244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我的宣言是</a:t>
            </a:r>
            <a:endParaRPr b="1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95" name="文本框 1"/>
          <p:cNvSpPr/>
          <p:nvPr/>
        </p:nvSpPr>
        <p:spPr>
          <a:xfrm>
            <a:off x="880920" y="6127920"/>
            <a:ext cx="528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3366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2"/>
          <p:cNvSpPr/>
          <p:nvPr/>
        </p:nvSpPr>
        <p:spPr>
          <a:xfrm>
            <a:off x="2362320" y="60948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2895480" y="2952720"/>
            <a:ext cx="1216080" cy="52020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98" name="Picture 20" descr="C:\Users\Administrator\Desktop\荒山.jpg"/>
          <p:cNvPicPr/>
          <p:nvPr/>
        </p:nvPicPr>
        <p:blipFill>
          <a:blip r:embed="rId1"/>
          <a:stretch/>
        </p:blipFill>
        <p:spPr>
          <a:xfrm>
            <a:off x="-304920" y="0"/>
            <a:ext cx="4800600" cy="3886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21" descr="C:\Users\Administrator\Desktop\污河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7339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沙漠"/>
          <p:cNvPicPr/>
          <p:nvPr/>
        </p:nvPicPr>
        <p:blipFill>
          <a:blip r:embed="rId3"/>
          <a:stretch/>
        </p:blipFill>
        <p:spPr>
          <a:xfrm>
            <a:off x="-228600" y="38098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22" descr="C:\Users\Administrator\Desktop\灰蒙蒙的云天.jpg"/>
          <p:cNvPicPr/>
          <p:nvPr/>
        </p:nvPicPr>
        <p:blipFill>
          <a:blip r:embed="rId4"/>
          <a:stretch/>
        </p:blipFill>
        <p:spPr>
          <a:xfrm>
            <a:off x="4343400" y="3733920"/>
            <a:ext cx="4800600" cy="35305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24"/>
          <p:cNvSpPr/>
          <p:nvPr/>
        </p:nvSpPr>
        <p:spPr>
          <a:xfrm>
            <a:off x="0" y="38088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让光秃秃的山坡重披（      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3" name="TextBox 25"/>
          <p:cNvSpPr/>
          <p:nvPr/>
        </p:nvSpPr>
        <p:spPr>
          <a:xfrm>
            <a:off x="4419720" y="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让浑浊的河水变得（       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4" name="TextBox 26"/>
          <p:cNvSpPr/>
          <p:nvPr/>
        </p:nvSpPr>
        <p:spPr>
          <a:xfrm>
            <a:off x="1523880" y="6172200"/>
            <a:ext cx="21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绿洲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5" name="TextBox 28"/>
          <p:cNvSpPr/>
          <p:nvPr/>
        </p:nvSpPr>
        <p:spPr>
          <a:xfrm>
            <a:off x="4495680" y="5486400"/>
            <a:ext cx="3886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　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让灰暗的天空再现（       ）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6" name="TextBox 29"/>
          <p:cNvSpPr/>
          <p:nvPr/>
        </p:nvSpPr>
        <p:spPr>
          <a:xfrm>
            <a:off x="914400" y="10303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宋体"/>
              </a:rPr>
              <a:t>绿装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7" name="TextBox 30"/>
          <p:cNvSpPr/>
          <p:nvPr/>
        </p:nvSpPr>
        <p:spPr>
          <a:xfrm>
            <a:off x="4876920" y="6094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宋体"/>
              </a:rPr>
              <a:t>清澈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8" name="TextBox 31"/>
          <p:cNvSpPr/>
          <p:nvPr/>
        </p:nvSpPr>
        <p:spPr>
          <a:xfrm>
            <a:off x="0" y="5562720"/>
            <a:ext cx="373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宋体"/>
              </a:rPr>
              <a:t>让荒芜的沙漠变成（       ）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09" name="TextBox 32"/>
          <p:cNvSpPr/>
          <p:nvPr/>
        </p:nvSpPr>
        <p:spPr>
          <a:xfrm>
            <a:off x="6019920" y="6095880"/>
            <a:ext cx="144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蔚蓝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AutoShape 14"/>
          <p:cNvSpPr/>
          <p:nvPr/>
        </p:nvSpPr>
        <p:spPr>
          <a:xfrm rot="10800000">
            <a:off x="1676520" y="4191120"/>
            <a:ext cx="2790720" cy="922320"/>
          </a:xfrm>
          <a:prstGeom prst="triangle">
            <a:avLst>
              <a:gd name="adj" fmla="val 57875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1" name="Rectangle 2"/>
          <p:cNvSpPr/>
          <p:nvPr/>
        </p:nvSpPr>
        <p:spPr>
          <a:xfrm>
            <a:off x="2590920" y="60948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2" name="TextBox 8"/>
          <p:cNvSpPr/>
          <p:nvPr/>
        </p:nvSpPr>
        <p:spPr>
          <a:xfrm>
            <a:off x="1143000" y="9907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课后拓展练习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3" name="Rectangle 13"/>
          <p:cNvSpPr/>
          <p:nvPr/>
        </p:nvSpPr>
        <p:spPr>
          <a:xfrm>
            <a:off x="1676520" y="4170240"/>
            <a:ext cx="2790720" cy="1468440"/>
          </a:xfrm>
          <a:prstGeom prst="rect">
            <a:avLst/>
          </a:prstGeom>
          <a:solidFill>
            <a:srgbClr val="ffffff">
              <a:alpha val="70000"/>
            </a:srgbClr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614" name="Picture 17" descr="4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1981080" y="4495680"/>
            <a:ext cx="1800360" cy="1131840"/>
          </a:xfrm>
          <a:prstGeom prst="rect">
            <a:avLst/>
          </a:prstGeom>
          <a:ln w="0">
            <a:noFill/>
          </a:ln>
        </p:spPr>
      </p:pic>
      <p:sp>
        <p:nvSpPr>
          <p:cNvPr id="615" name="WordArt 18"/>
          <p:cNvSpPr txBox="1"/>
          <p:nvPr/>
        </p:nvSpPr>
        <p:spPr>
          <a:xfrm>
            <a:off x="2590920" y="4648320"/>
            <a:ext cx="565200" cy="5652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ff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>
                        <a:alpha val="67058"/>
                      </a:srgbClr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爱</a:t>
            </a:r>
            <a:endParaRPr b="0" lang="en-US" sz="1800" spc="1" strike="noStrike">
              <a:ln w="12600">
                <a:solidFill>
                  <a:srgbClr val="0000ff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>
                      <a:alpha val="67058"/>
                    </a:srgbClr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16" name="TextBox 13"/>
          <p:cNvSpPr/>
          <p:nvPr/>
        </p:nvSpPr>
        <p:spPr>
          <a:xfrm>
            <a:off x="838080" y="26668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给我们遗忘的伙伴写一封爱的信件 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"/>
                            </p:stCondLst>
                            <p:childTnLst>
                              <p:par>
                                <p:cTn id="2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dur="indefinite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66"/>
                </a:solidFill>
                <a:latin typeface="Arial"/>
              </a:rPr>
              <a:t>使用规范说明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7EC8-D015-451F-B3A1-BDED7E52864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AutoShape 2"/>
          <p:cNvSpPr/>
          <p:nvPr/>
        </p:nvSpPr>
        <p:spPr>
          <a:xfrm flipH="1" rot="5400000">
            <a:off x="-2566080" y="1284840"/>
            <a:ext cx="5130720" cy="499896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003366">
                  <a:alpha val="56078"/>
                </a:srgbClr>
              </a:gs>
              <a:gs pos="100000">
                <a:srgbClr val="ffffff">
                  <a:alpha val="4823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1" name="AutoShape 3"/>
          <p:cNvSpPr/>
          <p:nvPr/>
        </p:nvSpPr>
        <p:spPr>
          <a:xfrm rot="5400000">
            <a:off x="-3069360" y="754560"/>
            <a:ext cx="6137280" cy="606888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b9b9d1"/>
              </a:gs>
              <a:gs pos="50000">
                <a:srgbClr val="666699"/>
              </a:gs>
              <a:gs pos="100000">
                <a:srgbClr val="b9b9d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22" name="Group 53"/>
          <p:cNvGrpSpPr/>
          <p:nvPr/>
        </p:nvGrpSpPr>
        <p:grpSpPr>
          <a:xfrm>
            <a:off x="1981080" y="1066680"/>
            <a:ext cx="533520" cy="484200"/>
            <a:chOff x="1981080" y="1066680"/>
            <a:chExt cx="533520" cy="484200"/>
          </a:xfrm>
        </p:grpSpPr>
        <p:sp>
          <p:nvSpPr>
            <p:cNvPr id="523" name="Oval 54"/>
            <p:cNvSpPr/>
            <p:nvPr/>
          </p:nvSpPr>
          <p:spPr>
            <a:xfrm>
              <a:off x="1981080" y="1066680"/>
              <a:ext cx="533520" cy="4842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Oval 55"/>
            <p:cNvSpPr/>
            <p:nvPr/>
          </p:nvSpPr>
          <p:spPr>
            <a:xfrm>
              <a:off x="2011320" y="1093680"/>
              <a:ext cx="472320" cy="4287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Oval 56"/>
            <p:cNvSpPr/>
            <p:nvPr/>
          </p:nvSpPr>
          <p:spPr>
            <a:xfrm>
              <a:off x="2039760" y="1118880"/>
              <a:ext cx="415800" cy="379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0033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Oval 57"/>
            <p:cNvSpPr/>
            <p:nvPr/>
          </p:nvSpPr>
          <p:spPr>
            <a:xfrm>
              <a:off x="2039040" y="1119240"/>
              <a:ext cx="416880" cy="37908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0f53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Oval 58"/>
            <p:cNvSpPr/>
            <p:nvPr/>
          </p:nvSpPr>
          <p:spPr>
            <a:xfrm>
              <a:off x="2066760" y="1144080"/>
              <a:ext cx="360360" cy="328680"/>
            </a:xfrm>
            <a:prstGeom prst="ellipse">
              <a:avLst/>
            </a:prstGeom>
            <a:gradFill rotWithShape="0">
              <a:gsLst>
                <a:gs pos="0">
                  <a:srgbClr val="001c37"/>
                </a:gs>
                <a:gs pos="50000">
                  <a:srgbClr val="003366"/>
                </a:gs>
                <a:gs pos="100000">
                  <a:srgbClr val="001c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Oval 59"/>
            <p:cNvSpPr/>
            <p:nvPr/>
          </p:nvSpPr>
          <p:spPr>
            <a:xfrm>
              <a:off x="2066400" y="1144080"/>
              <a:ext cx="362160" cy="329040"/>
            </a:xfrm>
            <a:prstGeom prst="ellipse">
              <a:avLst/>
            </a:prstGeom>
            <a:gradFill rotWithShape="0">
              <a:gsLst>
                <a:gs pos="0">
                  <a:srgbClr val="21b3e1"/>
                </a:gs>
                <a:gs pos="100000">
                  <a:srgbClr val="1057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9" name="Text Box 102"/>
          <p:cNvSpPr/>
          <p:nvPr/>
        </p:nvSpPr>
        <p:spPr>
          <a:xfrm>
            <a:off x="2209680" y="61722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0" name="TextBox 42"/>
          <p:cNvSpPr/>
          <p:nvPr/>
        </p:nvSpPr>
        <p:spPr>
          <a:xfrm>
            <a:off x="2590920" y="99072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认读生字词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1" name="TextBox 43"/>
          <p:cNvSpPr/>
          <p:nvPr/>
        </p:nvSpPr>
        <p:spPr>
          <a:xfrm>
            <a:off x="3124080" y="26668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邮箱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2" name="TextBox 44"/>
          <p:cNvSpPr/>
          <p:nvPr/>
        </p:nvSpPr>
        <p:spPr>
          <a:xfrm>
            <a:off x="4952880" y="266688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圣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3" name="TextBox 45"/>
          <p:cNvSpPr/>
          <p:nvPr/>
        </p:nvSpPr>
        <p:spPr>
          <a:xfrm>
            <a:off x="7162920" y="266688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脊梁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4" name="TextBox 46"/>
          <p:cNvSpPr/>
          <p:nvPr/>
        </p:nvSpPr>
        <p:spPr>
          <a:xfrm>
            <a:off x="3200400" y="371160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空腹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5" name="TextBox 48"/>
          <p:cNvSpPr/>
          <p:nvPr/>
        </p:nvSpPr>
        <p:spPr>
          <a:xfrm>
            <a:off x="4952880" y="363528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煤炭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6" name="TextBox 49"/>
          <p:cNvSpPr/>
          <p:nvPr/>
        </p:nvSpPr>
        <p:spPr>
          <a:xfrm>
            <a:off x="7238880" y="358128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迸发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7" name="TextBox 50"/>
          <p:cNvSpPr/>
          <p:nvPr/>
        </p:nvSpPr>
        <p:spPr>
          <a:xfrm>
            <a:off x="3200400" y="48006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炽热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38" name="TextBox 51"/>
          <p:cNvSpPr/>
          <p:nvPr/>
        </p:nvSpPr>
        <p:spPr>
          <a:xfrm>
            <a:off x="5029200" y="4778280"/>
            <a:ext cx="182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仿佛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1"/>
          <p:cNvSpPr/>
          <p:nvPr/>
        </p:nvSpPr>
        <p:spPr>
          <a:xfrm>
            <a:off x="5486400" y="3733920"/>
            <a:ext cx="2514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0" name="TextBox 13"/>
          <p:cNvSpPr/>
          <p:nvPr/>
        </p:nvSpPr>
        <p:spPr>
          <a:xfrm>
            <a:off x="1066680" y="8380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地球这个信箱都有哪些爱的信件，都是谁写给谁的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541" name="组合 22"/>
          <p:cNvGrpSpPr/>
          <p:nvPr/>
        </p:nvGrpSpPr>
        <p:grpSpPr>
          <a:xfrm>
            <a:off x="1295280" y="2514600"/>
            <a:ext cx="5410440" cy="792000"/>
            <a:chOff x="1295280" y="2514600"/>
            <a:chExt cx="5410440" cy="792000"/>
          </a:xfrm>
        </p:grpSpPr>
        <p:sp>
          <p:nvSpPr>
            <p:cNvPr id="542" name="AutoShape 18">
              <a:hlinkClick r:id="rId1" action="ppaction://hlinksldjump"/>
            </p:cNvPr>
            <p:cNvSpPr/>
            <p:nvPr/>
          </p:nvSpPr>
          <p:spPr>
            <a:xfrm>
              <a:off x="1295280" y="2514600"/>
              <a:ext cx="468360" cy="79200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TextBox 18"/>
            <p:cNvSpPr/>
            <p:nvPr/>
          </p:nvSpPr>
          <p:spPr>
            <a:xfrm>
              <a:off x="1981080" y="2666880"/>
              <a:ext cx="4724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3366"/>
                  </a:solidFill>
                  <a:latin typeface="Arial"/>
                  <a:ea typeface="宋体"/>
                </a:rPr>
                <a:t>落叶写给大地母亲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4" name="组合 23"/>
          <p:cNvGrpSpPr/>
          <p:nvPr/>
        </p:nvGrpSpPr>
        <p:grpSpPr>
          <a:xfrm>
            <a:off x="1295280" y="3505320"/>
            <a:ext cx="5410440" cy="792000"/>
            <a:chOff x="1295280" y="3505320"/>
            <a:chExt cx="5410440" cy="792000"/>
          </a:xfrm>
        </p:grpSpPr>
        <p:sp>
          <p:nvSpPr>
            <p:cNvPr id="545" name="AutoShape 18">
              <a:hlinkClick r:id="rId2" action="ppaction://hlinksldjump"/>
            </p:cNvPr>
            <p:cNvSpPr/>
            <p:nvPr/>
          </p:nvSpPr>
          <p:spPr>
            <a:xfrm>
              <a:off x="1295280" y="3505320"/>
              <a:ext cx="468360" cy="79200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TextBox 19"/>
            <p:cNvSpPr/>
            <p:nvPr/>
          </p:nvSpPr>
          <p:spPr>
            <a:xfrm>
              <a:off x="1981080" y="3698640"/>
              <a:ext cx="4724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3366"/>
                  </a:solidFill>
                  <a:latin typeface="Arial"/>
                  <a:ea typeface="宋体"/>
                </a:rPr>
                <a:t>太阳写给大地的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组合 24"/>
          <p:cNvGrpSpPr/>
          <p:nvPr/>
        </p:nvGrpSpPr>
        <p:grpSpPr>
          <a:xfrm>
            <a:off x="1295280" y="4572000"/>
            <a:ext cx="5334120" cy="792000"/>
            <a:chOff x="1295280" y="4572000"/>
            <a:chExt cx="5334120" cy="792000"/>
          </a:xfrm>
        </p:grpSpPr>
        <p:sp>
          <p:nvSpPr>
            <p:cNvPr id="548" name="AutoShape 18">
              <a:hlinkClick r:id="rId3" action="ppaction://hlinksldjump"/>
            </p:cNvPr>
            <p:cNvSpPr/>
            <p:nvPr/>
          </p:nvSpPr>
          <p:spPr>
            <a:xfrm>
              <a:off x="1295280" y="4572000"/>
              <a:ext cx="468000" cy="79200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TextBox 20"/>
            <p:cNvSpPr/>
            <p:nvPr/>
          </p:nvSpPr>
          <p:spPr>
            <a:xfrm>
              <a:off x="1904760" y="4724280"/>
              <a:ext cx="4724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3366"/>
                  </a:solidFill>
                  <a:latin typeface="Arial"/>
                  <a:ea typeface="宋体"/>
                </a:rPr>
                <a:t>冬天写给春天的</a:t>
              </a:r>
              <a:endParaRPr b="0" lang="en-US" sz="30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50" name="组合 25"/>
          <p:cNvGrpSpPr/>
          <p:nvPr/>
        </p:nvGrpSpPr>
        <p:grpSpPr>
          <a:xfrm>
            <a:off x="1295280" y="5638680"/>
            <a:ext cx="6172200" cy="792360"/>
            <a:chOff x="1295280" y="5638680"/>
            <a:chExt cx="6172200" cy="792360"/>
          </a:xfrm>
        </p:grpSpPr>
        <p:sp>
          <p:nvSpPr>
            <p:cNvPr id="551" name="AutoShape 18">
              <a:hlinkClick r:id="rId4" action="ppaction://hlinksldjump"/>
            </p:cNvPr>
            <p:cNvSpPr/>
            <p:nvPr/>
          </p:nvSpPr>
          <p:spPr>
            <a:xfrm>
              <a:off x="1295280" y="5638680"/>
              <a:ext cx="468000" cy="792360"/>
            </a:xfrm>
            <a:prstGeom prst="diamond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TextBox 21"/>
            <p:cNvSpPr/>
            <p:nvPr/>
          </p:nvSpPr>
          <p:spPr>
            <a:xfrm>
              <a:off x="1904760" y="5801040"/>
              <a:ext cx="55627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3366"/>
                  </a:solidFill>
                  <a:latin typeface="Arial"/>
                  <a:ea typeface="宋体"/>
                </a:rPr>
                <a:t>“</a:t>
              </a:r>
              <a:r>
                <a:rPr b="1" lang="zh-CN" sz="3000" spc="-1" strike="noStrike">
                  <a:solidFill>
                    <a:srgbClr val="003366"/>
                  </a:solidFill>
                  <a:latin typeface="Arial"/>
                  <a:ea typeface="宋体"/>
                </a:rPr>
                <a:t>遥远的过去”写给“今 天</a:t>
              </a:r>
              <a:r>
                <a:rPr b="1" lang="zh-CN" sz="2800" spc="-1" strike="noStrike">
                  <a:solidFill>
                    <a:srgbClr val="003366"/>
                  </a:solidFill>
                  <a:latin typeface="Arial"/>
                  <a:ea typeface="宋体"/>
                </a:rPr>
                <a:t>”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53" name="TextBox 26"/>
          <p:cNvSpPr/>
          <p:nvPr/>
        </p:nvSpPr>
        <p:spPr>
          <a:xfrm>
            <a:off x="5334120" y="358128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你最喜欢哪封信？为什么？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1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7"/>
          <p:cNvSpPr/>
          <p:nvPr/>
        </p:nvSpPr>
        <p:spPr>
          <a:xfrm>
            <a:off x="3222720" y="317664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5" name="AutoShape 9"/>
          <p:cNvSpPr/>
          <p:nvPr/>
        </p:nvSpPr>
        <p:spPr>
          <a:xfrm flipH="1">
            <a:off x="4876920" y="350532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56" name="Picture 5" descr="落叶3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859280" y="0"/>
            <a:ext cx="4284720" cy="35002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落叶1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859280" y="3505320"/>
            <a:ext cx="4284720" cy="3429000"/>
          </a:xfrm>
          <a:prstGeom prst="rect">
            <a:avLst/>
          </a:prstGeom>
          <a:ln w="0">
            <a:noFill/>
          </a:ln>
        </p:spPr>
      </p:pic>
      <p:sp>
        <p:nvSpPr>
          <p:cNvPr id="558" name="TextBox 27"/>
          <p:cNvSpPr/>
          <p:nvPr/>
        </p:nvSpPr>
        <p:spPr>
          <a:xfrm>
            <a:off x="914400" y="762120"/>
            <a:ext cx="396252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捡起的落叶是一封信：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那里有它刚一泛绿，就开始书写给大地母亲的思念。叶儿越写越多，叶片越写越大，直到把碧绿写成了黄色，才把满载的情思，托付秋风邮发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7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0" name="Picture 8" descr="u=1817723094,2941752562&amp;fm=0&amp;gp=20"/>
          <p:cNvPicPr/>
          <p:nvPr/>
        </p:nvPicPr>
        <p:blipFill>
          <a:blip r:embed="rId1"/>
          <a:stretch/>
        </p:blipFill>
        <p:spPr>
          <a:xfrm>
            <a:off x="0" y="0"/>
            <a:ext cx="2627280" cy="3284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" descr="云"/>
          <p:cNvPicPr/>
          <p:nvPr/>
        </p:nvPicPr>
        <p:blipFill>
          <a:blip r:embed="rId2"/>
          <a:stretch/>
        </p:blipFill>
        <p:spPr>
          <a:xfrm>
            <a:off x="2627280" y="0"/>
            <a:ext cx="3240000" cy="3276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7" descr="金云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867280" y="0"/>
            <a:ext cx="3276720" cy="3276720"/>
          </a:xfrm>
          <a:prstGeom prst="rect">
            <a:avLst/>
          </a:prstGeom>
          <a:ln w="0">
            <a:noFill/>
          </a:ln>
        </p:spPr>
      </p:pic>
      <p:sp>
        <p:nvSpPr>
          <p:cNvPr id="563" name="TextBox 60"/>
          <p:cNvSpPr/>
          <p:nvPr/>
        </p:nvSpPr>
        <p:spPr>
          <a:xfrm>
            <a:off x="762120" y="35053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抬头看云儿也是一封信：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4" name="TextBox 61"/>
          <p:cNvSpPr/>
          <p:nvPr/>
        </p:nvSpPr>
        <p:spPr>
          <a:xfrm>
            <a:off x="838080" y="4114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太阳把给大地的信写在天上，片片云彩就是五色的信笺。白云写的是圣洁，红云写的是吉祥，金云写的是丰收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宋体"/>
              </a:rPr>
              <a:t>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5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8"/>
          <p:cNvSpPr/>
          <p:nvPr/>
        </p:nvSpPr>
        <p:spPr>
          <a:xfrm>
            <a:off x="6705720" y="4724280"/>
            <a:ext cx="145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学情分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66" name="Picture 4" descr="d6c82e2ef4c63dc51e32346687ab647d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132000" cy="31417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雨河"/>
          <p:cNvPicPr/>
          <p:nvPr/>
        </p:nvPicPr>
        <p:blipFill>
          <a:blip r:embed="rId3"/>
          <a:stretch/>
        </p:blipFill>
        <p:spPr>
          <a:xfrm>
            <a:off x="3132000" y="0"/>
            <a:ext cx="3024360" cy="30686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44cf04bf0252df331a8b038d9aa8a363"/>
          <p:cNvPicPr/>
          <p:nvPr/>
        </p:nvPicPr>
        <p:blipFill>
          <a:blip r:embed="rId4"/>
          <a:stretch/>
        </p:blipFill>
        <p:spPr>
          <a:xfrm>
            <a:off x="6156360" y="0"/>
            <a:ext cx="2987640" cy="3068640"/>
          </a:xfrm>
          <a:prstGeom prst="rect">
            <a:avLst/>
          </a:prstGeom>
          <a:ln w="0">
            <a:noFill/>
          </a:ln>
        </p:spPr>
      </p:pic>
      <p:sp>
        <p:nvSpPr>
          <p:cNvPr id="569" name="TextBox 45"/>
          <p:cNvSpPr/>
          <p:nvPr/>
        </p:nvSpPr>
        <p:spPr>
          <a:xfrm>
            <a:off x="804960" y="347976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色彩越写越多，云朵越写越重，支撑不住的盛情，就从那里滴滴答答地飘落。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落在水面，江海读得荡波；落到大地，泥土读出清香；落进麦田，强壮了庄稼的脊梁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17"/>
          <p:cNvSpPr/>
          <p:nvPr/>
        </p:nvSpPr>
        <p:spPr>
          <a:xfrm>
            <a:off x="6804000" y="3860640"/>
            <a:ext cx="145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f8f8f8"/>
                </a:solidFill>
                <a:latin typeface="Arial"/>
                <a:ea typeface="宋体"/>
              </a:rPr>
              <a:t>学情分析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1" name="Picture 5" descr="雪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572" name="TextBox 19">
            <a:hlinkClick r:id="rId3" action="ppaction://hlinksldjump"/>
          </p:cNvPr>
          <p:cNvSpPr/>
          <p:nvPr/>
        </p:nvSpPr>
        <p:spPr>
          <a:xfrm>
            <a:off x="685800" y="38862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即使是满身银装的冬天，仍是一封信：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3" name="TextBox 20"/>
          <p:cNvSpPr/>
          <p:nvPr/>
        </p:nvSpPr>
        <p:spPr>
          <a:xfrm>
            <a:off x="838080" y="47991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看它把雪白的信纸一页页地铺满了天地，满腹的话儿不知从哪儿下笔。只好把这篇无字的纯白，寄给了春天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/>
          <p:cNvSpPr/>
          <p:nvPr/>
        </p:nvSpPr>
        <p:spPr>
          <a:xfrm rot="5400000">
            <a:off x="873360" y="4231440"/>
            <a:ext cx="2743200" cy="20523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5" name="Freeform 3"/>
          <p:cNvSpPr/>
          <p:nvPr/>
        </p:nvSpPr>
        <p:spPr>
          <a:xfrm>
            <a:off x="125424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99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143000" y="441972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创设学习氛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激发学习欲望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宋体"/>
                <a:ea typeface="宋体"/>
              </a:rPr>
              <a:t>增强学习兴趣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7" name="AutoShape 24"/>
          <p:cNvSpPr/>
          <p:nvPr/>
        </p:nvSpPr>
        <p:spPr>
          <a:xfrm flipV="1">
            <a:off x="129708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78" name="Picture 4" descr="煤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635280" cy="6858000"/>
          </a:xfrm>
          <a:prstGeom prst="rect">
            <a:avLst/>
          </a:prstGeom>
          <a:ln w="0">
            <a:noFill/>
          </a:ln>
        </p:spPr>
      </p:pic>
      <p:sp>
        <p:nvSpPr>
          <p:cNvPr id="579" name="矩形 37"/>
          <p:cNvSpPr/>
          <p:nvPr/>
        </p:nvSpPr>
        <p:spPr>
          <a:xfrm>
            <a:off x="365760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就连乌黑的煤，竟然也是一封信，是一封从遥远的过去发给今天的信：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0" name="TextBox 38"/>
          <p:cNvSpPr/>
          <p:nvPr/>
        </p:nvSpPr>
        <p:spPr>
          <a:xfrm>
            <a:off x="3886200" y="2590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它把亿万年的精华，深深地埋藏，直到今天才在燃烧中迸发炽热。听！它在向我们传唱，亿万亿万年前，太阳教给它的歌。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Box 25"/>
          <p:cNvSpPr/>
          <p:nvPr/>
        </p:nvSpPr>
        <p:spPr>
          <a:xfrm>
            <a:off x="990720" y="762120"/>
            <a:ext cx="815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  <a:ea typeface="宋体"/>
              </a:rPr>
              <a:t>这些美丽的信件，哪一封不感人至深？哪一封不给人启迪？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2" name="TextBox 26"/>
          <p:cNvSpPr/>
          <p:nvPr/>
        </p:nvSpPr>
        <p:spPr>
          <a:xfrm>
            <a:off x="1066680" y="2714760"/>
            <a:ext cx="815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这些美丽的信件，每一封都感人至深，每一封都给人启迪。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3" name="矩形 27"/>
          <p:cNvSpPr/>
          <p:nvPr/>
        </p:nvSpPr>
        <p:spPr>
          <a:xfrm>
            <a:off x="2883960" y="47642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反问句    语气更强烈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0:4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2:50Z</dcterms:modified>
  <cp:revision>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