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6F3E-1356-4BAF-B87D-1483411C8C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F90D-B7FE-4AB9-9A93-213DAF0D64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0D9-F72F-489F-8D37-1FCA925A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976-48BF-40CE-BA66-F745FB5B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704-FDE4-49BC-913C-2B926BE1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470-E213-4F24-A0A5-A349394F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82C-67C6-4184-B2F1-C457B56E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39B-E263-4EFE-9340-2BAC399B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9D1-84D7-4F30-B857-0EBB62D5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FC2-F5F5-4820-B582-B8A61319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D13-624D-4F96-8D41-26D0AF71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BC9-BCA0-47C3-837C-C2229F5F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CA0-8137-4A6A-9F10-2E568CB3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57A-1068-4511-802F-204E899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F340-176C-4C47-9AF8-D8EC4794A4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215968"/>
                </a:solidFill>
                <a:latin typeface="华文新魏"/>
                <a:ea typeface="华文新魏"/>
              </a:rPr>
              <a:t>登鹳雀楼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695840" y="3357720"/>
            <a:ext cx="3602160" cy="249228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206352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"/>
          <p:cNvSpPr/>
          <p:nvPr/>
        </p:nvSpPr>
        <p:spPr>
          <a:xfrm>
            <a:off x="1371600" y="2682720"/>
            <a:ext cx="63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五边形 3"/>
          <p:cNvSpPr/>
          <p:nvPr/>
        </p:nvSpPr>
        <p:spPr>
          <a:xfrm>
            <a:off x="395280" y="785880"/>
            <a:ext cx="3357720" cy="1285920"/>
          </a:xfrm>
          <a:custGeom>
            <a:avLst/>
            <a:gdLst>
              <a:gd name="textAreaLeft" fmla="*/ 0 w 3357720"/>
              <a:gd name="textAreaRight" fmla="*/ 3358080 w 335772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7" y="0"/>
                </a:lnTo>
                <a:lnTo>
                  <a:pt x="21600" y="10800"/>
                </a:lnTo>
                <a:lnTo>
                  <a:pt x="174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创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3348000" y="1844640"/>
            <a:ext cx="556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作者早年及第，曾任过冀州衡水县的主薄，不久因遭人诬陷而罢官，不到三十岁的王之涣，从此过上了访友漫游的生活。写这首诗的时候，王之涣只有三十五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五边形 3"/>
          <p:cNvSpPr/>
          <p:nvPr/>
        </p:nvSpPr>
        <p:spPr>
          <a:xfrm>
            <a:off x="539640" y="765000"/>
            <a:ext cx="3357720" cy="1285920"/>
          </a:xfrm>
          <a:custGeom>
            <a:avLst/>
            <a:gdLst>
              <a:gd name="textAreaLeft" fmla="*/ 0 w 3357720"/>
              <a:gd name="textAreaRight" fmla="*/ 3358080 w 335772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7" y="0"/>
                </a:lnTo>
                <a:lnTo>
                  <a:pt x="21600" y="10800"/>
                </a:lnTo>
                <a:lnTo>
                  <a:pt x="174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诗歌主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3564000" y="177336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登鹳雀楼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气势磅礴、意境深远，千百年来一直激励着中华民族昂扬向上。特别是后二句，常常被引用，借以表达积极探索和无限进取的人生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五边形 3"/>
          <p:cNvSpPr/>
          <p:nvPr/>
        </p:nvSpPr>
        <p:spPr>
          <a:xfrm>
            <a:off x="571680" y="642960"/>
            <a:ext cx="3357360" cy="1285920"/>
          </a:xfrm>
          <a:custGeom>
            <a:avLst/>
            <a:gdLst>
              <a:gd name="textAreaLeft" fmla="*/ 0 w 3357360"/>
              <a:gd name="textAreaRight" fmla="*/ 3357720 w 335736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7" y="0"/>
                </a:lnTo>
                <a:lnTo>
                  <a:pt x="21600" y="10800"/>
                </a:lnTo>
                <a:lnTo>
                  <a:pt x="174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趣味课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1908000" y="2349360"/>
            <a:ext cx="62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朗读并背诵诗歌，选择背诵熟练的同学，进行诗朗诵表演，要求声情并茂、情感充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1859c"/>
                </a:solidFill>
                <a:latin typeface="Calibri"/>
              </a:rPr>
              <a:t>动手实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763640" y="1916280"/>
            <a:ext cx="62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白日依山尽，黄河入海流。欲穷千里目，更上一层楼。”想象这首诗歌描绘了一幅怎样的画面，尝试着画一画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思考3.jpg"/>
          <p:cNvPicPr/>
          <p:nvPr/>
        </p:nvPicPr>
        <p:blipFill>
          <a:blip r:embed="rId1"/>
          <a:stretch/>
        </p:blipFill>
        <p:spPr>
          <a:xfrm>
            <a:off x="5986440" y="4627440"/>
            <a:ext cx="31575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DF20-9793-4CBE-B0E2-009107E4E8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8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04a7b"/>
                </a:solidFill>
                <a:latin typeface="Calibri"/>
              </a:rPr>
              <a:t>作者简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五边形 3"/>
          <p:cNvSpPr/>
          <p:nvPr/>
        </p:nvSpPr>
        <p:spPr>
          <a:xfrm>
            <a:off x="627120" y="2122560"/>
            <a:ext cx="2500200" cy="928440"/>
          </a:xfrm>
          <a:custGeom>
            <a:avLst/>
            <a:gdLst>
              <a:gd name="textAreaLeft" fmla="*/ 0 w 2500200"/>
              <a:gd name="textAreaRight" fmla="*/ 2500560 w 250020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2" y="0"/>
                </a:lnTo>
                <a:lnTo>
                  <a:pt x="21600" y="10800"/>
                </a:lnTo>
                <a:lnTo>
                  <a:pt x="175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王之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86080" y="1714680"/>
            <a:ext cx="3210120" cy="37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4000"/>
              </a:srgbClr>
            </a:outerShdw>
          </a:effectLst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5286240" y="2786040"/>
            <a:ext cx="26575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6500880" y="4243320"/>
            <a:ext cx="22860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"/>
          <p:cNvSpPr/>
          <p:nvPr/>
        </p:nvSpPr>
        <p:spPr>
          <a:xfrm>
            <a:off x="3492360" y="549360"/>
            <a:ext cx="54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王之涣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688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74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），是盛唐时期的著名诗人，字季凌。豪放不羁，常击剑悲歌，其诗多被当时乐工制曲歌唱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名动一时，善于描写边塞风光著称。其代表作有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登鹳雀楼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凉州词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五边形 2"/>
          <p:cNvSpPr/>
          <p:nvPr/>
        </p:nvSpPr>
        <p:spPr>
          <a:xfrm>
            <a:off x="395280" y="1197000"/>
            <a:ext cx="2500200" cy="928800"/>
          </a:xfrm>
          <a:custGeom>
            <a:avLst/>
            <a:gdLst>
              <a:gd name="textAreaLeft" fmla="*/ 0 w 2500200"/>
              <a:gd name="textAreaRight" fmla="*/ 2500560 w 25002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2" y="0"/>
                </a:lnTo>
                <a:lnTo>
                  <a:pt x="21600" y="10800"/>
                </a:lnTo>
                <a:lnTo>
                  <a:pt x="175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王之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2340000" y="692280"/>
            <a:ext cx="55008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登鹳雀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唐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王之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白日依山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黄河入海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欲穷千里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更上一层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195640" y="1557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五边形 3"/>
          <p:cNvSpPr/>
          <p:nvPr/>
        </p:nvSpPr>
        <p:spPr>
          <a:xfrm>
            <a:off x="571680" y="642960"/>
            <a:ext cx="3357360" cy="1285920"/>
          </a:xfrm>
          <a:custGeom>
            <a:avLst/>
            <a:gdLst>
              <a:gd name="textAreaLeft" fmla="*/ 0 w 3357360"/>
              <a:gd name="textAreaRight" fmla="*/ 3357720 w 335736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7" y="0"/>
                </a:lnTo>
                <a:lnTo>
                  <a:pt x="21600" y="10800"/>
                </a:lnTo>
                <a:lnTo>
                  <a:pt x="174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重点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云形 4"/>
          <p:cNvSpPr/>
          <p:nvPr/>
        </p:nvSpPr>
        <p:spPr>
          <a:xfrm>
            <a:off x="3963960" y="2232000"/>
            <a:ext cx="1644840" cy="1071720"/>
          </a:xfrm>
          <a:prstGeom prst="pi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白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云形 5"/>
          <p:cNvSpPr/>
          <p:nvPr/>
        </p:nvSpPr>
        <p:spPr>
          <a:xfrm>
            <a:off x="5929200" y="1392120"/>
            <a:ext cx="1643040" cy="1073160"/>
          </a:xfrm>
          <a:prstGeom prst="pie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云形 6"/>
          <p:cNvSpPr/>
          <p:nvPr/>
        </p:nvSpPr>
        <p:spPr>
          <a:xfrm>
            <a:off x="3643200" y="4143240"/>
            <a:ext cx="2286000" cy="1500480"/>
          </a:xfrm>
          <a:prstGeom prst="pie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鹳雀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云形 7"/>
          <p:cNvSpPr/>
          <p:nvPr/>
        </p:nvSpPr>
        <p:spPr>
          <a:xfrm>
            <a:off x="1776240" y="3071880"/>
            <a:ext cx="1643400" cy="1071360"/>
          </a:xfrm>
          <a:prstGeom prst="pie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云形 8"/>
          <p:cNvSpPr/>
          <p:nvPr/>
        </p:nvSpPr>
        <p:spPr>
          <a:xfrm>
            <a:off x="7020000" y="3606840"/>
            <a:ext cx="1643040" cy="1071360"/>
          </a:xfrm>
          <a:prstGeom prst="pie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3"/>
          <p:cNvSpPr/>
          <p:nvPr/>
        </p:nvSpPr>
        <p:spPr>
          <a:xfrm>
            <a:off x="1928880" y="228600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白日依山尽，黄河入海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边形 4"/>
          <p:cNvSpPr/>
          <p:nvPr/>
        </p:nvSpPr>
        <p:spPr>
          <a:xfrm>
            <a:off x="571680" y="642960"/>
            <a:ext cx="3357360" cy="1285920"/>
          </a:xfrm>
          <a:custGeom>
            <a:avLst/>
            <a:gdLst>
              <a:gd name="textAreaLeft" fmla="*/ 0 w 3357360"/>
              <a:gd name="textAreaRight" fmla="*/ 3357720 w 335736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7" y="0"/>
                </a:lnTo>
                <a:lnTo>
                  <a:pt x="21600" y="10800"/>
                </a:lnTo>
                <a:lnTo>
                  <a:pt x="174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诗歌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627280" y="356724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太阳依傍山峦渐渐下落，黄河向着大海滔滔东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3"/>
          <p:cNvSpPr/>
          <p:nvPr/>
        </p:nvSpPr>
        <p:spPr>
          <a:xfrm>
            <a:off x="1857240" y="15001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欲穷千里目，更上一层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2268360" y="285264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如果要想遍览千里风景，请再登上一层高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07:27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3:25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