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FC99-C1AD-45BD-8248-5BDCBBA1D7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DB31-4005-44B1-8D26-C8950E3E22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AE7-EFBD-47A8-B763-7F527863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E1C-B303-4BE9-99C7-9FD21958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671-5475-49EA-B5E9-06263F82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799-3122-4FC9-9169-95AF9812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12D1-7889-45A9-934F-62BA947E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362-420B-46A6-B38A-05B06160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458-782B-4B64-9AF8-3EA08C0E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791-7888-4C73-B320-DF354548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FA7-5774-4250-A428-8641B96C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D2F-7292-4234-B4A0-41D0E3FE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EC4-F6DC-4128-B4C8-10762019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ADF-8B18-4D65-91A2-7A2DFDFE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F945-D31C-4C0D-8EE6-48891F9C34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33520" y="739800"/>
            <a:ext cx="8172360" cy="55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901"/>
          <p:cNvPicPr/>
          <p:nvPr/>
        </p:nvPicPr>
        <p:blipFill>
          <a:blip r:embed="rId2"/>
          <a:stretch/>
        </p:blipFill>
        <p:spPr>
          <a:xfrm>
            <a:off x="533520" y="1582560"/>
            <a:ext cx="3471840" cy="468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2895480" y="28702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486080" y="12952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《二泉映月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278160" y="5334120"/>
            <a:ext cx="54086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2280" y="609480"/>
            <a:ext cx="8763120" cy="586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901"/>
          <p:cNvPicPr/>
          <p:nvPr/>
        </p:nvPicPr>
        <p:blipFill>
          <a:blip r:embed="rId1"/>
          <a:stretch/>
        </p:blipFill>
        <p:spPr>
          <a:xfrm>
            <a:off x="152280" y="2743200"/>
            <a:ext cx="2748240" cy="37051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743200" y="152388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同学们，第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节写到了似水的月光，淙淙的流水，多么美好的中秋之夜，但饱经风霜的阿炳却回想起了辛酸的往事。美好的景，伤心的情，构成了多么强烈的对比。我们要通过有感情的朗读来体会他当时创作《二泉映月》时的情境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52280" y="609480"/>
            <a:ext cx="8763120" cy="586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901"/>
          <p:cNvPicPr/>
          <p:nvPr/>
        </p:nvPicPr>
        <p:blipFill>
          <a:blip r:embed="rId1"/>
          <a:stretch/>
        </p:blipFill>
        <p:spPr>
          <a:xfrm>
            <a:off x="152280" y="2743200"/>
            <a:ext cx="2748240" cy="3705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523880" y="1600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当时的阿炳是怎么做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590920" y="26668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听着，听着，阿炳的心颤抖起来。他禁不住拿起二胡，他要通过琴声把积淀已久的情怀，倾吐给这茫茫月夜。他的手指在琴弦上不停地滑动着，流水、月光都变成了一个个动人的音符，从琴弦上流泻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丽丽"/>
          <p:cNvPicPr/>
          <p:nvPr/>
        </p:nvPicPr>
        <p:blipFill>
          <a:blip r:embed="rId2"/>
          <a:stretch/>
        </p:blipFill>
        <p:spPr>
          <a:xfrm>
            <a:off x="533520" y="1447920"/>
            <a:ext cx="101916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539640" y="981000"/>
            <a:ext cx="2448000" cy="658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116000" y="1700280"/>
            <a:ext cx="70563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能说说这二胡曲抒发了阿炳什么情怀吗？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187280" y="2637000"/>
            <a:ext cx="71298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起初的琴声是委婉连绵的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抒发了阿炳赞叹二泉美景，怀念恩师，思索人生的情怀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步步高昂进入高潮，表达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对命运的抗争和美好未来的无限向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泉映月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代表了阿炳的最高水平，课文中是怎么评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60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就这样，一首不朽的乐曲诞生了——这就是经后人整理并定名为《二泉映月》的二胡曲。几十年来，这首曲子深受我国人民的喜爱，在国际乐坛上也享有盛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33640" y="20574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起初，琴声委婉连绵，有如山泉从幽谷中蜿蜒而来，缓缓流淌。这似乎是阿炳在赞叹惠山二泉的优美景色，在怀念对他恩重如山的师父，在思索自己走过的人生道路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小学语文(记叙文）03"/>
          <p:cNvPicPr/>
          <p:nvPr/>
        </p:nvPicPr>
        <p:blipFill>
          <a:blip r:embed="rId1"/>
          <a:stretch/>
        </p:blipFill>
        <p:spPr>
          <a:xfrm>
            <a:off x="539640" y="981000"/>
            <a:ext cx="24480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066680" y="205884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随着旋律的升腾跌宕，步步高昂，乐曲进入了高潮。它以势不可挡的力量，表达出对命运的抗争，抒发了对美好未来的无限向往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小学语文(记叙文）03"/>
          <p:cNvPicPr/>
          <p:nvPr/>
        </p:nvPicPr>
        <p:blipFill>
          <a:blip r:embed="rId1"/>
          <a:stretch/>
        </p:blipFill>
        <p:spPr>
          <a:xfrm>
            <a:off x="539640" y="981000"/>
            <a:ext cx="24480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52280" y="609480"/>
            <a:ext cx="8763120" cy="586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901"/>
          <p:cNvPicPr/>
          <p:nvPr/>
        </p:nvPicPr>
        <p:blipFill>
          <a:blip r:embed="rId1"/>
          <a:stretch/>
        </p:blipFill>
        <p:spPr>
          <a:xfrm>
            <a:off x="152280" y="2743200"/>
            <a:ext cx="2748240" cy="3705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781360" y="26290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他似乎听到了深沉的叹息，……” 你是怎么理解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6"/>
          <p:cNvSpPr txBox="1"/>
          <p:nvPr/>
        </p:nvSpPr>
        <p:spPr>
          <a:xfrm>
            <a:off x="4038480" y="17524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考考你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7" descr="丁丁"/>
          <p:cNvPicPr/>
          <p:nvPr/>
        </p:nvPicPr>
        <p:blipFill>
          <a:blip r:embed="rId2"/>
          <a:stretch/>
        </p:blipFill>
        <p:spPr>
          <a:xfrm>
            <a:off x="2362320" y="1447920"/>
            <a:ext cx="1009440" cy="828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2781360" y="4724280"/>
            <a:ext cx="60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阿炳生活的坎坷、凄凉，觉得命运如此不公，敢于同命运抗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52280" y="609480"/>
            <a:ext cx="8763120" cy="586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901"/>
          <p:cNvPicPr/>
          <p:nvPr/>
        </p:nvPicPr>
        <p:blipFill>
          <a:blip r:embed="rId1"/>
          <a:stretch/>
        </p:blipFill>
        <p:spPr>
          <a:xfrm>
            <a:off x="152280" y="2743200"/>
            <a:ext cx="2748240" cy="3705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819520" y="10033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在一个中秋之夜，阿炳在邻家少年的搀扶下，来到了二泉。似水的月光，淙淙的流水，勾起了阿炳辛酸的往事，他心中百感交集，但纵有千言万语又能对谁说。他是个艺人，此时，他要借用琴声来倾吐自己积淀已久的情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52280" y="609480"/>
            <a:ext cx="8763120" cy="586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901"/>
          <p:cNvPicPr/>
          <p:nvPr/>
        </p:nvPicPr>
        <p:blipFill>
          <a:blip r:embed="rId1"/>
          <a:stretch/>
        </p:blipFill>
        <p:spPr>
          <a:xfrm>
            <a:off x="152280" y="2743200"/>
            <a:ext cx="2748240" cy="3705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457200" y="990720"/>
            <a:ext cx="8001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乐曲久久地在二泉池畔回响，舒缓而又起伏，恬静而又激荡。阿炳用这动人心弦的琴声告诉人们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他爱那支撑他度过苦难一生的音乐，他爱那美丽富饶的家乡，他爱那惠山的清泉，他爱那照耀清泉的月光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048120" y="35053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华文中宋"/>
              </a:rPr>
              <a:t>①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华文中宋"/>
              </a:rPr>
              <a:t>圈出表现这首乐曲特点的词语。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048120" y="46483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华文中宋"/>
              </a:rPr>
              <a:t>②</a:t>
            </a:r>
            <a:r>
              <a:rPr b="0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华文中宋"/>
              </a:rPr>
              <a:t>他爱</a:t>
            </a:r>
            <a:r>
              <a:rPr b="0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华文中宋"/>
              </a:rPr>
              <a:t>的内容的顺序能调换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《二泉映月》代表了阿炳的最高水平，课文中是怎么评价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2093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就这样，一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乐曲诞生了——这就是经后人整理并定名为《二泉映月》的二胡曲。几十年来，这首曲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深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国人民的喜爱，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国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乐坛上也享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盛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瞎子阿炳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62120" y="1066680"/>
            <a:ext cx="2950920" cy="4319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886200" y="107316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阿炳，原名华彦钧，生于清光绪十九年</a:t>
            </a: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1893</a:t>
            </a: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</a:t>
            </a: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~1950</a:t>
            </a: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</a:t>
            </a: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)</a:t>
            </a: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江苏无锡人。后双目失明，人称</a:t>
            </a:r>
            <a:r>
              <a:rPr b="1" lang="zh-CN" sz="2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瞎子阿炳</a:t>
            </a:r>
            <a:r>
              <a:rPr b="1" lang="zh-CN" sz="2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其父华清和为无锡城中三清殿道观雷尊殿的当家道士，擅长道教音乐。华彦钧幼丧母，由同族婶母扶养。</a:t>
            </a: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8</a:t>
            </a: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岁随父在雷尊殿当小道士。开始在私塾读了</a:t>
            </a: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书，后从父学习鼓、笛、二胡、琵琶等乐器。</a:t>
            </a: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2</a:t>
            </a: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岁已能演奏多种乐器，并经常参加拜忏、诵经、奏乐等活动。他刻苦钻研，精益求精，并广泛吸取民间音乐的曲调，冲破道教音乐的束缚。</a:t>
            </a: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8</a:t>
            </a:r>
            <a:r>
              <a:rPr b="1" lang="zh-CN" sz="2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岁时被无锡道教音乐界誉为演奏能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245e8bcadb7d3de1c8176839"/>
          <p:cNvPicPr/>
          <p:nvPr/>
        </p:nvPicPr>
        <p:blipFill>
          <a:blip r:embed="rId1"/>
          <a:stretch/>
        </p:blipFill>
        <p:spPr>
          <a:xfrm>
            <a:off x="534960" y="8380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3792cb391d2aa1943a87ceb7"/>
          <p:cNvPicPr/>
          <p:nvPr/>
        </p:nvPicPr>
        <p:blipFill>
          <a:blip r:embed="rId1"/>
          <a:stretch/>
        </p:blipFill>
        <p:spPr>
          <a:xfrm>
            <a:off x="457200" y="762120"/>
            <a:ext cx="4038480" cy="548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20110427032903150"/>
          <p:cNvPicPr/>
          <p:nvPr/>
        </p:nvPicPr>
        <p:blipFill>
          <a:blip r:embed="rId2"/>
          <a:stretch/>
        </p:blipFill>
        <p:spPr>
          <a:xfrm>
            <a:off x="4497480" y="762120"/>
            <a:ext cx="4190760" cy="2361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20130220091340355_1"/>
          <p:cNvPicPr/>
          <p:nvPr/>
        </p:nvPicPr>
        <p:blipFill>
          <a:blip r:embed="rId3"/>
          <a:stretch/>
        </p:blipFill>
        <p:spPr>
          <a:xfrm>
            <a:off x="4497480" y="3125880"/>
            <a:ext cx="4190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52280" y="609480"/>
            <a:ext cx="8763120" cy="586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901"/>
          <p:cNvPicPr/>
          <p:nvPr/>
        </p:nvPicPr>
        <p:blipFill>
          <a:blip r:embed="rId1"/>
          <a:stretch/>
        </p:blipFill>
        <p:spPr>
          <a:xfrm>
            <a:off x="152280" y="2743200"/>
            <a:ext cx="2748240" cy="3705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2895480" y="18288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同学们，刚上课时，老师让大家听了《二泉映月》二胡曲，并且凭直觉谈了感受，通过学习了课文，现在再来听听这首《二泉映月》的曲子，你们一定会谈出很多的感想。阿炳把对人生的体验和追求通过乐曲告诉了我们，此时你们想对阿炳说些什么？请把想说的话写下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二泉映月(二胡独奏).mp3" descr="二泉映月(二胡独奏)"/>
          <p:cNvPicPr/>
          <p:nvPr/>
        </p:nvPicPr>
        <p:blipFill>
          <a:blip r:embed="rId2"/>
          <a:stretch/>
        </p:blipFill>
        <p:spPr>
          <a:xfrm>
            <a:off x="81532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1"/>
          <p:cNvSpPr/>
          <p:nvPr/>
        </p:nvSpPr>
        <p:spPr>
          <a:xfrm>
            <a:off x="2562120" y="5608800"/>
            <a:ext cx="61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37705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228600" y="533520"/>
            <a:ext cx="8763120" cy="5914440"/>
            <a:chOff x="228600" y="533520"/>
            <a:chExt cx="8763120" cy="5914440"/>
          </a:xfrm>
        </p:grpSpPr>
        <p:sp>
          <p:nvSpPr>
            <p:cNvPr id="135" name="Rectangle 3"/>
            <p:cNvSpPr/>
            <p:nvPr/>
          </p:nvSpPr>
          <p:spPr>
            <a:xfrm>
              <a:off x="228600" y="533520"/>
              <a:ext cx="8763120" cy="58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4" descr="901"/>
            <p:cNvPicPr/>
            <p:nvPr/>
          </p:nvPicPr>
          <p:blipFill>
            <a:blip r:embed="rId1"/>
            <a:stretch/>
          </p:blipFill>
          <p:spPr>
            <a:xfrm>
              <a:off x="228600" y="2742840"/>
              <a:ext cx="2747880" cy="37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Text Box 5"/>
          <p:cNvSpPr/>
          <p:nvPr/>
        </p:nvSpPr>
        <p:spPr>
          <a:xfrm>
            <a:off x="1676520" y="184464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　认真观察月夜景色，像阿炳一样全身心地体验感受，捕捉美好的景物，写一段话，下面的词语可供选用。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200400" y="3809880"/>
            <a:ext cx="5181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月光似水　静影沉璧　赏月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月光照水　水波映月　照耀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7"/>
          <p:cNvSpPr txBox="1"/>
          <p:nvPr/>
        </p:nvSpPr>
        <p:spPr>
          <a:xfrm>
            <a:off x="1447920" y="1143000"/>
            <a:ext cx="23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99ff"/>
                </a:solidFill>
                <a:latin typeface="宋体"/>
              </a:rPr>
              <a:t>课外作业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c99ff"/>
              </a:solidFill>
              <a:latin typeface="宋体"/>
              <a:ea typeface="宋体"/>
            </a:endParaRPr>
          </a:p>
        </p:txBody>
      </p:sp>
      <p:pic>
        <p:nvPicPr>
          <p:cNvPr id="140" name="Picture 8" descr="笔"/>
          <p:cNvPicPr/>
          <p:nvPr/>
        </p:nvPicPr>
        <p:blipFill>
          <a:blip r:embed="rId2"/>
          <a:stretch/>
        </p:blipFill>
        <p:spPr>
          <a:xfrm>
            <a:off x="457200" y="1066680"/>
            <a:ext cx="7761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B21E-08B0-43D0-9CEE-C5B461A65F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901"/>
          <p:cNvPicPr/>
          <p:nvPr/>
        </p:nvPicPr>
        <p:blipFill>
          <a:blip r:embed="rId1"/>
          <a:stretch/>
        </p:blipFill>
        <p:spPr>
          <a:xfrm>
            <a:off x="533520" y="2514600"/>
            <a:ext cx="2747880" cy="3705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3200400" y="114300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　　</a:t>
            </a:r>
            <a:r>
              <a:rPr b="0" lang="zh-CN" sz="5400" spc="-1" strike="noStrike">
                <a:solidFill>
                  <a:srgbClr val="800000"/>
                </a:solidFill>
                <a:latin typeface="Arial"/>
                <a:ea typeface="华文中宋"/>
              </a:rPr>
              <a:t>请同学们仔细聆听，用心体会，听完后谈谈你们的感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二泉映月(二胡独奏).mp3" descr="二泉映月(二胡独奏)"/>
          <p:cNvPicPr/>
          <p:nvPr/>
        </p:nvPicPr>
        <p:blipFill>
          <a:blip r:embed="rId2"/>
          <a:stretch/>
        </p:blipFill>
        <p:spPr>
          <a:xfrm>
            <a:off x="8077320" y="579600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7705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52280" y="380880"/>
            <a:ext cx="876312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901"/>
          <p:cNvPicPr/>
          <p:nvPr/>
        </p:nvPicPr>
        <p:blipFill>
          <a:blip r:embed="rId1"/>
          <a:stretch/>
        </p:blipFill>
        <p:spPr>
          <a:xfrm>
            <a:off x="152280" y="3152880"/>
            <a:ext cx="2408400" cy="3247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304920" y="9144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听完曲子，你们想了解关于“二泉映月”的哪些问题</a:t>
            </a:r>
            <a:r>
              <a:rPr b="1" lang="zh-CN" sz="3600" spc="-1" strike="noStrike">
                <a:solidFill>
                  <a:srgbClr val="663300"/>
                </a:solidFill>
                <a:latin typeface="宋体"/>
              </a:rPr>
              <a:t>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62120" y="2212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(</a:t>
            </a:r>
            <a:r>
              <a:rPr b="1" lang="en-US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)</a:t>
            </a:r>
            <a:r>
              <a:rPr b="1" lang="en-US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二泉映月</a:t>
            </a:r>
            <a:r>
              <a:rPr b="1" lang="en-US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是在什么情况下谱写的？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523880" y="35766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(</a:t>
            </a:r>
            <a:r>
              <a:rPr b="1" lang="en-US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)</a:t>
            </a:r>
            <a:r>
              <a:rPr b="1" lang="zh-CN" sz="3600" spc="-1" strike="noStrike">
                <a:solidFill>
                  <a:srgbClr val="003300"/>
                </a:solidFill>
                <a:latin typeface="华文中宋"/>
                <a:ea typeface="华文中宋"/>
              </a:rPr>
              <a:t>这首曲子表达了作曲者怎样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914400" y="2349360"/>
            <a:ext cx="6985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患病  搀扶  积淀  坎坷  富饶  萦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哭泣  泯灭  抒发  倔强  一泓清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静影沉璧   疾病折磨    委婉连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升腾跌宕  恬静激荡     蜿蜒而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143000" y="12193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重点字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9"/>
          <p:cNvSpPr/>
          <p:nvPr/>
        </p:nvSpPr>
        <p:spPr>
          <a:xfrm>
            <a:off x="2131920" y="2511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52280" y="609480"/>
            <a:ext cx="8763120" cy="586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901"/>
          <p:cNvPicPr/>
          <p:nvPr/>
        </p:nvPicPr>
        <p:blipFill>
          <a:blip r:embed="rId1"/>
          <a:stretch/>
        </p:blipFill>
        <p:spPr>
          <a:xfrm>
            <a:off x="152280" y="2743200"/>
            <a:ext cx="2748240" cy="3705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1066680" y="1371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饱经风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饱，充足充分。形容经历过很多艰难困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143000" y="2362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坎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坑坑洼洼，比喻人生道路曲折、充满艰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14600" y="3429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激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激动而愤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514600" y="4114800"/>
            <a:ext cx="6326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萦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萦回。文中指泉声时时在耳边回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静影沉璧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静的月影如沉在水中的玉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4952880" y="762120"/>
            <a:ext cx="24386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cc"/>
                </a:solidFill>
                <a:latin typeface="宋体"/>
              </a:rPr>
              <a:t>词语理解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99cc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听录音读课文，找出描写月亮、阿炳的身世和《二泉映月》这首曲子美的四字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981080"/>
            <a:ext cx="2514600" cy="29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月光如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月光似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静影沉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月光照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水波映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96960" y="213516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76720" y="1981080"/>
            <a:ext cx="266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师父离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双目失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卖艺度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疾病折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经历坎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738760" y="215748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 flipH="1">
            <a:off x="5791320" y="2057400"/>
            <a:ext cx="274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委婉连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升腾跌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步步高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舒缓起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恬静激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朗读 二泉映月.mp3" descr="朗读 二泉映月"/>
          <p:cNvPicPr/>
          <p:nvPr/>
        </p:nvPicPr>
        <p:blipFill>
          <a:blip r:embed="rId1"/>
          <a:stretch/>
        </p:blipFill>
        <p:spPr>
          <a:xfrm>
            <a:off x="81532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349514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152280" y="685800"/>
            <a:ext cx="876312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901"/>
          <p:cNvPicPr/>
          <p:nvPr/>
        </p:nvPicPr>
        <p:blipFill>
          <a:blip r:embed="rId1"/>
          <a:stretch/>
        </p:blipFill>
        <p:spPr>
          <a:xfrm>
            <a:off x="152280" y="2743200"/>
            <a:ext cx="2748240" cy="37051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990720" y="1828800"/>
            <a:ext cx="746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第一段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(1—2):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写中秋之夜，在二泉边师父告诉阿炳，要等他长大后才能听懂泉声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743200" y="28954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第二段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(3—4)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：写历尽人生磨难的阿炳又来到二泉边，他从淙淙的泉声中似乎听到了许多声音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743200" y="47242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三段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(5—6)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：阿炳在二泉边用二胡倾吐自己的情怀，创作出不朽名曲《二泉映月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80880" y="1066680"/>
            <a:ext cx="92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小组合作学习，给课文分段，说说每段讲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2280" y="609480"/>
            <a:ext cx="8763120" cy="586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901"/>
          <p:cNvPicPr/>
          <p:nvPr/>
        </p:nvPicPr>
        <p:blipFill>
          <a:blip r:embed="rId1"/>
          <a:stretch/>
        </p:blipFill>
        <p:spPr>
          <a:xfrm>
            <a:off x="152280" y="2743200"/>
            <a:ext cx="2748240" cy="3705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533520" y="993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《二泉映月》这首曲子是阿炳在什么样的情况下创作的呢？请带着这个问题反复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，读正确、读通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590920" y="289548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　又是一个中秋夜，阿炳在邻家少年的搀扶下，来到了二泉，月光似水，静影沉璧</a:t>
            </a:r>
            <a:r>
              <a:rPr b="0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……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他似乎听到了深沉的叹息，伤心的哭泣，激愤的倾诉，倔强的呐喊</a:t>
            </a:r>
            <a:r>
              <a:rPr b="0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0:51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8:04Z</dcterms:modified>
  <cp:revision>9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f604000000000001024120</vt:lpwstr>
  </property>
  <property fmtid="{D5CDD505-2E9C-101B-9397-08002B2CF9AE}" pid="4" name="Version">
    <vt:r8>1</vt:r8>
  </property>
</Properties>
</file>