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41BF-D5DD-42A0-B23C-47129AEDA3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B404-B842-4C8D-A7D5-4AA5915C7E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597-1EB3-468B-8E1F-897A6F0E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9BC-788A-49BE-BA3F-E546CBFB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2E1-0829-4CD1-B256-D041CF0C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39B-F3D1-422E-AD80-2409C4C4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03C-1B32-4C36-BC2B-F8E636C1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C85-D8AB-41C6-B013-6CF562D4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054-05B7-4196-9B93-93B571AA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819-AC6A-4252-9C3F-8B14C280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7CC-764C-46F1-A449-654C76E8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A1B-F155-42DF-90CE-F719E5F5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C68-75E7-4346-831D-EA1BA7DF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0A8-0395-4A13-A6AA-399E90B6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0EF5-EC8F-44B8-BF6E-7A856E01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hinanetcom.com.cn/2j/wtzz/zxll-mj.asp?Unid=64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6" descr=""/>
          <p:cNvPicPr/>
          <p:nvPr/>
        </p:nvPicPr>
        <p:blipFill>
          <a:blip r:embed="rId2"/>
          <a:stretch/>
        </p:blipFill>
        <p:spPr>
          <a:xfrm>
            <a:off x="1857240" y="5867280"/>
            <a:ext cx="5672160" cy="498600"/>
          </a:xfrm>
          <a:prstGeom prst="rect">
            <a:avLst/>
          </a:prstGeom>
          <a:ln w="0">
            <a:noFill/>
          </a:ln>
        </p:spPr>
      </p:pic>
      <p:pic>
        <p:nvPicPr>
          <p:cNvPr id="50" name="矩形 2" descr=""/>
          <p:cNvPicPr/>
          <p:nvPr/>
        </p:nvPicPr>
        <p:blipFill>
          <a:blip r:embed="rId3"/>
          <a:stretch/>
        </p:blipFill>
        <p:spPr>
          <a:xfrm>
            <a:off x="1527120" y="2209680"/>
            <a:ext cx="63756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9280" y="2133720"/>
            <a:ext cx="89154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轻声读，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自读课文，勾画出“  上卿 府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侮辱    毫不惧怕   唇枪舌剑   宽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迈昏庸   针锋相对  负荆请罪”等词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联系上下文，在组内说说词语的意思，再指名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思考课文主要写了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74320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路建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92240" y="8064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三、探究学习  主动构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路建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清文章的脉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课文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荆请罪什么意思？   ②两幕剧分别写了什么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后小组交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04920" y="765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三、探究学习  主动构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0492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课时课中优化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听写本课的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用“√”选择正确的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特殊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uch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干燥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ào zhà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　这东西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ōng xī dōng x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很是地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ì dao dì dào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绝对不会假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勉（励 历）自己 出类拔（萃 翠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在一片赞扬声中，我们的头脑要保持（平静 安静 冷静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隅顽抗 ⑴背（ ） ⑵违背（ ） ⑶倚靠（ ）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、句式变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用恰当的关联词把两句话合为一句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廉将军没穿上衣。廉将军背着一根荆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请您宽恕我这个老迈昏庸的人吧！（改为双重否定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、思考本节课提出的问题，准备下节课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04920" y="770040"/>
            <a:ext cx="73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一、展示交流  为课导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762120" y="1752480"/>
            <a:ext cx="74674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负荆请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谁向谁请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要请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结果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3276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蔺相如的深明大义、宽容大度体现在什么地方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蔺相如避让廉颇为的是什么？假如他们俩闹翻了，将会出现什么结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61880" y="6620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二、探究学习  主动构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61880" y="21337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路建议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读第一幕剧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346480" y="79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276800" y="1536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学习剧本第一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152280" y="1503360"/>
            <a:ext cx="91440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蔺相如的深明大义、宽容大度体现在什么地方 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109440" y="2971800"/>
            <a:ext cx="892836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语言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你要知道，秦王不敢侵犯我国，是因为我们赵国武有廉颇，文有蔺相如。要是我跟将军闹翻了，后果将会怎样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00"/>
                </a:solidFill>
                <a:latin typeface="Arial"/>
                <a:ea typeface="楷体_GB2312"/>
              </a:rPr>
              <a:t>心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00"/>
                </a:solidFill>
                <a:latin typeface="Arial"/>
                <a:ea typeface="楷体_GB2312"/>
              </a:rPr>
              <a:t>神态：</a:t>
            </a:r>
            <a:r>
              <a:rPr b="1" i="1" lang="zh-CN" sz="3200" spc="-1" strike="noStrike" u="sng">
                <a:solidFill>
                  <a:srgbClr val="002060"/>
                </a:solidFill>
                <a:uFillTx/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600" y="755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二、探究学习  主动构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250920" y="213192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5148360" cy="5300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863960" y="990720"/>
            <a:ext cx="4284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隶书"/>
              </a:rPr>
              <a:t>廉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肚鸡肠、心胸狭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傲慢无礼、自私自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争名夺利、居功自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盛气凌人、耀武扬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隶书"/>
              </a:rPr>
              <a:t>蔺相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忍辱负重、心胸宽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顾全大局、大公无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宽容大度、一心为国</a:t>
            </a:r>
            <a:r>
              <a:rPr b="0" lang="zh-CN" sz="32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0920" y="458640"/>
            <a:ext cx="85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读了剧本的第一幕，廉颇和蔺相如给你留下了怎样的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09480" y="990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“负荆请罪”是什么意思？这个成语的来源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廉颇是怎样向蔺相如请罪的呢？我们来看剧本第二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80880" y="8128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二、探究学习  主动构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04920" y="6541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三、探究学习  主动构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308760" y="16160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学习剧本第二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33520" y="2743200"/>
            <a:ext cx="8610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读第二幕剧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为什么说蔺相如“真是一个深明大义、宽容大度的人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廉颇是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组内读一读，演一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17440" y="1066680"/>
            <a:ext cx="8763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幕剧本主要通过语言、动作刻画了廉颇勇于改过的爽直磊落的性格特点，对蔺相如的深明大义、宽容大度也有一定的揭示。下面我们来看文中插图，想像一下他们当时的神情、心理活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09480" y="25146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曾经学过什么剧本？剧本的一般特点是什么？阅读剧本的基本要求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0666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一、创设情境  导入新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04-5-16-14-26-15-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19320"/>
            <a:ext cx="845820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13116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黑体"/>
                <a:ea typeface="黑体"/>
              </a:rPr>
              <a:t>负荆请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8600" y="1600200"/>
            <a:ext cx="89154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真是一个深明大义、宽容大度的人啊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理解“深明大义、宽容大度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蔺相如的“深明大义、宽容大度”表现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行动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荆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边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廉颇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起廉颇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衣服替廉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76120" y="8380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三、探究学习  主动构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80880" y="190512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廉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知错必改、爽直磊落、迷途知返、负荆请罪、痛改前非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蔺相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深明大义、宽容大度、顾全大局、一心为国、忍辱负重、心胸宽广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公无私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3520" y="844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完这两幕剧，你又觉得廉颇和蔺相如是怎样的人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80880" y="1681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三、探究学习  主动构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3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3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165240"/>
            <a:ext cx="914400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从廉颇负荆请罪后，两个人就团结合作，共同保卫赵国。赵国也因为有了他们两个人，国势大增，成为当时非常强大的诸侯国。像他们的这种亲密合作的情形，可以用哪些成语来形容他们的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800080"/>
                </a:solidFill>
                <a:latin typeface="Arial"/>
              </a:rPr>
              <a:t>亲密无间，志同道合；同心协力，风雨同舟；肝胆相照，生死与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4167000" y="2514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一想：廉颇负荆请罪后，蔺相如会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52840" y="9874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四、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168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联系课文内容，你能对出下联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4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上联：</a:t>
            </a:r>
            <a:r>
              <a:rPr b="0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廉颇知错负荆请罪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下联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2514600" y="2590920"/>
            <a:ext cx="59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华文新魏"/>
                <a:ea typeface="华文新魏"/>
              </a:rPr>
              <a:t>相如大度不计前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865800" y="152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宽容的名言警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宽容精神是一切事物中最伟大的（欧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宽容是文明的惟一考核（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海尔普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会宽容别人的人，是不配受到别人宽容的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俄罗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屠格涅夫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一个伟大的人有两颗心：一颗心流血，一颗心宽容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黎巴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纪伯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"/>
          <p:cNvSpPr/>
          <p:nvPr/>
        </p:nvSpPr>
        <p:spPr>
          <a:xfrm>
            <a:off x="1450800" y="6126120"/>
            <a:ext cx="50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课时课中优化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有的成语来自于一个故事。照样子，把故事的主人翁填在括号里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：（廉颇）负荆请罪  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      ）完壁归赵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   匡衡 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）凿壁借光（ 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车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囊萤映雪 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  岳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  ）精忠报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、写两句关于“宽容”的名言警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、写几句连贯的话，用上“唇枪舌剑”和“好不热闹”两个词语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B84F-281A-4DCA-957C-B026C56D4E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43000" y="838080"/>
            <a:ext cx="85341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内容、性质及美学范畴分，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悲剧、喜剧、正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按篇幅长短分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独幕剧、多幕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题材的时代性来分，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历史剧和现代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艺术表现形式可以分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话剧、歌剧、舞剧、戏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03200" y="1371600"/>
            <a:ext cx="8305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剧本开头先写明故事发生的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时间、地点和剧本中的人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剧本中的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方括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主要交代舞台布景及人物活动情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圆括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交代人物说话时的表情、动作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98440" y="609480"/>
            <a:ext cx="861048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剧本一般都是通过尖锐的</a:t>
            </a: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戏剧冲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来展示人物性格特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阅读时，要弄清故事情节，仔细品位人物语言，了解人物性格特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3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自读课文  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0" y="2492280"/>
            <a:ext cx="903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读准字音，读通读顺课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认为难读或者感兴趣的句子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把自己不懂或者印象深刻的地方作上记号，便于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914400" y="6858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检查预习  质疑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838080" y="1752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预习了本文后你有哪些收获？还有哪些不明白的地方？ （组内交流后全班汇报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236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卿、  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2209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赵   廉  韩   惧   唇     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70480" y="16765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字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33520" y="7621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三、探究学习  主动构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511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Arial"/>
                <a:ea typeface="华文行楷"/>
              </a:rPr>
              <a:t>词语关</a:t>
            </a:r>
            <a:r>
              <a:rPr b="0" i="1" lang="zh-CN" sz="4400" spc="-1" strike="noStrike" u="sng">
                <a:solidFill>
                  <a:srgbClr val="0000ff"/>
                </a:solidFill>
                <a:uFillTx/>
                <a:latin typeface="Arial"/>
                <a:ea typeface="华文行楷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57200" y="1752480"/>
            <a:ext cx="8305920" cy="46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赵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廉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颇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卿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韩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惧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怕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唇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枪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剑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迈昏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庸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深明大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对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负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79280" y="1238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三、探究学习  主动构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11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0:39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