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8488-F57A-4C98-973F-FBF7A59E8C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C06D-420D-46A7-B690-C1F33FB238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A28-E9D2-4EE6-9F56-9534C3AF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466-990A-49BA-90F2-6E44FCE4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A5A-EC65-41B2-B0F1-8029A971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546-3CC4-4182-A68A-0932FD82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FF9-C41C-4202-82C8-A47E2F23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14C-EE07-4343-BCA8-875E0D25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E0D-792A-4657-8C71-04D62932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748-FF0F-4176-93C6-6B40B190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A36-EFC5-46F4-995C-512D7F6A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DAC-10BF-43BD-9E2E-FC17B72F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3D8-47FE-4CB4-A5D9-3AEDE7B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BCA-A8E8-4EBD-BAFA-A33D5FDC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587B-2066-4FD0-8460-662B0C6646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D98-1E21-4B1B-AE6A-A66D4BF74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6_140606144302_1_lit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340000" y="1666800"/>
            <a:ext cx="43336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微软雅黑"/>
              </a:rPr>
              <a:t>父母心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1779480" y="591516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11"/>
          <p:cNvPicPr/>
          <p:nvPr/>
        </p:nvPicPr>
        <p:blipFill>
          <a:blip r:embed="rId1"/>
          <a:stretch/>
        </p:blipFill>
        <p:spPr>
          <a:xfrm>
            <a:off x="73080" y="2943360"/>
            <a:ext cx="1542960" cy="377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母亲与孩子"/>
          <p:cNvPicPr/>
          <p:nvPr/>
        </p:nvPicPr>
        <p:blipFill>
          <a:blip r:embed="rId2"/>
          <a:stretch/>
        </p:blipFill>
        <p:spPr>
          <a:xfrm>
            <a:off x="5454720" y="1263600"/>
            <a:ext cx="1495440" cy="3565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一家人"/>
          <p:cNvPicPr/>
          <p:nvPr/>
        </p:nvPicPr>
        <p:blipFill>
          <a:blip r:embed="rId3"/>
          <a:stretch/>
        </p:blipFill>
        <p:spPr>
          <a:xfrm>
            <a:off x="7315200" y="212760"/>
            <a:ext cx="1471680" cy="283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616040" y="852480"/>
            <a:ext cx="6280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亲，是一座大山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山的怀抱是安全的港湾。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，是一间小屋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屋虽小，却温暖着我的心房。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亲，是一根蜡烛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照亮了我的道路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燃尽了他的青春。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，是一首摇篮曲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轻的曲子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伴着我沉沉入睡。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亲是夏天里的一团火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是春天里的一缕阳光。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亲是责备中的一声安慰，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是爱抚中的一句鞭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家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520" y="4831920"/>
            <a:ext cx="886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把你最深的爱回报给你最爱也最爱你的父母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DF1E-426D-4407-A68E-89E860BFEF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d9fce3945e4f48e7b789"/>
          <p:cNvPicPr/>
          <p:nvPr/>
        </p:nvPicPr>
        <p:blipFill>
          <a:blip r:embed="rId1"/>
          <a:stretch/>
        </p:blipFill>
        <p:spPr>
          <a:xfrm>
            <a:off x="0" y="-12600"/>
            <a:ext cx="5181480" cy="6883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5526000" y="183816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同学们，是谁给我了我们生命？是谁给了我们一个温暖的家？是谁将我们一点点的养育大？是啊，是我们最伟大的父母。让我们一起来感受课文《父母心》中那流淌的爱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619200" y="449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背景"/>
          <p:cNvPicPr/>
          <p:nvPr/>
        </p:nvPicPr>
        <p:blipFill>
          <a:blip r:embed="rId1"/>
          <a:stretch/>
        </p:blipFill>
        <p:spPr>
          <a:xfrm>
            <a:off x="66600" y="1866960"/>
            <a:ext cx="6753240" cy="4802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962440" y="1289160"/>
            <a:ext cx="53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请用自己喜欢的方式朗读课文，画出让自己感动的句子，说说课文主要讲了一个怎样的故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962440" y="3718080"/>
            <a:ext cx="51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是啊，可怜天下父母心，一对穷夫妇，甘愿自己受苦，也不愿把孩子送给富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学习第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-6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自然段，感知故事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t011a9b0ba8e8d87c18"/>
          <p:cNvPicPr/>
          <p:nvPr/>
        </p:nvPicPr>
        <p:blipFill>
          <a:blip r:embed="rId1"/>
          <a:stretch/>
        </p:blipFill>
        <p:spPr>
          <a:xfrm>
            <a:off x="5870520" y="4581360"/>
            <a:ext cx="3273480" cy="2210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55640" y="1943280"/>
            <a:ext cx="51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你能说说穷人与富人的不同境遇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42960" y="3284640"/>
            <a:ext cx="621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穷人：有三个孩子    衣裳污渍斑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富人：无  孩  子    衣着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262320" y="2792520"/>
            <a:ext cx="56196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7c6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圈箭头7 46"/>
          <p:cNvSpPr/>
          <p:nvPr/>
        </p:nvSpPr>
        <p:spPr>
          <a:xfrm>
            <a:off x="6603840" y="3978360"/>
            <a:ext cx="506520" cy="398520"/>
          </a:xfrm>
          <a:custGeom>
            <a:avLst/>
            <a:gdLst/>
            <a:ahLst/>
            <a:rect l="l" t="t" r="r" b="b"/>
            <a:pathLst>
              <a:path w="858479" h="864096">
                <a:moveTo>
                  <a:pt x="0" y="487767"/>
                </a:moveTo>
                <a:lnTo>
                  <a:pt x="548857" y="487767"/>
                </a:lnTo>
                <a:lnTo>
                  <a:pt x="224697" y="811927"/>
                </a:lnTo>
                <a:cubicBezTo>
                  <a:pt x="102943" y="749414"/>
                  <a:pt x="16272" y="629443"/>
                  <a:pt x="0" y="487767"/>
                </a:cubicBezTo>
                <a:close/>
                <a:moveTo>
                  <a:pt x="224697" y="52169"/>
                </a:moveTo>
                <a:lnTo>
                  <a:pt x="548858" y="376329"/>
                </a:lnTo>
                <a:lnTo>
                  <a:pt x="0" y="376329"/>
                </a:lnTo>
                <a:cubicBezTo>
                  <a:pt x="16273" y="234653"/>
                  <a:pt x="102944" y="114682"/>
                  <a:pt x="224697" y="52169"/>
                </a:cubicBezTo>
                <a:close/>
                <a:moveTo>
                  <a:pt x="426431" y="0"/>
                </a:moveTo>
                <a:cubicBezTo>
                  <a:pt x="665045" y="0"/>
                  <a:pt x="858479" y="193434"/>
                  <a:pt x="858479" y="432048"/>
                </a:cubicBezTo>
                <a:cubicBezTo>
                  <a:pt x="858479" y="670662"/>
                  <a:pt x="665045" y="864096"/>
                  <a:pt x="426431" y="864096"/>
                </a:cubicBezTo>
                <a:cubicBezTo>
                  <a:pt x="396484" y="864096"/>
                  <a:pt x="367249" y="861049"/>
                  <a:pt x="339025" y="855215"/>
                </a:cubicBezTo>
                <a:lnTo>
                  <a:pt x="706473" y="487767"/>
                </a:lnTo>
                <a:lnTo>
                  <a:pt x="762192" y="432048"/>
                </a:lnTo>
                <a:lnTo>
                  <a:pt x="706473" y="376329"/>
                </a:lnTo>
                <a:lnTo>
                  <a:pt x="339026" y="8881"/>
                </a:lnTo>
                <a:cubicBezTo>
                  <a:pt x="367249" y="3047"/>
                  <a:pt x="396484" y="0"/>
                  <a:pt x="426431" y="0"/>
                </a:cubicBezTo>
                <a:close/>
              </a:path>
            </a:pathLst>
          </a:custGeom>
          <a:solidFill>
            <a:srgbClr val="a7c6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480440" y="3521160"/>
            <a:ext cx="9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学习第</a:t>
            </a:r>
            <a:r>
              <a:rPr b="1" lang="zh-CN" sz="2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-17</a:t>
            </a:r>
            <a:r>
              <a:rPr b="1" lang="zh-CN" sz="2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自然段，感知父母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PSD_cd0050_00076"/>
          <p:cNvPicPr/>
          <p:nvPr/>
        </p:nvPicPr>
        <p:blipFill>
          <a:blip r:embed="rId1"/>
          <a:stretch/>
        </p:blipFill>
        <p:spPr>
          <a:xfrm>
            <a:off x="0" y="5240160"/>
            <a:ext cx="2917800" cy="1617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758880" y="2400480"/>
            <a:ext cx="792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、夫妻俩答应了富人的要求了吗？他们是怎么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、在换来换去的过程中，夫妻俩是怎样想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1073160" y="230040"/>
            <a:ext cx="6556320" cy="507384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692360" y="1014480"/>
            <a:ext cx="55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里多穷，我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留着大儿子继承家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他送给您，总觉得像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抛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奶奶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不懂事的孩子送给别人，我们做父母的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残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家"/>
          <p:cNvPicPr/>
          <p:nvPr/>
        </p:nvPicPr>
        <p:blipFill>
          <a:blip r:embed="rId1"/>
          <a:stretch/>
        </p:blipFill>
        <p:spPr>
          <a:xfrm>
            <a:off x="46080" y="4660920"/>
            <a:ext cx="90374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23"/>
          <p:cNvPicPr/>
          <p:nvPr/>
        </p:nvPicPr>
        <p:blipFill>
          <a:blip r:embed="rId1"/>
          <a:stretch/>
        </p:blipFill>
        <p:spPr>
          <a:xfrm>
            <a:off x="61920" y="3222720"/>
            <a:ext cx="313848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557520" y="2647800"/>
            <a:ext cx="4924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夫妻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着眼泪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开了舱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难为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难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什么话还没说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声大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父亲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459080" y="1400040"/>
            <a:ext cx="66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在送孩子的过程中，夫妻俩的心情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41360" y="614520"/>
            <a:ext cx="70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请反复品味这些让你感动的句子，说说你的体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3640" y="1300320"/>
            <a:ext cx="79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啊，与其把孩子送给别人，还不如全家一起挨饿……孩子是父母的心肝宝贝，只要一家人在一起，吃点苦也 是快乐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图片1"/>
          <p:cNvPicPr/>
          <p:nvPr/>
        </p:nvPicPr>
        <p:blipFill>
          <a:blip r:embed="rId1"/>
          <a:stretch/>
        </p:blipFill>
        <p:spPr>
          <a:xfrm>
            <a:off x="-19080" y="2514600"/>
            <a:ext cx="91630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四口人"/>
          <p:cNvPicPr/>
          <p:nvPr/>
        </p:nvPicPr>
        <p:blipFill>
          <a:blip r:embed="rId1"/>
          <a:stretch/>
        </p:blipFill>
        <p:spPr>
          <a:xfrm>
            <a:off x="0" y="3349800"/>
            <a:ext cx="2884320" cy="3508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52600" y="530280"/>
            <a:ext cx="63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心中的父母心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52600" y="1320840"/>
            <a:ext cx="7662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父母是（        ），为我（                    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父母心是（        ），为我（                  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我愿是（        ），为他们（        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3176640" y="4921200"/>
            <a:ext cx="51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4:06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