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BFB7-806E-4CDC-AE3E-5D42D471CF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2B8D-7D41-4D12-BE02-25979782ED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2FF1-EC15-4563-9A24-ED1FC315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E41-3B55-4CA1-BDA1-902CC863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9E37F-FD3F-481F-BA98-CA756876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9DC88-D205-4D53-B223-B39BA071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8B50D-E19D-4E5C-A657-2D19B09E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39D36-0232-4A95-AEB6-A5251EB8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700DB-4BD7-491D-92D9-875E3049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8026B-586C-4967-AFAC-0D75F339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89983-939B-4E6D-92C6-ED7F9A25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9E256-E9E8-4E2F-81A5-02FB526F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BC2F6-B31C-4F76-BB1C-0DEEE379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E5D23-0C90-4FCA-8CB8-9F542F58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EEB-EB7F-4426-BDAD-34DD714C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2C9B5-04DB-4935-9AFA-7EC9A613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0626D-3668-4FB8-814B-E7191F4C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FC413-6695-4D2D-9EEB-FB02AE47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8055F-668C-4CE4-AFCD-AD4D2D9B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18DF4-7CB4-4E4E-A4FD-6FD6FECD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B6D18-4739-45EA-ABE9-8230707D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EDD32-F13D-4B3B-BB70-7D5D3EE2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0325B-CDEB-4CD3-9E23-325580BB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0AE3C-BD6F-4EFB-83BF-21B15886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CD4E2-BC2D-4F00-A052-EB90E282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818-6BB5-472E-A233-2026DC8B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70D78-F7A8-4B2A-8E2E-BAD7DF7B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55942-CB09-40FE-B610-D4617DDE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4C51C-B0B8-4DE5-AFDD-CC5A599B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44B32-4090-4D4B-8CE7-AE6B3B87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16503-1A08-4228-9D99-0A2E4246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CDA4D-E8B7-4954-994A-BE237459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07282-A92F-4A05-8A11-823F45BB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026CF-0F32-4D17-A754-D5779702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B8038-9C4B-4CBD-9023-4718FFCE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50BAB-487C-4E36-A430-10973BC0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1B3C-2E5D-4425-92C0-6CF8E68E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66D3F-402F-49D8-856C-81BE987E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4BFD3-F2C8-4805-95E7-EBEA7AEA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837B7-24E3-4F29-BD96-D1020768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091A6-202F-4E3B-AD57-4DFC09C7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94F27-BDF6-46B2-92C9-171E18F9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2A8BD-569E-4DBE-AFD7-3D2DA283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24974-1F19-47E4-902F-E52D2EDB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040F3-6631-45A5-AB53-FD1966F0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E6B83-FA30-4192-9E30-EF3D1E2B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56829-9F77-4331-A909-5C8846B9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80F3-8318-4198-810D-B91AA320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CFE78-FA3C-4C2E-969B-FDCF04C2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3593E-3D88-476F-AFD3-BD0060E2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7D9CB-AFA5-473C-98BA-97ABBF83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69A71-7A23-4E27-A9DC-7092C82F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27A56-0806-4C50-B4D0-717A3B07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36500-CD4D-41D0-8453-74B4A338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FCD65-BCEB-402B-BD7D-830BE339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5B9A3-1029-4E0F-8F03-D39A1E69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E796D-67B2-4CCD-BB43-97165FBF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48379-0DF1-4219-A512-1540DE15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EE53-C10D-4AB2-A2FE-F51E294A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9CEDC-3C00-424C-827A-2A05B5FF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8392C-1B97-44B1-94F0-61FBE2A8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EF52AC-7C96-4097-A682-E829EE54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A0A79-F92C-487D-9790-0D9D8D25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5A1A5-928E-42D3-8B0F-81F0AA6C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9527E-036A-44E0-808D-1D609958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0974C-7FD2-46E9-AC82-20F21FDC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B703-A649-454F-B2A1-4B1D062A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277A-9471-41E5-A14E-B3D1450B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192E-B125-4965-9C8F-4623FE65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BCB9-B109-4D12-8F24-C0DC594D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7E74-581F-4F98-B36E-DA0A9384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B7AA-137A-4081-8187-5BF6A662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37BB-63EE-4DE5-BECF-B83B671C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6052-671A-42E5-B9F9-B304E002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5A63-2EC9-4E46-9755-DC2077B6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C8F2-1CE8-40AD-9EEA-6CEE4841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C2A68-A417-49A0-BCA6-DF402EAC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E3A72-10C8-4283-B0DA-13A62CB7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D7561-0776-42D3-B7A4-9157F6BF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8BD16-77DD-448F-9202-06AC6CFB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10A3-E7DA-4B7D-BA02-254B6A28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967-FD81-4DB0-9ECD-15C65AA8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7FBD-718B-4F55-9F85-3669A363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4534-72D1-4ABB-B900-887F648B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AFF6-4591-499C-985F-8CDBB652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C0BC7-BE7F-490B-87BE-9C277784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6F670-73C6-45B2-88BC-A0716524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87D6C-7D98-4A2C-A90C-FB0BF9B8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F5625-0A33-40D1-9DF3-FA45B525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D9330-6C51-4C52-9A21-FA552435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6FEBB-6ACB-4BB5-AD65-657AADE1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E5510-1809-40A6-9FD2-2217A1DF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EC9-1B59-4F4E-9F20-36EFDF79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710A8-7654-4F9D-B0CF-BEAA6BFF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DAEFA-1CD2-42F5-8A40-40ABB792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C9784-3F17-4BB9-A9A2-74D3A2A0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40DC1-1B02-433F-B181-8A85C901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8A321-84E4-4660-8DA9-D6B58838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DEDA9-D8D1-43B1-8BCE-66BBCE1C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BE026-3EB4-4869-A884-432AE2DE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F5697-9606-4AA1-8C2E-D82890E8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8F81-7D63-4B22-8129-086EEEBD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494B4-F80B-4084-BB86-3C6A0B2C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BA6-1019-4335-A5CF-3C5EF8C1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B8E70-2034-4AE7-ACE6-3CB2DB7A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714BA-DCF0-4479-8786-EA748957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D252F-57C7-4DE5-806D-DA008B90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FA8F7-0B7E-4BB4-92D9-F7070A50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00742-F8CA-4479-8780-F7DAE27E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687BD-CDC2-47A2-8AB5-EE899AA5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D5E5C-7421-4870-9A49-C3E1B872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CC5A6-A358-41E9-A035-0C397897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78E2E-4F06-450F-B3E1-627EB542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99E36-CFDF-43FB-99B9-0F37D9FA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0A5-36BA-45E4-96A4-25E0F286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3261B-0F49-44EA-B57B-18E45ADD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FCCC8-1C36-46D4-857F-5634B568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4A160-7850-4FF2-8139-1B327496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9D57B-96DC-495A-B0AD-06996D0C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CBDBF-DEB9-4808-AADD-7A81B130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C4A90-DB97-4C23-8739-40C1658D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3934D-5B77-47B2-9CD6-A639FBA2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A24AC-47D2-4700-92C5-193C7AFD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92768-DA50-4933-894E-DFD9E341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E3969-85D7-413B-9718-9403CDF5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91B-AC00-4F09-9E2D-5296A152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D1527-3C38-4342-85E4-719DD28B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E985A-6257-42BA-886D-63B7DB8E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05361-6FAA-4788-9AA5-C9F1B284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30E6C-9C8E-4DC9-A264-9B8A2AEC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2ED62-5A95-4903-BB52-E6E2BC13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841BF-9B46-46EC-B6F2-74D0630D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6986F-B9D7-4B44-9BED-75C9891D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9C713-F647-4F0B-8331-F169F94D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F84B4-B195-4869-9B6B-E0D1B5D0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ED620-7953-4A25-8C35-65A6DEF7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793-A111-4761-B13B-CB5A3B53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99238-CA64-4CBA-9C9C-AB0A8EC7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84386-EC6A-4455-A063-14681AF3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5020D-4DB0-4B61-A107-76004503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12E93-3B39-465D-8A30-77E72614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D4315-D453-4D72-9A33-CB412E46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F0946-F561-4C15-BD53-0A048FD2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099DA-9EC2-4080-8B0A-3EF90FAC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A03DA-F844-4EC2-B286-CEBA7211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FF143-3B02-49A5-8566-E1AB69EC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EBE9D-543F-4CA2-890D-36BDABA8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910A-F53D-4A91-9176-3092F249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F67A9-7FF9-40C8-B653-6E765A01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7EDD7-1749-4E2B-AA44-853190F0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FE1CF-8140-4D79-9144-E5D358D0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E8EAE-C07D-4CC4-9BFF-D99C816F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E0470-D82C-481E-ABCA-244D5C7F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1E72C-FBA3-4A11-B934-6DB18386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6728E-4D3B-47B2-BA32-A9520ACD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E250D-9A3C-4822-B529-D892708E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2BCBF-A491-4F25-A59F-00A4A580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ABC2D-EC99-4768-9E30-9C839EAB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161A-B4A5-4B8B-B562-0388CC8414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2BC5-9449-46A4-A5E2-4D994EFE3C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FEE6-A113-4BB2-8D71-B62874D701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6E5E-E8C4-4190-B5FD-693B30F6CD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392C-30F7-456A-A5C7-F8E3488ECB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5CDE-B325-45E3-B74D-4A728DDE71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6355-1EF0-4D4F-AFAE-078D3F3C42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BD09-3C3B-4584-832E-1FA925586C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10CF-EF1C-49F3-A5C7-0154E92FEE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BB26-CA90-4C7B-9494-4BF82E1166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DAF9-5E11-4A7E-97FD-128F4915CB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F186-14CF-4971-9890-7BEAA7F6B6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172F-EAFE-48EC-B24A-E2F6323BA6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7.xml"/><Relationship Id="rId7" Type="http://schemas.openxmlformats.org/officeDocument/2006/relationships/slide" Target="slide23.xml"/><Relationship Id="rId8" Type="http://schemas.openxmlformats.org/officeDocument/2006/relationships/slide" Target="slide10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2266920" y="907920"/>
            <a:ext cx="4238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风 筝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3059280" y="436572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鲁 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6"/>
          <p:cNvSpPr/>
          <p:nvPr/>
        </p:nvSpPr>
        <p:spPr>
          <a:xfrm>
            <a:off x="2023560" y="5877000"/>
            <a:ext cx="511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457200" y="87948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首老歌这样唱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是一年三月三，风筝飞满天，牵着我的思念和梦幻走回到童年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到风筝，我们总会想起那天真烂漫的童年。其实，我们每个人也象飞在空中的风筝，无论我们走得多远，总有一根绳线牵系着你，那就是割不断的亲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我们学习的这篇文章讲述的便是与风筝有关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误解与冲突中也有亲情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3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19240" y="5943600"/>
            <a:ext cx="86184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3352680" y="619200"/>
            <a:ext cx="5562720" cy="3020040"/>
          </a:xfrm>
          <a:prstGeom prst="rect">
            <a:avLst/>
          </a:prstGeom>
          <a:solidFill>
            <a:srgbClr val="fff4d5">
              <a:alpha val="50000"/>
            </a:srgbClr>
          </a:solidFill>
          <a:ln w="3240">
            <a:solidFill>
              <a:srgbClr val="fff0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鲁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88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6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文学家、思想家和革命家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名周树人，字豫才，浙江绍兴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去日本学医，后弃医从文，企图用以改变国民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首次用笔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鲁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表中国现代文学史上第一篇白话小说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狂人日记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大胆揭露人吃人的封建礼教，奠定了新文学运动的基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陆续出版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呐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热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彷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朝花夕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华盖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华盖集续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专集，表现出爱国主义和彻底的革命民主主义的思想。其中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篇小说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阿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Q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正传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中国现代文学史上的杰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病逝于上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152280" y="5257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鲁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4320" y="6172200"/>
            <a:ext cx="862200" cy="3175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u=3795880612,4022501876&amp;fm=0&amp;gp=24"/>
          <p:cNvPicPr/>
          <p:nvPr/>
        </p:nvPicPr>
        <p:blipFill>
          <a:blip r:embed="rId3"/>
          <a:stretch/>
        </p:blipFill>
        <p:spPr>
          <a:xfrm>
            <a:off x="395280" y="1484280"/>
            <a:ext cx="2808360" cy="3673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609480" y="858960"/>
            <a:ext cx="190512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背景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685800" y="2068560"/>
            <a:ext cx="78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自散文诗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该集收录了鲁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所作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篇散文诗，主要是用曲折幽暗的象征手法表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作者内心世界的苦闷和对现实社会的抗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恰逢农历正月初一，发表后因其对传统的封建的儿童教育思想的强烈抨击，深受读者尤其是青少年读者的欢迎和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6006960"/>
            <a:ext cx="86184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1041120" y="2286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1610640" y="2290680"/>
            <a:ext cx="26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xi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n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嫌恶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1010880" y="3073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1649520" y="3078000"/>
            <a:ext cx="21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zhu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n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赚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5105520" y="2590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5368680" y="3962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8"/>
          <p:cNvSpPr/>
          <p:nvPr/>
        </p:nvSpPr>
        <p:spPr>
          <a:xfrm>
            <a:off x="6071040" y="3967200"/>
            <a:ext cx="19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ju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é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诀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9"/>
          <p:cNvSpPr/>
          <p:nvPr/>
        </p:nvSpPr>
        <p:spPr>
          <a:xfrm>
            <a:off x="5354280" y="4648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6071040" y="4653000"/>
            <a:ext cx="19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ju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é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5322600" y="535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2"/>
          <p:cNvSpPr/>
          <p:nvPr/>
        </p:nvSpPr>
        <p:spPr>
          <a:xfrm>
            <a:off x="6071040" y="5364000"/>
            <a:ext cx="19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ju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é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3"/>
          <p:cNvSpPr/>
          <p:nvPr/>
        </p:nvSpPr>
        <p:spPr>
          <a:xfrm>
            <a:off x="762120" y="4241880"/>
            <a:ext cx="228600" cy="787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520 h 787320"/>
              <a:gd name="textAreaBottom" fmla="*/ 766800 h 78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4"/>
          <p:cNvSpPr/>
          <p:nvPr/>
        </p:nvSpPr>
        <p:spPr>
          <a:xfrm>
            <a:off x="1014120" y="3962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1629720" y="3967200"/>
            <a:ext cx="22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duò 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堕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6"/>
          <p:cNvSpPr/>
          <p:nvPr/>
        </p:nvSpPr>
        <p:spPr>
          <a:xfrm>
            <a:off x="999720" y="47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7"/>
          <p:cNvSpPr/>
          <p:nvPr/>
        </p:nvSpPr>
        <p:spPr>
          <a:xfrm>
            <a:off x="1649880" y="4714920"/>
            <a:ext cx="20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zhu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ì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下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8"/>
          <p:cNvSpPr/>
          <p:nvPr/>
        </p:nvSpPr>
        <p:spPr>
          <a:xfrm>
            <a:off x="5105520" y="4191120"/>
            <a:ext cx="152280" cy="15224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2440"/>
              <a:gd name="textAreaBottom" fmla="*/ 1482840 h 152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9"/>
          <p:cNvSpPr/>
          <p:nvPr/>
        </p:nvSpPr>
        <p:spPr>
          <a:xfrm>
            <a:off x="5365440" y="3073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0"/>
          <p:cNvSpPr/>
          <p:nvPr/>
        </p:nvSpPr>
        <p:spPr>
          <a:xfrm>
            <a:off x="6071400" y="307800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sh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ù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宽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1"/>
          <p:cNvSpPr/>
          <p:nvPr/>
        </p:nvSpPr>
        <p:spPr>
          <a:xfrm>
            <a:off x="6071400" y="228600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ù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愤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2"/>
          <p:cNvSpPr/>
          <p:nvPr/>
        </p:nvSpPr>
        <p:spPr>
          <a:xfrm>
            <a:off x="5281560" y="2338560"/>
            <a:ext cx="7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23"/>
          <p:cNvSpPr/>
          <p:nvPr/>
        </p:nvSpPr>
        <p:spPr>
          <a:xfrm>
            <a:off x="762120" y="25909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4"/>
          <p:cNvSpPr/>
          <p:nvPr/>
        </p:nvSpPr>
        <p:spPr>
          <a:xfrm>
            <a:off x="685800" y="630360"/>
            <a:ext cx="190512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形  似  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5"/>
          <p:cNvSpPr/>
          <p:nvPr/>
        </p:nvSpPr>
        <p:spPr>
          <a:xfrm>
            <a:off x="609480" y="1447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黑体"/>
              </a:rPr>
              <a:t>给下面的字注音并组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920960" y="24987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sh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3280320" y="2498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什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3280320" y="3330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939600" y="2955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6"/>
          <p:cNvSpPr/>
          <p:nvPr/>
        </p:nvSpPr>
        <p:spPr>
          <a:xfrm>
            <a:off x="1692360" y="4449600"/>
            <a:ext cx="212760" cy="1067040"/>
          </a:xfrm>
          <a:custGeom>
            <a:avLst/>
            <a:gdLst>
              <a:gd name="textAreaLeft" fmla="*/ 136080 w 212760"/>
              <a:gd name="textAreaRight" fmla="*/ 213120 w 2127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1787760" y="333072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sh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é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921960" y="4632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1934640" y="425124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m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0"/>
          <p:cNvSpPr/>
          <p:nvPr/>
        </p:nvSpPr>
        <p:spPr>
          <a:xfrm>
            <a:off x="3204000" y="4251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劳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1"/>
          <p:cNvSpPr/>
          <p:nvPr/>
        </p:nvSpPr>
        <p:spPr>
          <a:xfrm>
            <a:off x="1887120" y="513540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m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2"/>
          <p:cNvSpPr/>
          <p:nvPr/>
        </p:nvSpPr>
        <p:spPr>
          <a:xfrm>
            <a:off x="3213720" y="5135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模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3"/>
          <p:cNvSpPr/>
          <p:nvPr/>
        </p:nvSpPr>
        <p:spPr>
          <a:xfrm>
            <a:off x="5273280" y="371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4"/>
          <p:cNvSpPr/>
          <p:nvPr/>
        </p:nvSpPr>
        <p:spPr>
          <a:xfrm>
            <a:off x="6078240" y="2879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5"/>
          <p:cNvSpPr/>
          <p:nvPr/>
        </p:nvSpPr>
        <p:spPr>
          <a:xfrm>
            <a:off x="7014240" y="2874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凶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6"/>
          <p:cNvSpPr/>
          <p:nvPr/>
        </p:nvSpPr>
        <p:spPr>
          <a:xfrm>
            <a:off x="6084720" y="364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7"/>
          <p:cNvSpPr/>
          <p:nvPr/>
        </p:nvSpPr>
        <p:spPr>
          <a:xfrm>
            <a:off x="7014240" y="364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恶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8"/>
          <p:cNvSpPr/>
          <p:nvPr/>
        </p:nvSpPr>
        <p:spPr>
          <a:xfrm>
            <a:off x="5982840" y="445464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w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9"/>
          <p:cNvSpPr/>
          <p:nvPr/>
        </p:nvSpPr>
        <p:spPr>
          <a:xfrm>
            <a:off x="7014240" y="4449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嫌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0"/>
          <p:cNvSpPr/>
          <p:nvPr/>
        </p:nvSpPr>
        <p:spPr>
          <a:xfrm>
            <a:off x="1676520" y="277344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21"/>
          <p:cNvSpPr/>
          <p:nvPr/>
        </p:nvSpPr>
        <p:spPr>
          <a:xfrm>
            <a:off x="5857920" y="323064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2"/>
          <p:cNvSpPr/>
          <p:nvPr/>
        </p:nvSpPr>
        <p:spPr>
          <a:xfrm>
            <a:off x="914400" y="685800"/>
            <a:ext cx="190512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多  音  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3"/>
          <p:cNvSpPr/>
          <p:nvPr/>
        </p:nvSpPr>
        <p:spPr>
          <a:xfrm>
            <a:off x="838080" y="1700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黑体"/>
              </a:rPr>
              <a:t>给下面的字注音并组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3850200" y="13716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孤独；没有依靠。文中指风筝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700280" y="1828800"/>
            <a:ext cx="697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本指人瘦弱，面色不好看。此指风筝色彩黯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2233440" y="2286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指苦心钻研，到了别人所达不到的地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3697920" y="274320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分别（多指不易相见的离别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3111480" y="3200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可以拿来取笑的资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2393280" y="5943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令人鄙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2699640" y="36576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虐待人而致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9"/>
          <p:cNvSpPr/>
          <p:nvPr/>
        </p:nvSpPr>
        <p:spPr>
          <a:xfrm>
            <a:off x="3777840" y="41148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因寒冷、受惊而蜷缩或兼抖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3385440" y="4572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形容忽然醒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2086920" y="5486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惊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4231440" y="5029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书）形容秋冬天气寒冷，草木枯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3"/>
          <p:cNvSpPr/>
          <p:nvPr/>
        </p:nvSpPr>
        <p:spPr>
          <a:xfrm>
            <a:off x="896400" y="1390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伶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4"/>
          <p:cNvSpPr/>
          <p:nvPr/>
        </p:nvSpPr>
        <p:spPr>
          <a:xfrm>
            <a:off x="896400" y="1828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憔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5"/>
          <p:cNvSpPr/>
          <p:nvPr/>
        </p:nvSpPr>
        <p:spPr>
          <a:xfrm>
            <a:off x="1019880" y="2286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苦心孤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6"/>
          <p:cNvSpPr/>
          <p:nvPr/>
        </p:nvSpPr>
        <p:spPr>
          <a:xfrm>
            <a:off x="896400" y="27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诀别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7"/>
          <p:cNvSpPr/>
          <p:nvPr/>
        </p:nvSpPr>
        <p:spPr>
          <a:xfrm>
            <a:off x="896400" y="3200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笑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8"/>
          <p:cNvSpPr/>
          <p:nvPr/>
        </p:nvSpPr>
        <p:spPr>
          <a:xfrm>
            <a:off x="896400" y="3657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虐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9"/>
          <p:cNvSpPr/>
          <p:nvPr/>
        </p:nvSpPr>
        <p:spPr>
          <a:xfrm>
            <a:off x="896400" y="5943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0"/>
          <p:cNvSpPr/>
          <p:nvPr/>
        </p:nvSpPr>
        <p:spPr>
          <a:xfrm>
            <a:off x="896400" y="5486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惊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1"/>
          <p:cNvSpPr/>
          <p:nvPr/>
        </p:nvSpPr>
        <p:spPr>
          <a:xfrm>
            <a:off x="896400" y="4114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瑟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2"/>
          <p:cNvSpPr/>
          <p:nvPr/>
        </p:nvSpPr>
        <p:spPr>
          <a:xfrm>
            <a:off x="1019880" y="4572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恍然大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3"/>
          <p:cNvSpPr/>
          <p:nvPr/>
        </p:nvSpPr>
        <p:spPr>
          <a:xfrm>
            <a:off x="896400" y="5029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肃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4"/>
          <p:cNvSpPr/>
          <p:nvPr/>
        </p:nvSpPr>
        <p:spPr>
          <a:xfrm>
            <a:off x="685800" y="623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黑体"/>
              </a:rPr>
              <a:t>解释下列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25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6000" y="6094440"/>
            <a:ext cx="86328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3234240" y="3071880"/>
            <a:ext cx="16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课文，谈谈你对这篇文章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304920" y="4076640"/>
            <a:ext cx="85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中有你不太理解的地方吗？指出来让大家帮帮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2329920" y="2004840"/>
            <a:ext cx="325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散文写什么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自已的话说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457200" y="7621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初步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6019920"/>
            <a:ext cx="86220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533520" y="4777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精读品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2843280" y="5493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Times New Roman"/>
                <a:ea typeface="黑体"/>
              </a:rPr>
              <a:t>读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黑体"/>
              </a:rPr>
              <a:t>3-4</a:t>
            </a:r>
            <a:r>
              <a:rPr b="1" lang="zh-CN" sz="2800" spc="-1" strike="noStrike">
                <a:solidFill>
                  <a:srgbClr val="404040"/>
                </a:solidFill>
                <a:latin typeface="Times New Roman"/>
                <a:ea typeface="黑体"/>
              </a:rPr>
              <a:t>段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250920" y="1052640"/>
            <a:ext cx="86421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出描写小兄弟的有关语句，说说作者笔下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兄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是个怎样的形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找描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有关语句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是一个怎样的形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不让小兄弟放风筝，为什么要破坏他做的风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兄弟做风筝被发现时，为什么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惊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想像一下小兄弟当时的处境和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部分一些动词和形容词用得很贴切传神，找出来，说说为什么用得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533520" y="4777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精读品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4320000" y="476280"/>
            <a:ext cx="22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Times New Roman"/>
                <a:ea typeface="黑体"/>
              </a:rPr>
              <a:t>读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  <a:ea typeface="黑体"/>
              </a:rPr>
              <a:t>5-10</a:t>
            </a:r>
            <a:r>
              <a:rPr b="1" lang="zh-CN" sz="2800" spc="-1" strike="noStrike">
                <a:solidFill>
                  <a:srgbClr val="404040"/>
                </a:solidFill>
                <a:latin typeface="Times New Roman"/>
                <a:ea typeface="黑体"/>
              </a:rPr>
              <a:t>段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539640" y="1125360"/>
            <a:ext cx="8604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一本外国的讲论儿童的行为的书，为什么说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理解不许小兄弟放风筝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精神的虐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明白了儿童游戏意义后，心情沉重，总想补过，这说明什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了几种补过的方法？后来补过了没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兄弟还记得这件事吗？你认为他为什么会把这件事情给忘了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小兄弟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然忘却，毫无怨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作者感到轻松了吗？你认为这是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533520" y="4777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精读品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3421440" y="549360"/>
            <a:ext cx="35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黑体"/>
              </a:rPr>
              <a:t>读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黑体"/>
              </a:rPr>
              <a:t>1-2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黑体"/>
              </a:rPr>
              <a:t>段、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黑体"/>
              </a:rPr>
              <a:t>11-12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黑体"/>
              </a:rPr>
              <a:t>段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250920" y="1052640"/>
            <a:ext cx="889308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描写故乡风筝时节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光明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句子，说说作者为什么把往事的回忆放在这样的画面中展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久经诀别的故乡的久经逝去的春天，却就在这（北京的）天空中荡漾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-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理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乡的春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着无可把握的悲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倒不如躲到肃杀的严冬中去吧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是，四面又明明是严冬，正给我非常的寒威和冷气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体现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的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5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6311880"/>
            <a:ext cx="86220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>
            <a:hlinkClick r:id="rId1" action="ppaction://hlinksldjump"/>
          </p:cNvPr>
          <p:cNvSpPr/>
          <p:nvPr/>
        </p:nvSpPr>
        <p:spPr>
          <a:xfrm>
            <a:off x="609480" y="23623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鲁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>
            <a:hlinkClick r:id="rId2" action="ppaction://hlinksldjump"/>
          </p:cNvPr>
          <p:cNvSpPr/>
          <p:nvPr/>
        </p:nvSpPr>
        <p:spPr>
          <a:xfrm>
            <a:off x="609480" y="342900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背景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>
            <a:hlinkClick r:id="rId3" action="ppaction://hlinksldjump"/>
          </p:cNvPr>
          <p:cNvSpPr/>
          <p:nvPr/>
        </p:nvSpPr>
        <p:spPr>
          <a:xfrm>
            <a:off x="609480" y="449568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字音词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>
            <a:hlinkClick r:id="rId4" action="ppaction://hlinksldjump"/>
          </p:cNvPr>
          <p:cNvSpPr/>
          <p:nvPr/>
        </p:nvSpPr>
        <p:spPr>
          <a:xfrm>
            <a:off x="2971800" y="129528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感知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>
            <a:hlinkClick r:id="rId5" action="ppaction://hlinksldjump"/>
          </p:cNvPr>
          <p:cNvSpPr/>
          <p:nvPr/>
        </p:nvSpPr>
        <p:spPr>
          <a:xfrm>
            <a:off x="2971800" y="342900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>
            <a:hlinkClick r:id="rId6" action="ppaction://hlinksldjump"/>
          </p:cNvPr>
          <p:cNvSpPr/>
          <p:nvPr/>
        </p:nvSpPr>
        <p:spPr>
          <a:xfrm>
            <a:off x="2971800" y="23623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精读品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8">
            <a:hlinkClick r:id="rId7" action="ppaction://hlinksldjump"/>
          </p:cNvPr>
          <p:cNvSpPr/>
          <p:nvPr/>
        </p:nvSpPr>
        <p:spPr>
          <a:xfrm>
            <a:off x="2971800" y="451656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咀嚼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>
            <a:hlinkClick r:id="rId8" action="ppaction://hlinksldjump"/>
          </p:cNvPr>
          <p:cNvSpPr/>
          <p:nvPr/>
        </p:nvSpPr>
        <p:spPr>
          <a:xfrm>
            <a:off x="609480" y="1295280"/>
            <a:ext cx="1828800" cy="64728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9" action="ppaction://hlinksldjump"/>
              </a:rPr>
              <a:t>课堂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10" descr=""/>
          <p:cNvPicPr/>
          <p:nvPr/>
        </p:nvPicPr>
        <p:blipFill>
          <a:blip r:embed="rId10"/>
          <a:stretch/>
        </p:blipFill>
        <p:spPr>
          <a:xfrm>
            <a:off x="5364000" y="1197000"/>
            <a:ext cx="3230640" cy="432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611280" y="2133720"/>
            <a:ext cx="7715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足情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戏对于儿童的意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自省精神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兄弟无怨恨的思想内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533520" y="78264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3635280" y="765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黑体"/>
              </a:rPr>
              <a:t>本文的意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"/>
          <p:cNvPicPr/>
          <p:nvPr/>
        </p:nvPicPr>
        <p:blipFill>
          <a:blip r:embed="rId1"/>
          <a:stretch/>
        </p:blipFill>
        <p:spPr>
          <a:xfrm>
            <a:off x="5959440" y="1341360"/>
            <a:ext cx="2809800" cy="37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1905120" y="5043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楷体_GB2312"/>
              </a:rPr>
              <a:t>惊呼跳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2286000" y="2757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可鄙气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4"/>
          <p:cNvSpPr/>
          <p:nvPr/>
        </p:nvSpPr>
        <p:spPr>
          <a:xfrm>
            <a:off x="3581280" y="5043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楷体_GB2312"/>
              </a:rPr>
              <a:t>惊惶绝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5"/>
          <p:cNvSpPr/>
          <p:nvPr/>
        </p:nvSpPr>
        <p:spPr>
          <a:xfrm>
            <a:off x="4471920" y="274320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悔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6"/>
          <p:cNvSpPr/>
          <p:nvPr/>
        </p:nvSpPr>
        <p:spPr>
          <a:xfrm>
            <a:off x="5257800" y="2895480"/>
            <a:ext cx="685800" cy="228600"/>
          </a:xfrm>
          <a:custGeom>
            <a:avLst/>
            <a:gdLst>
              <a:gd name="textAreaLeft" fmla="*/ 8568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5867280" y="2743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想补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8"/>
          <p:cNvSpPr/>
          <p:nvPr/>
        </p:nvSpPr>
        <p:spPr>
          <a:xfrm>
            <a:off x="7772400" y="508788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00"/>
                </a:solidFill>
                <a:latin typeface="Times New Roman"/>
                <a:ea typeface="楷体_GB2312"/>
              </a:rPr>
              <a:t>忘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9"/>
          <p:cNvSpPr/>
          <p:nvPr/>
        </p:nvSpPr>
        <p:spPr>
          <a:xfrm>
            <a:off x="7772400" y="2757600"/>
            <a:ext cx="9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悲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flipV="1">
            <a:off x="8077320" y="3428280"/>
            <a:ext cx="228600" cy="1523880"/>
          </a:xfrm>
          <a:prstGeom prst="downArrow">
            <a:avLst>
              <a:gd name="adj1" fmla="val 50000"/>
              <a:gd name="adj2" fmla="val 16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1"/>
          <p:cNvSpPr/>
          <p:nvPr/>
        </p:nvSpPr>
        <p:spPr>
          <a:xfrm>
            <a:off x="7086600" y="2895480"/>
            <a:ext cx="685800" cy="228600"/>
          </a:xfrm>
          <a:custGeom>
            <a:avLst/>
            <a:gdLst>
              <a:gd name="textAreaLeft" fmla="*/ 8568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2"/>
          <p:cNvSpPr/>
          <p:nvPr/>
        </p:nvSpPr>
        <p:spPr>
          <a:xfrm flipV="1">
            <a:off x="3048120" y="3429000"/>
            <a:ext cx="255600" cy="1511280"/>
          </a:xfrm>
          <a:prstGeom prst="downArrow">
            <a:avLst>
              <a:gd name="adj1" fmla="val 50000"/>
              <a:gd name="adj2" fmla="val 147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3"/>
          <p:cNvSpPr/>
          <p:nvPr/>
        </p:nvSpPr>
        <p:spPr>
          <a:xfrm>
            <a:off x="533520" y="78264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3203640" y="765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黑体"/>
              </a:rPr>
              <a:t>文章的感情线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533520" y="2671920"/>
            <a:ext cx="1752480" cy="947160"/>
          </a:xfrm>
          <a:prstGeom prst="rect">
            <a:avLst/>
          </a:prstGeom>
          <a:noFill/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我”的感情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563400" y="5105520"/>
            <a:ext cx="1341720" cy="520560"/>
          </a:xfrm>
          <a:prstGeom prst="rect">
            <a:avLst/>
          </a:prstGeom>
          <a:noFill/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小兄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7"/>
          <p:cNvSpPr/>
          <p:nvPr/>
        </p:nvSpPr>
        <p:spPr>
          <a:xfrm>
            <a:off x="3886200" y="2895480"/>
            <a:ext cx="685800" cy="228600"/>
          </a:xfrm>
          <a:custGeom>
            <a:avLst/>
            <a:gdLst>
              <a:gd name="textAreaLeft" fmla="*/ 8568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457200" y="1600200"/>
            <a:ext cx="548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Times New Roman"/>
                <a:ea typeface="黑体"/>
              </a:rPr>
              <a:t>“</a:t>
            </a:r>
            <a:r>
              <a:rPr b="0" lang="zh-CN" sz="3200" spc="-1" strike="noStrike">
                <a:solidFill>
                  <a:srgbClr val="404040"/>
                </a:solidFill>
                <a:latin typeface="Times New Roman"/>
                <a:ea typeface="黑体"/>
              </a:rPr>
              <a:t>我”的“悲哀”的内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533520" y="76212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533520" y="2502000"/>
            <a:ext cx="7924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侯自己对弟弟那样管束，无异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的虐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当年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虐杀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虐杀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被愚昧观念所支配，彼此都不以为有什么错。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虐杀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了觉悟而后悔痛苦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虐杀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经全然忘却。课文一再强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沉重和悲哀，不仅表现个人的悔恨，更是对这种普遍的精神麻木状态的忧虑和痛惜。在今天，我们仍然可以从中得到极大的教育意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6172200"/>
            <a:ext cx="861840" cy="31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533520" y="25146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回，我们会面的时候，是脸上都已添刻了许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辛苦的条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此时地上的杨柳已经发芽，早的山桃也多吐蕾，和孩子们的天上的点缀相照应，打成一片春日的温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处的蟹风筝突然落下来了，他惊呼；两个瓦片风筝的缠绕解开了，他高兴得跳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也知道补过的方法的：送他风筝，赞成他放，劝他放，我和他一同放。我们嚷着，跑着，笑着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而他其时已经和我一样，早已有了胡子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"/>
          <p:cNvSpPr/>
          <p:nvPr/>
        </p:nvSpPr>
        <p:spPr>
          <a:xfrm>
            <a:off x="533520" y="609480"/>
            <a:ext cx="1828800" cy="581400"/>
          </a:xfrm>
          <a:prstGeom prst="rect">
            <a:avLst/>
          </a:prstGeom>
          <a:solidFill>
            <a:srgbClr val="d89f00">
              <a:alpha val="50000"/>
            </a:srgbClr>
          </a:solidFill>
          <a:ln w="9360">
            <a:solidFill>
              <a:srgbClr val="d8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咀嚼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457200" y="1371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黑体"/>
              </a:rPr>
              <a:t>品味下面的语句。再从本文找出你喜欢的语言，说说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FAAF-1ED1-4D4C-A805-2AFAC9F661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内容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课文是人民教育出版社出版的初中第二学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内容。是一篇散文。主要通过鲁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树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忆自己和弟弟周建人小时候围绕风筝发生的一件事。无论是当年管错了，还是醒悟后的自责及无法补救的沉重，都洋溢着浓浓的手足之情。引导学生体味感悟亲情的含义；了解科学的儿童教育思想；学习鲁迅的自省精神；理解作品的批判性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1760" y="89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体感知课文内容，多角度有创意地理解课文，进行探究性学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主、合作、探究的学习方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学生体味感悟亲情的含义；了解科学的儿童教育思想；学习鲁迅的自省精神；理解作品的批判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重点、难点及教学措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体感知课文内容，多角度有创意地理解课文，进行探究性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引导学生体味感悟亲情的含义；了解科学的儿童教育思想；学习鲁迅的自省精神；理解作品的批判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决措施：通过学生自由朗读课文、教师引导细读、分析课文等措施，使学生熟悉课文的中心思想，以解决教学重点和难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学设计思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课的教学内容主要分为八部分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堂导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主要通过教师准备的图片来激发学生的兴趣，并顺理成章的导入课文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-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鲁迅简介和背景常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让学生了解更多的文学常识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音词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让学生的基础知识有所提高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感知课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通过学生自由阅读课文，初步了解课文内容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精读品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感悟语言。在教师的指导下，仔细体会课文，关注揭示了一个什么道理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堂小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通过教师的提问，巩固学习过的内容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咀嚼语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文章中的语句再做更深一步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依据的理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课主要讲述了一个故事：鲁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树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忆自己和弟弟周建人小时候围绕风筝发生的一件事。 教师生动的导入激发了学生的学习动机，教学过程中主要通过各种方式让学生反复阅读课文，解决教学的重点和难点。教师的提问贯穿教学过程的始终，起到了重要、积极的引导作用。反馈和强化以及问题引导的理论为本课的设计思路提供了支持，主要通过“从做中学”来达到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矩形 5"/>
          <p:cNvSpPr/>
          <p:nvPr/>
        </p:nvSpPr>
        <p:spPr>
          <a:xfrm>
            <a:off x="4859280" y="1800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200841881824506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2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21:19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1:20Z</dcterms:modified>
  <cp:revision>8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