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D4F0-B23C-4350-BA59-5E0B017EAA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8E3B-18DE-4095-A8D1-B3955A8E2A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05C-2209-49DB-AE1B-5B24F06F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56A-2D48-484E-9B2E-62DAB19E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0BA-A51D-46FC-8940-8AEAFC40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D9B-4DE1-44F7-9320-3589291D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E945-ED0D-4431-A668-02D3C831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84A1-264C-455A-94A4-C3BED7B1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EA90-CCE7-45AA-97F6-D4DE1950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EC27-F49D-4CFA-A3BE-CFCB74B3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F38B-5EE1-4ED6-907A-AB7ED4E3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4BFE-B2F1-4DA1-AE37-8B63D13B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1AD-2789-412F-9400-61A6C75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F11-2C7D-45BB-86A4-4A170899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4860-C5EC-4806-B082-75B328A6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53EF-BA08-4446-BA96-D11AB4B0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EF82-B4B1-48A9-92AD-D4B2F108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859C-DD5E-4DDA-AAA1-F83003A4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73D4-DAAB-4A71-AEDE-22046211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A4F7-D43F-4E6E-9D42-7B90E82E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40A0-43D4-47AA-A8E3-AF648775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147C-9FEA-4617-B634-9385BB22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1CF7B-E048-47A7-B905-9C672D00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7E92-ECAA-42D1-838E-90B718E3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55F-7A01-49C4-8B7C-DE6B6494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1AD5-49FD-4A1D-A2CA-B5312801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934A-A1B4-4660-B0ED-FB730EA3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5A5B-F886-4D42-861C-533B205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FD20-E799-458C-906D-656C030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EC1D-C008-438E-9A24-21CFF4AD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49A0-1DCD-409A-AB69-7C5E2F43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AC6B-4DCD-4779-AFD8-A75EA000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5AD67-3896-4BDE-AA3A-5E2A4731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EE7B2-8E3C-45E5-8512-1690B372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26D6-17CE-49FD-881F-18C0A9A2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5E2-B0A0-447E-86BA-8CD79133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FCAD-B0F1-4ED8-B1E5-048D32A7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BB19-1CED-4407-A39F-208B9516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C883-2B8B-463B-ACF6-296C092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876B-34C2-476C-9538-C079492B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B45D-41C1-4C1C-96F4-C7838F2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7AA5-C177-47B2-875E-12BA121F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C03BF-5F4A-48DC-A8A9-194C23CA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18023-E958-4FDF-B6D5-67435768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22596-83D5-4E15-A43A-EA103417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917E7-2071-4F8E-B834-689F69BA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0D1-92B7-4B1C-AAD8-205C6AE0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31AB2-205C-4BDF-B5B7-C08F1F63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DB71E-7D7D-48CF-B343-642583AE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620E7-7665-484C-A055-2D1C373B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34D9C-7911-4677-9527-68E2A766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4714C-49A4-432E-93B6-EAFBD16A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7DD1C-51C2-4900-B215-4092F6B1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D52F-2445-4B7C-8683-6D22B6F3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5C54F-8A2C-41AC-A86A-4933DCC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6BD1C-E8D9-4EE2-B404-D25B418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6D5C5-7DAD-449C-9ED0-70F5053D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022-596F-4F75-9E76-FFF0EF1A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D7F0-7394-4338-BC13-F21B75D7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F61-00D6-426B-B4A3-039314E3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9A7-5271-4034-AA87-AD3230D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A1D-89FB-4B9F-9F4B-2EA3FEB3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2060-702E-481F-8133-246F8288F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ABFA-62A6-449B-BC96-B18CA816B74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31C0-7AA5-4C3C-9293-A4596B124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5082-6E94-455E-B19A-27328618252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842C-2397-4BE7-854A-B04FFA7AE8E4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隶书"/>
              </a:rPr>
              <a:t>小学语文课件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2081160" y="2276640"/>
            <a:ext cx="4537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ffff"/>
                </a:solidFill>
                <a:latin typeface="隶书"/>
              </a:rPr>
              <a:t>古井</a:t>
            </a:r>
            <a:endParaRPr b="1" lang="en-US" sz="5400" spc="-1" strike="noStrike">
              <a:ln w="0">
                <a:noFill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228" name="矩形 7"/>
          <p:cNvSpPr/>
          <p:nvPr/>
        </p:nvSpPr>
        <p:spPr>
          <a:xfrm>
            <a:off x="171576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C54D-6ED2-44F4-A244-FD9E06C380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ff"/>
                </a:solidFill>
                <a:latin typeface="黑体"/>
                <a:ea typeface="黑体"/>
              </a:rPr>
              <a:t>五</a:t>
            </a:r>
            <a:r>
              <a:rPr b="0" lang="en-US" sz="7200" spc="-1" strike="noStrike">
                <a:solidFill>
                  <a:srgbClr val="0066ff"/>
                </a:solidFill>
                <a:latin typeface="黑体"/>
                <a:ea typeface="黑体"/>
              </a:rPr>
              <a:t>.  </a:t>
            </a:r>
            <a:r>
              <a:rPr b="0" lang="zh-CN" sz="7200" spc="-1" strike="noStrike">
                <a:solidFill>
                  <a:srgbClr val="0066ff"/>
                </a:solidFill>
                <a:latin typeface="黑体"/>
                <a:ea typeface="黑体"/>
              </a:rPr>
              <a:t>古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92000" y="2060640"/>
            <a:ext cx="237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首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字词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字词认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自然段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逻辑段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课后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下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468360" y="1268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++++++++++++++++++++++++++++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042920" y="1197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目标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14560" y="256536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１、学习本课生字新词，正确读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个生字，理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品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温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等词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２．归纳每自然段段意，试着分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7524720" y="6021360"/>
            <a:ext cx="129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"/>
          <p:cNvSpPr/>
          <p:nvPr/>
        </p:nvSpPr>
        <p:spPr>
          <a:xfrm>
            <a:off x="770040" y="6127920"/>
            <a:ext cx="54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2124000" y="54936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900000" y="162864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2097000" y="1989000"/>
            <a:ext cx="459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952640" y="1989000"/>
            <a:ext cx="458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952640" y="2060640"/>
            <a:ext cx="458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1619280" y="2565360"/>
            <a:ext cx="115236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95280" y="2565360"/>
            <a:ext cx="10796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059280" y="2565360"/>
            <a:ext cx="107928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4284720" y="2565360"/>
            <a:ext cx="14414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|u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6012000" y="2565360"/>
            <a:ext cx="93636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7164360" y="2565360"/>
            <a:ext cx="1440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ó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0" y="4724280"/>
            <a:ext cx="1297080" cy="27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歉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1403280" y="4724280"/>
            <a:ext cx="151308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ǒ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桶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2916360" y="4724280"/>
            <a:ext cx="165708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ā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4427640" y="4724280"/>
            <a:ext cx="115236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ǎ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7451640" y="4724280"/>
            <a:ext cx="100800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6012000" y="4724280"/>
            <a:ext cx="14414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395280" y="4437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324000" y="659772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2"/>
          <p:cNvSpPr/>
          <p:nvPr/>
        </p:nvSpPr>
        <p:spPr>
          <a:xfrm>
            <a:off x="395280" y="2573280"/>
            <a:ext cx="10796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1619280" y="2573280"/>
            <a:ext cx="115236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3059280" y="2573280"/>
            <a:ext cx="107928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6"/>
          <p:cNvSpPr/>
          <p:nvPr/>
        </p:nvSpPr>
        <p:spPr>
          <a:xfrm>
            <a:off x="4284720" y="2573280"/>
            <a:ext cx="14414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|u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7"/>
          <p:cNvSpPr/>
          <p:nvPr/>
        </p:nvSpPr>
        <p:spPr>
          <a:xfrm>
            <a:off x="6012000" y="2573280"/>
            <a:ext cx="93636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8"/>
          <p:cNvSpPr/>
          <p:nvPr/>
        </p:nvSpPr>
        <p:spPr>
          <a:xfrm>
            <a:off x="7164360" y="2585880"/>
            <a:ext cx="1440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ó</a:t>
            </a: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9"/>
          <p:cNvSpPr/>
          <p:nvPr/>
        </p:nvSpPr>
        <p:spPr>
          <a:xfrm>
            <a:off x="-36360" y="4724280"/>
            <a:ext cx="1296720" cy="27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à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歉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0"/>
          <p:cNvSpPr/>
          <p:nvPr/>
        </p:nvSpPr>
        <p:spPr>
          <a:xfrm>
            <a:off x="1403280" y="4734000"/>
            <a:ext cx="151308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ǒ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桶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1"/>
          <p:cNvSpPr/>
          <p:nvPr/>
        </p:nvSpPr>
        <p:spPr>
          <a:xfrm>
            <a:off x="2916360" y="4734000"/>
            <a:ext cx="165708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gā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2"/>
          <p:cNvSpPr/>
          <p:nvPr/>
        </p:nvSpPr>
        <p:spPr>
          <a:xfrm>
            <a:off x="4427640" y="4734000"/>
            <a:ext cx="115092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ǎ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3"/>
          <p:cNvSpPr/>
          <p:nvPr/>
        </p:nvSpPr>
        <p:spPr>
          <a:xfrm>
            <a:off x="6012000" y="4734000"/>
            <a:ext cx="14414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4"/>
          <p:cNvSpPr/>
          <p:nvPr/>
        </p:nvSpPr>
        <p:spPr>
          <a:xfrm>
            <a:off x="7451640" y="4734000"/>
            <a:ext cx="100800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6" descr="BD21332_"/>
          <p:cNvPicPr/>
          <p:nvPr/>
        </p:nvPicPr>
        <p:blipFill>
          <a:blip r:embed="rId2"/>
          <a:stretch/>
        </p:blipFill>
        <p:spPr>
          <a:xfrm>
            <a:off x="395280" y="1700280"/>
            <a:ext cx="8353440" cy="6490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47"/>
          <p:cNvSpPr txBox="1"/>
          <p:nvPr/>
        </p:nvSpPr>
        <p:spPr>
          <a:xfrm>
            <a:off x="1979640" y="549360"/>
            <a:ext cx="5591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生字、生词学习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24000" y="692280"/>
            <a:ext cx="129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-108000" y="227628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ǔ      rǔ         mù     |uò     yì    chó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iàn    tǒng    gāng    ǎn     táo     y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0" y="2911320"/>
            <a:ext cx="9144000" cy="56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哺 乳   暮  络 绎  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歉  桶  缸  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  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6"/>
          <p:cNvSpPr txBox="1"/>
          <p:nvPr/>
        </p:nvSpPr>
        <p:spPr>
          <a:xfrm>
            <a:off x="1547640" y="274680"/>
            <a:ext cx="561672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生字、生词学习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684360" y="1916280"/>
            <a:ext cx="107928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1692360" y="1916280"/>
            <a:ext cx="115236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421080" y="1916280"/>
            <a:ext cx="10796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4572000" y="1916280"/>
            <a:ext cx="14414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5867280" y="1916280"/>
            <a:ext cx="93672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6948360" y="1866960"/>
            <a:ext cx="144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66560" y="4365720"/>
            <a:ext cx="129708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歉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1835280" y="4373640"/>
            <a:ext cx="151272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桶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3201840" y="4365720"/>
            <a:ext cx="16574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5867280" y="4365720"/>
            <a:ext cx="14414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4573440" y="4365720"/>
            <a:ext cx="115092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7451640" y="4365720"/>
            <a:ext cx="100800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250920" y="1268280"/>
            <a:ext cx="129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5"/>
          <p:cNvSpPr/>
          <p:nvPr/>
        </p:nvSpPr>
        <p:spPr>
          <a:xfrm>
            <a:off x="900000" y="378936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6"/>
          <p:cNvSpPr/>
          <p:nvPr/>
        </p:nvSpPr>
        <p:spPr>
          <a:xfrm>
            <a:off x="900000" y="6237360"/>
            <a:ext cx="70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7"/>
          <p:cNvSpPr/>
          <p:nvPr/>
        </p:nvSpPr>
        <p:spPr>
          <a:xfrm>
            <a:off x="4572000" y="3789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开火车认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品格      温情       报酬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歉意            年过六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7308720" y="5950080"/>
            <a:ext cx="1295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全文分为六个自然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42920" y="191628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39640" y="2060640"/>
            <a:ext cx="13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908000" y="206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古井在村东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用清凉可口的水养了人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468360" y="2565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古井挑水的人很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71040" y="30686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4452120" y="3095640"/>
            <a:ext cx="631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村里人常年帮助一对有困难的老人挑水，从来不要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611280" y="4005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468360" y="357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2050920" y="378936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2684160" y="3633840"/>
            <a:ext cx="2631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两口深感歉意，不想让大家白出力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468360" y="40766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五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乡亲们总是用古井为人们提生命的泉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却从不要报酬的例子劝两位老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468360" y="4724280"/>
            <a:ext cx="84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六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古井给我的启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7524720" y="6021360"/>
            <a:ext cx="129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课文可以分为几个意义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古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1692360" y="2492280"/>
            <a:ext cx="215640" cy="3168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2050920" y="227664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050920" y="3213000"/>
            <a:ext cx="58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古井挑水的人很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2124000" y="45086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8"/>
          <p:cNvSpPr/>
          <p:nvPr/>
        </p:nvSpPr>
        <p:spPr>
          <a:xfrm>
            <a:off x="2987640" y="4005360"/>
            <a:ext cx="216000" cy="23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840 h 2340000"/>
              <a:gd name="textAreaBottom" fmla="*/ 2279160 h 23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3276720" y="393372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4284720" y="2276640"/>
            <a:ext cx="48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4284720" y="2276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古井在村东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用清凉可口的水养了人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859280" y="3933720"/>
            <a:ext cx="428472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村里人常年帮助一对有困难的老人挑水，从来不要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419640" y="458136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076720" y="4508640"/>
            <a:ext cx="374328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两口深感歉意，不想让大家白出力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3419640" y="5229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五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500364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乡亲们总是用古井为人们提供生命的泉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却从不要报酬的例子劝两们老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419640" y="616572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六自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5219640" y="6165720"/>
            <a:ext cx="36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古井给我的启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7451640" y="5950080"/>
            <a:ext cx="1295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课堂总结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通过古井为乡亲们提供水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和人们对两位老人的帮助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歌颂了人们之间的亲情和优秀品质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表达了我对古井的热爱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7524720" y="6021360"/>
            <a:ext cx="129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7:06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6:58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